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69AD-87B9-4852-97FA-91A8C7F052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astal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nd Dun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astal Environ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and Dune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al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latitudes. Accumulation of windblown sediment needed in backshore z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- around 7-8% of coast has vegetated dunes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vegetation, low rainfall, strong winds and abundant s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al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latitudes. Accumulation of windblown sediment needed in backshore z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- around 7-8% of coast has vegetated dunes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vegetation, low rainfall, strong winds and abundant s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blown downwind. Transfers energy through other g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% of sand moved by    this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r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roduct of sal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d along sand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d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blown downwind. Transfers energy through other g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% of sand moved by    this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r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roduct of sal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d along sand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d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bstacle forces deposition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 coalesce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s 1st, 2nd, 3rd dune ridges etc. Growth of 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bstacle forces deposition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 coalesce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s 1st, 2nd, 3rd dune ridges etc. Growth of 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rther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y Dunes eg. Stud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t Dunes eg. Ynyslas, se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ndshore Dunes eg. Merthyr Maw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ss or Forland Dunes eg. Tentsm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hore Island Dunes eg. Scott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bbc.co.uk/wales/mid/fun/wallpaper/pages/ynyslas_sand_dunes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nyslas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rther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y Dunes eg. Stud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t Dunes eg. Ynyslas, se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ndshore Dunes eg. Merthyr Maw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ss or Forland Dunes eg. Tentsm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hore Island Dunes eg. Scott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bbc.co.uk/wales/mid/fun/wallpaper/pages/ynyslas_sand_dunes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nyslas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2377-77DD-4F2E-9C5F-952F3DC8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2F81-0AE0-4001-89AA-2220CE63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D99A-F640-4794-A1E1-1FFD7DFA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5D01-72BD-4179-A5DC-EB4DA615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DA7B-FE48-403C-9885-547B7362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6DE2-9010-41A1-8B89-C936EE16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43F4-0924-49CD-8830-27E0ABD6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9139-EBD1-493E-9CA4-98BC65F4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EB56-7154-4595-B16D-3B1D72C0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C1E2-D9D0-46D3-AF4E-1428A5CD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3D64-985E-4001-8EBB-DCDC4818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BE42-C97A-4132-85FE-B4724EF0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195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4D3A-7D67-4C6C-A6F9-8D59E454F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astal Environ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Sand Dun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Місце для нижнього колонтитула 4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омера слайда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8DA4-52B1-4A74-91EC-80BD5F23D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astal Du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Temperate latitudes. Accumulation of windblown sediment needed in backshore z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58800" y="3581280"/>
            <a:ext cx="787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285480"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UK - around 7-8% of coast has vegetated dunes.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04800" y="4800600"/>
            <a:ext cx="800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Needs vegetation, low rainfall, strong winds and abundant s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нижнього колонтитула 5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омера слайда 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84BB-5620-4A71-8549-E9FD83591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and 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al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and blown downwind. Transfers energy through other gr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75% of sand moved by    this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urface Cr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y product of sal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ushed along sand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Must be 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4821120" y="1752480"/>
          <a:ext cx="432288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1120" y="1752480"/>
                    <a:ext cx="432288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Місце для нижнього колонтитула 5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омера слайда 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E565-83AA-4E8A-AB38-F9EB0ED6E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3809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Embryo d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obstacle forces deposition of s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8"/>
          <p:cNvSpPr/>
          <p:nvPr/>
        </p:nvSpPr>
        <p:spPr>
          <a:xfrm>
            <a:off x="4648320" y="4030560"/>
            <a:ext cx="4306680" cy="1354320"/>
          </a:xfrm>
          <a:custGeom>
            <a:avLst/>
            <a:gdLst/>
            <a:ahLst/>
            <a:rect l="l" t="t" r="r" b="b"/>
            <a:pathLst>
              <a:path w="2713" h="853">
                <a:moveTo>
                  <a:pt x="0" y="853"/>
                </a:moveTo>
                <a:cubicBezTo>
                  <a:pt x="168" y="785"/>
                  <a:pt x="336" y="717"/>
                  <a:pt x="432" y="661"/>
                </a:cubicBezTo>
                <a:cubicBezTo>
                  <a:pt x="528" y="605"/>
                  <a:pt x="528" y="533"/>
                  <a:pt x="576" y="517"/>
                </a:cubicBezTo>
                <a:cubicBezTo>
                  <a:pt x="624" y="501"/>
                  <a:pt x="672" y="573"/>
                  <a:pt x="720" y="565"/>
                </a:cubicBezTo>
                <a:cubicBezTo>
                  <a:pt x="768" y="557"/>
                  <a:pt x="816" y="477"/>
                  <a:pt x="864" y="469"/>
                </a:cubicBezTo>
                <a:cubicBezTo>
                  <a:pt x="912" y="461"/>
                  <a:pt x="960" y="541"/>
                  <a:pt x="1008" y="517"/>
                </a:cubicBezTo>
                <a:cubicBezTo>
                  <a:pt x="1056" y="493"/>
                  <a:pt x="1096" y="325"/>
                  <a:pt x="1152" y="325"/>
                </a:cubicBezTo>
                <a:cubicBezTo>
                  <a:pt x="1208" y="325"/>
                  <a:pt x="1264" y="557"/>
                  <a:pt x="1344" y="517"/>
                </a:cubicBezTo>
                <a:cubicBezTo>
                  <a:pt x="1424" y="477"/>
                  <a:pt x="1566" y="170"/>
                  <a:pt x="1632" y="85"/>
                </a:cubicBezTo>
                <a:cubicBezTo>
                  <a:pt x="1698" y="0"/>
                  <a:pt x="1707" y="5"/>
                  <a:pt x="1739" y="5"/>
                </a:cubicBezTo>
                <a:cubicBezTo>
                  <a:pt x="1771" y="5"/>
                  <a:pt x="1786" y="8"/>
                  <a:pt x="1824" y="85"/>
                </a:cubicBezTo>
                <a:cubicBezTo>
                  <a:pt x="1862" y="162"/>
                  <a:pt x="1920" y="413"/>
                  <a:pt x="1968" y="469"/>
                </a:cubicBezTo>
                <a:cubicBezTo>
                  <a:pt x="2016" y="525"/>
                  <a:pt x="2064" y="485"/>
                  <a:pt x="2112" y="421"/>
                </a:cubicBezTo>
                <a:cubicBezTo>
                  <a:pt x="2160" y="357"/>
                  <a:pt x="2200" y="141"/>
                  <a:pt x="2256" y="85"/>
                </a:cubicBezTo>
                <a:cubicBezTo>
                  <a:pt x="2312" y="29"/>
                  <a:pt x="2392" y="21"/>
                  <a:pt x="2448" y="85"/>
                </a:cubicBezTo>
                <a:cubicBezTo>
                  <a:pt x="2504" y="149"/>
                  <a:pt x="2548" y="415"/>
                  <a:pt x="2592" y="469"/>
                </a:cubicBezTo>
                <a:cubicBezTo>
                  <a:pt x="2636" y="523"/>
                  <a:pt x="2688" y="425"/>
                  <a:pt x="2713" y="4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472428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4648320" y="38862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3"/>
          <p:cNvSpPr/>
          <p:nvPr/>
        </p:nvSpPr>
        <p:spPr>
          <a:xfrm flipV="1">
            <a:off x="60958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4"/>
          <p:cNvSpPr/>
          <p:nvPr/>
        </p:nvSpPr>
        <p:spPr>
          <a:xfrm flipV="1">
            <a:off x="68580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5"/>
          <p:cNvSpPr/>
          <p:nvPr/>
        </p:nvSpPr>
        <p:spPr>
          <a:xfrm flipV="1">
            <a:off x="86868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609588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73152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4571640" y="5105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9"/>
          <p:cNvSpPr/>
          <p:nvPr/>
        </p:nvSpPr>
        <p:spPr>
          <a:xfrm flipV="1">
            <a:off x="46483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20"/>
          <p:cNvSpPr/>
          <p:nvPr/>
        </p:nvSpPr>
        <p:spPr>
          <a:xfrm>
            <a:off x="518148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21"/>
          <p:cNvSpPr/>
          <p:nvPr/>
        </p:nvSpPr>
        <p:spPr>
          <a:xfrm>
            <a:off x="647712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2"/>
          <p:cNvSpPr/>
          <p:nvPr/>
        </p:nvSpPr>
        <p:spPr>
          <a:xfrm>
            <a:off x="777240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685800" y="3124080"/>
            <a:ext cx="38098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Fored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embryo dunes coalesce later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6"/>
          <p:cNvSpPr/>
          <p:nvPr/>
        </p:nvSpPr>
        <p:spPr>
          <a:xfrm>
            <a:off x="762120" y="4572000"/>
            <a:ext cx="373356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Grey d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ncludes 1st, 2nd, 3rd dune ridges etc. Growth of fored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Місце для нижнього колонтитула 4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омера слайда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32EE-4A6D-42F5-BA8F-CD8CC8A43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Object 3"/>
          <p:cNvGraphicFramePr/>
          <p:nvPr/>
        </p:nvGraphicFramePr>
        <p:xfrm>
          <a:off x="704880" y="2028960"/>
          <a:ext cx="7761240" cy="45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028960"/>
                    <a:ext cx="776124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Місце для нижнього колонтитула 5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омера слайда 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C317-FDE0-40FE-B00D-5D13BCCB4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rther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Bay Dunes eg. Stud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Spit Dunes eg. Ynyslas, se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Hindshore Dunes eg. Merthyr Maw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Ness or Forland Dunes eg. Tentsmu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Offshore Island Dunes eg. Scott 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5"/>
          <p:cNvGraphicFramePr/>
          <p:nvPr/>
        </p:nvGraphicFramePr>
        <p:xfrm>
          <a:off x="4724280" y="3352680"/>
          <a:ext cx="2810160" cy="211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352680"/>
                    <a:ext cx="2810160" cy="21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6"/>
          <p:cNvSpPr/>
          <p:nvPr/>
        </p:nvSpPr>
        <p:spPr>
          <a:xfrm>
            <a:off x="4648320" y="5486400"/>
            <a:ext cx="35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bbc.co.uk/wales/mid/fun/wallpaper/pages/ynyslas_sand_dunes.s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029200" y="30481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nyslas Du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8001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 flipH="1">
            <a:off x="6476760" y="3962520"/>
            <a:ext cx="1523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9:34:56Z</dcterms:created>
  <dc:creator>Lindsey Wood</dc:creator>
  <dc:description/>
  <dc:language>en-US</dc:language>
  <cp:lastModifiedBy>RomaK</cp:lastModifiedBy>
  <dcterms:modified xsi:type="dcterms:W3CDTF">2015-09-04T09:41:05Z</dcterms:modified>
  <cp:revision>39</cp:revision>
  <dc:subject/>
  <dc:title>Coastal Environments</dc:title>
</cp:coreProperties>
</file>