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1999-4774-458E-A6AC-E7E8B4F56C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d D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nd Dune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- around 7-8% of coast has vegetated dunes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vegetation, low rainfall, strong winds and abundant s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- around 7-8% of coast has vegetated dunes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vegetation, low rainfall, strong winds and abundant s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blown downwind. Transfers energy through other g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sand moved by    this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r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roduct of sal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d along sand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d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blown downwind. Transfers energy through other g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sand moved by    this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r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roduct of sal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d along sand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d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bstacle forces deposition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 coalesc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s 1st, 2nd, 3rd dune ridges etc. Growth of 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bstacle forces deposition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 coalesc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s 1st, 2nd, 3rd dune ridges etc. Growth of 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y Dunes eg. Stu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t Dunes eg. Ynyslas, se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ndshore Dunes eg. Merthyr Ma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ss or Forland Dunes eg. Tentsm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hore Island Dunes eg. Scott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nyslas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y Dunes eg. Stu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t Dunes eg. Ynyslas, se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ndshore Dunes eg. Merthyr Ma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ss or Forland Dunes eg. Tentsm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hore Island Dunes eg. Scott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nyslas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094E-58A4-4B9E-A604-496AA1AB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C95B-2493-4A9C-9353-0B114B26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918-C279-41FA-9154-9AFA68E3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E4D-E8D3-4BF0-B99D-7987ECFD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14C-098A-449C-BCC8-2DC849ED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5781-F673-4D07-B7A3-36D0EAD3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BD9B-FA56-4DE9-BCB4-9D545E8E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967-496D-40B5-81D7-EE7F7452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271C-4719-48AA-B888-F7942EF8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E7B-781D-4D24-ABE2-21C09EE6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FB34-12F3-4CB2-BFB1-E5A45D5F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1B7C-FD61-4135-B51D-361FF232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95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0B56-96DF-4648-A5A0-AE9986F12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Sand Dun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Місце для нижнього колонтитула 4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омера слайда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3251-5BB1-4131-BBAD-E35CF89BC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58800" y="3581280"/>
            <a:ext cx="787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UK - around 7-8% of coast has vegetated dunes.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04800" y="4800600"/>
            <a:ext cx="800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Needs vegetation, low rainfall, strong winds and abundant s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DD03-A22C-41BF-8A50-9BB5D46AE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al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and blown downwind. Transfers energy through other gr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75% of sand moved by    this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urface Cr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y product of sal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ushed along sand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Must be 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4821120" y="1752480"/>
          <a:ext cx="432288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1120" y="1752480"/>
                    <a:ext cx="43228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D8B9-FFA5-4668-83D8-F6B405EF8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mbryo 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obstacle forces deposition of 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8"/>
          <p:cNvSpPr/>
          <p:nvPr/>
        </p:nvSpPr>
        <p:spPr>
          <a:xfrm>
            <a:off x="4648320" y="4030560"/>
            <a:ext cx="4306680" cy="1354320"/>
          </a:xfrm>
          <a:custGeom>
            <a:avLst/>
            <a:gdLst/>
            <a:ahLst/>
            <a:rect l="l" t="t" r="r" b="b"/>
            <a:pathLst>
              <a:path w="2713" h="853">
                <a:moveTo>
                  <a:pt x="0" y="853"/>
                </a:moveTo>
                <a:cubicBezTo>
                  <a:pt x="168" y="785"/>
                  <a:pt x="336" y="717"/>
                  <a:pt x="432" y="661"/>
                </a:cubicBezTo>
                <a:cubicBezTo>
                  <a:pt x="528" y="605"/>
                  <a:pt x="528" y="533"/>
                  <a:pt x="576" y="517"/>
                </a:cubicBezTo>
                <a:cubicBezTo>
                  <a:pt x="624" y="501"/>
                  <a:pt x="672" y="573"/>
                  <a:pt x="720" y="565"/>
                </a:cubicBezTo>
                <a:cubicBezTo>
                  <a:pt x="768" y="557"/>
                  <a:pt x="816" y="477"/>
                  <a:pt x="864" y="469"/>
                </a:cubicBezTo>
                <a:cubicBezTo>
                  <a:pt x="912" y="461"/>
                  <a:pt x="960" y="541"/>
                  <a:pt x="1008" y="517"/>
                </a:cubicBezTo>
                <a:cubicBezTo>
                  <a:pt x="1056" y="493"/>
                  <a:pt x="1096" y="325"/>
                  <a:pt x="1152" y="325"/>
                </a:cubicBezTo>
                <a:cubicBezTo>
                  <a:pt x="1208" y="325"/>
                  <a:pt x="1264" y="557"/>
                  <a:pt x="1344" y="517"/>
                </a:cubicBezTo>
                <a:cubicBezTo>
                  <a:pt x="1424" y="477"/>
                  <a:pt x="1566" y="170"/>
                  <a:pt x="1632" y="85"/>
                </a:cubicBezTo>
                <a:cubicBezTo>
                  <a:pt x="1698" y="0"/>
                  <a:pt x="1707" y="5"/>
                  <a:pt x="1739" y="5"/>
                </a:cubicBezTo>
                <a:cubicBezTo>
                  <a:pt x="1771" y="5"/>
                  <a:pt x="1786" y="8"/>
                  <a:pt x="1824" y="85"/>
                </a:cubicBezTo>
                <a:cubicBezTo>
                  <a:pt x="1862" y="162"/>
                  <a:pt x="1920" y="413"/>
                  <a:pt x="1968" y="469"/>
                </a:cubicBezTo>
                <a:cubicBezTo>
                  <a:pt x="2016" y="525"/>
                  <a:pt x="2064" y="485"/>
                  <a:pt x="2112" y="421"/>
                </a:cubicBezTo>
                <a:cubicBezTo>
                  <a:pt x="2160" y="357"/>
                  <a:pt x="2200" y="141"/>
                  <a:pt x="2256" y="85"/>
                </a:cubicBezTo>
                <a:cubicBezTo>
                  <a:pt x="2312" y="29"/>
                  <a:pt x="2392" y="21"/>
                  <a:pt x="2448" y="85"/>
                </a:cubicBezTo>
                <a:cubicBezTo>
                  <a:pt x="2504" y="149"/>
                  <a:pt x="2548" y="415"/>
                  <a:pt x="2592" y="469"/>
                </a:cubicBezTo>
                <a:cubicBezTo>
                  <a:pt x="2636" y="523"/>
                  <a:pt x="2688" y="425"/>
                  <a:pt x="2713" y="4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72428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4648320" y="38862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 flipV="1">
            <a:off x="60958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6858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86868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60958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7315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4571640" y="5105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 flipV="1">
            <a:off x="46483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518148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647712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>
            <a:off x="777240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685800" y="3124080"/>
            <a:ext cx="38098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Fore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embryo dunes coalesce later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762120" y="4572000"/>
            <a:ext cx="373356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Grey 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ncludes 1st, 2nd, 3rd dune ridges etc. Growth of fored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ижнього колонтитула 4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E046-2F7A-4D53-A6C8-6AA40690B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704880" y="2028960"/>
          <a:ext cx="7761240" cy="45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028960"/>
                    <a:ext cx="776124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CB9C-4B48-4CF9-AF73-9577576CD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ay Dunes eg. Stud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Spit Dunes eg. Ynyslas, se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Hindshore Dunes eg. Merthyr Maw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Ness or Forland Dunes eg. Tentsmu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Offshore Island Dunes eg. Scott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4724280" y="3352680"/>
          <a:ext cx="2810160" cy="211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352680"/>
                    <a:ext cx="281016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6"/>
          <p:cNvSpPr/>
          <p:nvPr/>
        </p:nvSpPr>
        <p:spPr>
          <a:xfrm>
            <a:off x="4648320" y="548640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029200" y="304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nyslas D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 flipH="1">
            <a:off x="6476760" y="3962520"/>
            <a:ext cx="1523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9:34:56Z</dcterms:created>
  <dc:creator>Lindsey Wood</dc:creator>
  <dc:description/>
  <dc:language>en-US</dc:language>
  <cp:lastModifiedBy>RomaK</cp:lastModifiedBy>
  <dcterms:modified xsi:type="dcterms:W3CDTF">2015-09-04T09:41:05Z</dcterms:modified>
  <cp:revision>39</cp:revision>
  <dc:subject/>
  <dc:title>Coastal Environments</dc:title>
</cp:coreProperties>
</file>