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D01C4-CE97-4AAD-90F7-3E42D6E7F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 13:  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 13:  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-latitude dese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st in rain shado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dle-latitude dese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ist in rain shad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Basin and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n and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ntainous desert landsc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Basin and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n and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ainous desert landsc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Basin and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n and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ntainous desert landsc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Basin and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n and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ainous desert landsc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 erosion: Important in arid enviro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Types of sand du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 dune shape depends 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t or hil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san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s steady or intermitt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 direction consta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getation pres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 erosion: Important in arid 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 Types of sand dun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d dune shape depends 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t or hill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uch sa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s steady or intermitt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 direction consta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getation pres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and dune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and dune 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 pa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sert pa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’t survive the deser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live her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ima Ind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don’t survive the deser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live her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ima Ind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ed b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aded b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’s dry regions:  30% of all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climate types of dry reg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  (ar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pe (semi-arid, surrounds deser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how much rain do we get in Tempe every ye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dry regions:  30% of all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climate types of dry reg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  (ari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pe (semi-arid, surrounds deser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much rain do we get in Tempe every yea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deser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ant facto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 distribution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f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p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ship betw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weatherchannel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uses deser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facto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distribu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n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onship betw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weatherchannel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-latitude dese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ic of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ic of Caprico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recall: “latitude” = east-west line on the glob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t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es to 15-2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pressure be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ontrast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-latitude dese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ic of Canc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ic of Caprico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ecall: “latitude” = east-west line on the glob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a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 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es to 15-20 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pressure be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ontras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010A-9B91-4110-AABE-EE3A5809B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05F4-82C3-493B-8080-26DDB3D43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1A8F-FB40-4E3E-A155-081A8C4F6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F54B-CBCA-401F-8F67-E8129CF89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0AE4-1ECA-427D-9138-8FC769B30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949C-C61C-44D1-B99B-720FE361E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00BD-051B-4C9A-B34A-476B0F217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384A-0B1F-42FD-9333-9A3838DA3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873C-D862-49FA-97C2-319EBEF2F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122C-E6F9-4001-8DB6-EAC9FE35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F4A5-2B9D-45CA-B2C1-AF5C0BC9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6A6D-9DDA-42BC-9AAC-7E84004A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85E8B-F431-40AF-B1E4-1B8A24A051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weatherchannel.com/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078" descr="Kresan 3e-14-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074"/>
          <p:cNvSpPr/>
          <p:nvPr/>
        </p:nvSpPr>
        <p:spPr>
          <a:xfrm>
            <a:off x="1981080" y="76320"/>
            <a:ext cx="5257800" cy="6426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  <a:effectLst>
            <a:outerShdw dist="12600" dir="54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 13: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Deserts &amp; Wi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075"/>
          <p:cNvSpPr/>
          <p:nvPr/>
        </p:nvSpPr>
        <p:spPr>
          <a:xfrm>
            <a:off x="686520" y="152280"/>
            <a:ext cx="10159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da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030" descr="figure 14-01"/>
          <p:cNvPicPr/>
          <p:nvPr/>
        </p:nvPicPr>
        <p:blipFill>
          <a:blip r:embed="rId1"/>
          <a:stretch/>
        </p:blipFill>
        <p:spPr>
          <a:xfrm>
            <a:off x="1727280" y="711360"/>
            <a:ext cx="5689440" cy="54352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031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ffffa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32"/>
          <p:cNvSpPr/>
          <p:nvPr/>
        </p:nvSpPr>
        <p:spPr>
          <a:xfrm>
            <a:off x="2666880" y="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1) Deserts: where &amp; 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33"/>
          <p:cNvSpPr/>
          <p:nvPr/>
        </p:nvSpPr>
        <p:spPr>
          <a:xfrm>
            <a:off x="155160" y="7632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ffb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02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a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27"/>
          <p:cNvSpPr/>
          <p:nvPr/>
        </p:nvSpPr>
        <p:spPr>
          <a:xfrm>
            <a:off x="2438280" y="2286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1) Deserts: where &amp; 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28"/>
          <p:cNvSpPr/>
          <p:nvPr/>
        </p:nvSpPr>
        <p:spPr>
          <a:xfrm>
            <a:off x="155160" y="22860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29"/>
          <p:cNvSpPr/>
          <p:nvPr/>
        </p:nvSpPr>
        <p:spPr>
          <a:xfrm>
            <a:off x="598320" y="1208160"/>
            <a:ext cx="405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Middle-latitude des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30"/>
          <p:cNvSpPr/>
          <p:nvPr/>
        </p:nvSpPr>
        <p:spPr>
          <a:xfrm>
            <a:off x="1859400" y="1905120"/>
            <a:ext cx="36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33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ist in rain shado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037" descr="plummer rain shadow"/>
          <p:cNvPicPr/>
          <p:nvPr/>
        </p:nvPicPr>
        <p:blipFill>
          <a:blip r:embed="rId1"/>
          <a:stretch/>
        </p:blipFill>
        <p:spPr>
          <a:xfrm>
            <a:off x="1692360" y="2357280"/>
            <a:ext cx="638496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2a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00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2819520" y="1522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Verdana"/>
              </a:rPr>
              <a:t>2) Basin and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55160" y="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461520" y="1143000"/>
            <a:ext cx="294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Basin and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1633320" y="1752480"/>
            <a:ext cx="49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33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untainous desert landsc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4" descr="plummer basin &amp; range origin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371600" y="2362320"/>
            <a:ext cx="598320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2a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098"/>
          <p:cNvSpPr/>
          <p:nvPr/>
        </p:nvSpPr>
        <p:spPr>
          <a:xfrm>
            <a:off x="0" y="0"/>
            <a:ext cx="5562720" cy="9144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00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099"/>
          <p:cNvSpPr/>
          <p:nvPr/>
        </p:nvSpPr>
        <p:spPr>
          <a:xfrm>
            <a:off x="304920" y="3049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Verdana"/>
              </a:rPr>
              <a:t>2) Basin and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100"/>
          <p:cNvSpPr/>
          <p:nvPr/>
        </p:nvSpPr>
        <p:spPr>
          <a:xfrm>
            <a:off x="155160" y="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101"/>
          <p:cNvSpPr/>
          <p:nvPr/>
        </p:nvSpPr>
        <p:spPr>
          <a:xfrm>
            <a:off x="461520" y="1143000"/>
            <a:ext cx="294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Basin and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102"/>
          <p:cNvSpPr/>
          <p:nvPr/>
        </p:nvSpPr>
        <p:spPr>
          <a:xfrm>
            <a:off x="490320" y="1981080"/>
            <a:ext cx="49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33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untainous desert landsc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104" descr="plummer basin &amp; range landforms"/>
          <p:cNvPicPr/>
          <p:nvPr/>
        </p:nvPicPr>
        <p:blipFill>
          <a:blip r:embed="rId1"/>
          <a:stretch/>
        </p:blipFill>
        <p:spPr>
          <a:xfrm>
            <a:off x="5437080" y="0"/>
            <a:ext cx="3706920" cy="72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fa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2819520" y="1522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3) Wind erosion/ depos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231480" y="31896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533520" y="1143000"/>
            <a:ext cx="641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Wind eros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mportant in arid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533880" y="2133720"/>
            <a:ext cx="483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xample:  Types of sand du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1905480" y="3048120"/>
            <a:ext cx="4718880" cy="38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nd dune shape depends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t or hil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sa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s steady or intermitt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 direction consta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getation pres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fa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055" descr="untitled1"/>
          <p:cNvPicPr/>
          <p:nvPr/>
        </p:nvPicPr>
        <p:blipFill>
          <a:blip r:embed="rId1"/>
          <a:stretch/>
        </p:blipFill>
        <p:spPr>
          <a:xfrm>
            <a:off x="0" y="0"/>
            <a:ext cx="9144000" cy="68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fa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2819520" y="1522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3) Wind erosion/ depos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231480" y="31896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plummer sand dune form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133720" y="2209680"/>
            <a:ext cx="5029200" cy="39592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989280" y="1523880"/>
            <a:ext cx="25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nd dune 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fa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2819520" y="1522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3) Wind erosion/ depos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231480" y="31896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plummer mud desert pavement"/>
          <p:cNvPicPr/>
          <p:nvPr/>
        </p:nvPicPr>
        <p:blipFill>
          <a:blip r:embed="rId1"/>
          <a:stretch/>
        </p:blipFill>
        <p:spPr>
          <a:xfrm>
            <a:off x="1828800" y="2286000"/>
            <a:ext cx="5486400" cy="35449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6"/>
          <p:cNvSpPr/>
          <p:nvPr/>
        </p:nvSpPr>
        <p:spPr>
          <a:xfrm>
            <a:off x="1048680" y="153504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ert pa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7" descr="figure 14-08b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04920" y="1523880"/>
            <a:ext cx="8610480" cy="46324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8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2819520" y="1522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3) Wind erosion/ depos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231480" y="31896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fa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1" descr="untitled2"/>
          <p:cNvPicPr/>
          <p:nvPr/>
        </p:nvPicPr>
        <p:blipFill>
          <a:blip r:embed="rId1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030" descr="figure 14-21"/>
          <p:cNvPicPr/>
          <p:nvPr/>
        </p:nvPicPr>
        <p:blipFill>
          <a:blip r:embed="rId1"/>
          <a:stretch/>
        </p:blipFill>
        <p:spPr>
          <a:xfrm>
            <a:off x="1600200" y="150840"/>
            <a:ext cx="5791320" cy="43448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31"/>
          <p:cNvSpPr/>
          <p:nvPr/>
        </p:nvSpPr>
        <p:spPr>
          <a:xfrm>
            <a:off x="1981800" y="4572000"/>
            <a:ext cx="59994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don’t survive the deser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live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re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Pima Indi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fa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2819520" y="1522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3) Wind erosion/ depos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231480" y="31896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chernicoff graded bedding"/>
          <p:cNvPicPr/>
          <p:nvPr/>
        </p:nvPicPr>
        <p:blipFill>
          <a:blip r:embed="rId1"/>
          <a:stretch/>
        </p:blipFill>
        <p:spPr>
          <a:xfrm>
            <a:off x="3657600" y="990720"/>
            <a:ext cx="5160960" cy="56275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1293480" y="1981080"/>
            <a:ext cx="165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ed b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026" descr="az_rep_dust_storm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409680" y="685800"/>
            <a:ext cx="8505720" cy="5773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27" descr="az_rep_dust_storm_caption"/>
          <p:cNvPicPr/>
          <p:nvPr/>
        </p:nvPicPr>
        <p:blipFill>
          <a:blip r:embed="rId2"/>
          <a:stretch/>
        </p:blipFill>
        <p:spPr>
          <a:xfrm>
            <a:off x="295200" y="119160"/>
            <a:ext cx="5191200" cy="461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28" descr="az_rep_dust_storm_date"/>
          <p:cNvPicPr/>
          <p:nvPr/>
        </p:nvPicPr>
        <p:blipFill>
          <a:blip r:embed="rId3"/>
          <a:stretch/>
        </p:blipFill>
        <p:spPr>
          <a:xfrm>
            <a:off x="7391520" y="228600"/>
            <a:ext cx="10540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ffb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a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2438280" y="2286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1) Deserts: where &amp; 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155160" y="22860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380160" y="1219320"/>
            <a:ext cx="581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Earth’s dry reg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30% of all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462960" y="2057400"/>
            <a:ext cx="5968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climate types of dry reg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ert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r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p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emi-arid, surrounds deser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756000" y="4724280"/>
            <a:ext cx="735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ow much rain do we get in Tempe every ye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ffb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a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2438280" y="2286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1) Deserts: where &amp; 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155160" y="22860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156960" y="1143000"/>
            <a:ext cx="393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What causes deser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388440" y="2286000"/>
            <a:ext cx="224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r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209880" y="176364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mportant facto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300960" y="2209680"/>
            <a:ext cx="32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obal distribution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2"/>
          <p:cNvSpPr/>
          <p:nvPr/>
        </p:nvSpPr>
        <p:spPr>
          <a:xfrm>
            <a:off x="312120" y="4162320"/>
            <a:ext cx="222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in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a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304920" y="4038480"/>
            <a:ext cx="33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tionship betw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5">
            <a:hlinkClick r:id="rId1"/>
          </p:cNvPr>
          <p:cNvSpPr/>
          <p:nvPr/>
        </p:nvSpPr>
        <p:spPr>
          <a:xfrm>
            <a:off x="4221720" y="6278400"/>
            <a:ext cx="49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weatherchannel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7" descr="us_wind_cur_600x405"/>
          <p:cNvPicPr/>
          <p:nvPr/>
        </p:nvPicPr>
        <p:blipFill>
          <a:blip r:embed="rId2"/>
          <a:stretch/>
        </p:blipFill>
        <p:spPr>
          <a:xfrm>
            <a:off x="4800600" y="914400"/>
            <a:ext cx="4038480" cy="2727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8" descr="curwx_600x405"/>
          <p:cNvPicPr/>
          <p:nvPr/>
        </p:nvPicPr>
        <p:blipFill>
          <a:blip r:embed="rId3"/>
          <a:stretch/>
        </p:blipFill>
        <p:spPr>
          <a:xfrm>
            <a:off x="4800600" y="3581280"/>
            <a:ext cx="411480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ce7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plummer mud cracked playa"/>
          <p:cNvPicPr/>
          <p:nvPr/>
        </p:nvPicPr>
        <p:blipFill>
          <a:blip r:embed="rId1"/>
          <a:stretch/>
        </p:blipFill>
        <p:spPr>
          <a:xfrm>
            <a:off x="2349360" y="685800"/>
            <a:ext cx="4443480" cy="60199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ffffa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2666880" y="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1) Deserts: where &amp; 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155160" y="7632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ffb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a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2438280" y="2286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1) Deserts: where &amp; 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155160" y="22860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598320" y="1208160"/>
            <a:ext cx="363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Low-latitude des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1327320" y="2286000"/>
            <a:ext cx="326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33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opic of Can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33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33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opic of Caprico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1592640" y="1752480"/>
            <a:ext cx="540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recall: “latitude” = east-west line on the glob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1235880" y="4724280"/>
            <a:ext cx="332748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33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qua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5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5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t 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5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ses to 15-20 k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5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 pressure be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684000" y="4343400"/>
            <a:ext cx="169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contrast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ce7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chernicoff 3d air currents"/>
          <p:cNvPicPr/>
          <p:nvPr/>
        </p:nvPicPr>
        <p:blipFill>
          <a:blip r:embed="rId1"/>
          <a:stretch/>
        </p:blipFill>
        <p:spPr>
          <a:xfrm>
            <a:off x="1219320" y="536400"/>
            <a:ext cx="6705360" cy="63979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ffffa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2666880" y="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1) Deserts: where &amp; 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155160" y="7632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ce7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plummer air circ 3d"/>
          <p:cNvPicPr/>
          <p:nvPr/>
        </p:nvPicPr>
        <p:blipFill>
          <a:blip r:embed="rId1"/>
          <a:stretch/>
        </p:blipFill>
        <p:spPr>
          <a:xfrm>
            <a:off x="1295280" y="533520"/>
            <a:ext cx="6402600" cy="64008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1371600" y="5562720"/>
            <a:ext cx="1600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ffffa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666880" y="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1) Deserts: where &amp; 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155160" y="7632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RomaK</cp:lastModifiedBy>
  <dcterms:modified xsi:type="dcterms:W3CDTF">2015-09-04T09:42:04Z</dcterms:modified>
  <cp:revision>268</cp:revision>
  <dc:subject/>
  <dc:title>deserts and winds</dc:title>
</cp:coreProperties>
</file>