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9842-EC6E-434F-A0C1-6F78CFA6C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3:  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 in rain sha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n an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ous desert land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rosion: Important in arid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Types of sand du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dune shape depends 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or hil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s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s steady or intermitt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direction cons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etation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and dune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 pa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survive the des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ive h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ima In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) Wind erosion/ depos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d b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dry regions:  30% of all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imate types of dry reg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 (ar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pe (semi-arid, surrounds dese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much rain do we get in Tempe every yea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dese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act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eatherchanne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-latitude 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n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 of Capric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: “latitude” = east-west line on the glo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to 15-2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pressure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Deserts: where &amp;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 &amp;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9BF-A905-4E42-B5AC-86ECE055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8B5-BD5A-4779-8785-2DE1DA11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3CD-AC2E-4303-936A-03793010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FBA-3254-470F-BB62-D866034C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A78-EB3A-48DB-AB44-54005009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F04-0012-479E-8AF8-E6671719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972-55D3-4893-BB33-238FFDB3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CC5-F71E-4052-AD40-79AFC6BF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1CC-50A7-44ED-938E-EECB118A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ECF-557F-495E-961F-4AB2FCEF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F46-49DE-41B9-B855-0403C95F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96E-6D7C-4C76-A200-91C7769A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FD1D-8375-4258-B851-EDEF83D16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eatherchannel.com/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078" descr="Kresan 3e-14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074"/>
          <p:cNvSpPr/>
          <p:nvPr/>
        </p:nvSpPr>
        <p:spPr>
          <a:xfrm>
            <a:off x="1981080" y="76320"/>
            <a:ext cx="525780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 13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eserts &amp; 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075"/>
          <p:cNvSpPr/>
          <p:nvPr/>
        </p:nvSpPr>
        <p:spPr>
          <a:xfrm>
            <a:off x="686520" y="152280"/>
            <a:ext cx="1015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30" descr="figure 14-01"/>
          <p:cNvPicPr/>
          <p:nvPr/>
        </p:nvPicPr>
        <p:blipFill>
          <a:blip r:embed="rId1"/>
          <a:stretch/>
        </p:blipFill>
        <p:spPr>
          <a:xfrm>
            <a:off x="1727280" y="711360"/>
            <a:ext cx="5689440" cy="5435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31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2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33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2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7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28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598320" y="120816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Middle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0"/>
          <p:cNvSpPr/>
          <p:nvPr/>
        </p:nvSpPr>
        <p:spPr>
          <a:xfrm>
            <a:off x="1859400" y="190512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ist in rain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7" descr="plummer rain shadow"/>
          <p:cNvPicPr/>
          <p:nvPr/>
        </p:nvPicPr>
        <p:blipFill>
          <a:blip r:embed="rId1"/>
          <a:stretch/>
        </p:blipFill>
        <p:spPr>
          <a:xfrm>
            <a:off x="1692360" y="2357280"/>
            <a:ext cx="6384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819520" y="152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33320" y="17524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plummer basin &amp; range origin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71600" y="2362320"/>
            <a:ext cx="5983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2a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098"/>
          <p:cNvSpPr/>
          <p:nvPr/>
        </p:nvSpPr>
        <p:spPr>
          <a:xfrm>
            <a:off x="0" y="0"/>
            <a:ext cx="5562720" cy="9144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5400000"/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99"/>
          <p:cNvSpPr/>
          <p:nvPr/>
        </p:nvSpPr>
        <p:spPr>
          <a:xfrm>
            <a:off x="304920" y="304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Verdana"/>
              </a:rPr>
              <a:t>2) 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00"/>
          <p:cNvSpPr/>
          <p:nvPr/>
        </p:nvSpPr>
        <p:spPr>
          <a:xfrm>
            <a:off x="155160" y="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101"/>
          <p:cNvSpPr/>
          <p:nvPr/>
        </p:nvSpPr>
        <p:spPr>
          <a:xfrm>
            <a:off x="461520" y="1143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Basin an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02"/>
          <p:cNvSpPr/>
          <p:nvPr/>
        </p:nvSpPr>
        <p:spPr>
          <a:xfrm>
            <a:off x="490320" y="1981080"/>
            <a:ext cx="49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ous desert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104" descr="plummer basin &amp; range landforms"/>
          <p:cNvPicPr/>
          <p:nvPr/>
        </p:nvPicPr>
        <p:blipFill>
          <a:blip r:embed="rId1"/>
          <a:stretch/>
        </p:blipFill>
        <p:spPr>
          <a:xfrm>
            <a:off x="5437080" y="0"/>
            <a:ext cx="3706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3520" y="11430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nd ero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ortant in ari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33880" y="2133720"/>
            <a:ext cx="48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ample:  Types of sand du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905480" y="3048120"/>
            <a:ext cx="471888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d dune shap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 or hi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s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s steady or intermit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direction cons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on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055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lummer sand dune for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2209680"/>
            <a:ext cx="502920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89280" y="15238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d dun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lummer mud desert pavement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544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1048680" y="1535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rt pa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figure 14-08b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1523880"/>
            <a:ext cx="8610480" cy="4632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untitled2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30" descr="figure 14-21"/>
          <p:cNvPicPr/>
          <p:nvPr/>
        </p:nvPicPr>
        <p:blipFill>
          <a:blip r:embed="rId1"/>
          <a:stretch/>
        </p:blipFill>
        <p:spPr>
          <a:xfrm>
            <a:off x="1600200" y="150840"/>
            <a:ext cx="5791320" cy="4344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1"/>
          <p:cNvSpPr/>
          <p:nvPr/>
        </p:nvSpPr>
        <p:spPr>
          <a:xfrm>
            <a:off x="1981800" y="4572000"/>
            <a:ext cx="5999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survive the dese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iv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Pima 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fa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819520" y="1522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3) Wind erosion/ depo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31480" y="3189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hernicoff graded bedding"/>
          <p:cNvPicPr/>
          <p:nvPr/>
        </p:nvPicPr>
        <p:blipFill>
          <a:blip r:embed="rId1"/>
          <a:stretch/>
        </p:blipFill>
        <p:spPr>
          <a:xfrm>
            <a:off x="3657600" y="990720"/>
            <a:ext cx="5160960" cy="5627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3480" y="1981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d b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6" descr="az_rep_dust_storm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09680" y="685800"/>
            <a:ext cx="8505720" cy="577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7" descr="az_rep_dust_storm_caption"/>
          <p:cNvPicPr/>
          <p:nvPr/>
        </p:nvPicPr>
        <p:blipFill>
          <a:blip r:embed="rId2"/>
          <a:stretch/>
        </p:blipFill>
        <p:spPr>
          <a:xfrm>
            <a:off x="295200" y="119160"/>
            <a:ext cx="5191200" cy="46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8" descr="az_rep_dust_storm_date"/>
          <p:cNvPicPr/>
          <p:nvPr/>
        </p:nvPicPr>
        <p:blipFill>
          <a:blip r:embed="rId3"/>
          <a:stretch/>
        </p:blipFill>
        <p:spPr>
          <a:xfrm>
            <a:off x="7391520" y="228600"/>
            <a:ext cx="1054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160" y="1219320"/>
            <a:ext cx="58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arth’s dry 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0% of all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2960" y="2057400"/>
            <a:ext cx="596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limate types of dry reg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rt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emi-arid, surrounds des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6000" y="472428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 much rain do we get in Tempe every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6960" y="1143000"/>
            <a:ext cx="39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causes dese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8440" y="2286000"/>
            <a:ext cx="22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09880" y="1763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mportant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0960" y="22096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distribu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312120" y="4162320"/>
            <a:ext cx="222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04920" y="40384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>
            <a:hlinkClick r:id="rId1"/>
          </p:cNvPr>
          <p:cNvSpPr/>
          <p:nvPr/>
        </p:nvSpPr>
        <p:spPr>
          <a:xfrm>
            <a:off x="4221720" y="62784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eatherchanne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us_wind_cur_600x405"/>
          <p:cNvPicPr/>
          <p:nvPr/>
        </p:nvPicPr>
        <p:blipFill>
          <a:blip r:embed="rId2"/>
          <a:stretch/>
        </p:blipFill>
        <p:spPr>
          <a:xfrm>
            <a:off x="4800600" y="914400"/>
            <a:ext cx="4038480" cy="272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curwx_600x405"/>
          <p:cNvPicPr/>
          <p:nvPr/>
        </p:nvPicPr>
        <p:blipFill>
          <a:blip r:embed="rId3"/>
          <a:stretch/>
        </p:blipFill>
        <p:spPr>
          <a:xfrm>
            <a:off x="4800600" y="3581280"/>
            <a:ext cx="41148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plummer mud cracked playa"/>
          <p:cNvPicPr/>
          <p:nvPr/>
        </p:nvPicPr>
        <p:blipFill>
          <a:blip r:embed="rId1"/>
          <a:stretch/>
        </p:blipFill>
        <p:spPr>
          <a:xfrm>
            <a:off x="2349360" y="685800"/>
            <a:ext cx="4443480" cy="6019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38280" y="2286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5160" y="2286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98320" y="120816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Low-latitude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27320" y="2286000"/>
            <a:ext cx="326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92640" y="1752480"/>
            <a:ext cx="54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call: “latitude” = east-west line on the glob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235880" y="4724280"/>
            <a:ext cx="3327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s to 15-2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 b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84000" y="434340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ernicoff 3d air currents"/>
          <p:cNvPicPr/>
          <p:nvPr/>
        </p:nvPicPr>
        <p:blipFill>
          <a:blip r:embed="rId1"/>
          <a:stretch/>
        </p:blipFill>
        <p:spPr>
          <a:xfrm>
            <a:off x="1219320" y="536400"/>
            <a:ext cx="6705360" cy="6397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e7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lummer air circ 3d"/>
          <p:cNvPicPr/>
          <p:nvPr/>
        </p:nvPicPr>
        <p:blipFill>
          <a:blip r:embed="rId1"/>
          <a:stretch/>
        </p:blipFill>
        <p:spPr>
          <a:xfrm>
            <a:off x="1295280" y="533520"/>
            <a:ext cx="640260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1371600" y="55627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gradFill rotWithShape="0">
            <a:gsLst>
              <a:gs pos="0">
                <a:srgbClr val="ffffa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Verdana"/>
              </a:rPr>
              <a:t>1) Deserts: where &amp; 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5160" y="763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eserts &amp;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RomaK</cp:lastModifiedBy>
  <dcterms:modified xsi:type="dcterms:W3CDTF">2015-09-04T09:42:04Z</dcterms:modified>
  <cp:revision>268</cp:revision>
  <dc:subject/>
  <dc:title>deserts and winds</dc:title>
</cp:coreProperties>
</file>