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82E6-A8B9-4D8B-A582-CACB48457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210-97B2-433F-99AA-E43B0AD4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75C-CB71-4CC0-AE9E-078543FE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EFD-F196-470B-B50B-CBAAA943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E5D-CDE1-4CA0-8476-E758DEA6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286-EC77-4C17-BE40-9E8C3466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AB9-70F2-440D-85D8-5C7F6FE6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EB8-DF71-45E2-8DDC-6BAFA93D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64A-73B9-4F3B-8B9A-08D6EA4B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0AB-F094-470B-B762-4799B7E8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BF9-BC72-42AE-8A96-0700FF9C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8EB-7622-4A45-B0C9-6774DA4A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04E-7994-404F-877F-93CB5DBF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9ACF-137F-4CE5-8FA7-5033D2227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eatherchannel.com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078" descr="Kresan 3e-14-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074"/>
          <p:cNvSpPr/>
          <p:nvPr/>
        </p:nvSpPr>
        <p:spPr>
          <a:xfrm>
            <a:off x="1981080" y="76320"/>
            <a:ext cx="525780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 13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eserts &amp; W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075"/>
          <p:cNvSpPr/>
          <p:nvPr/>
        </p:nvSpPr>
        <p:spPr>
          <a:xfrm>
            <a:off x="686520" y="152280"/>
            <a:ext cx="1015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30" descr="figure 14-01"/>
          <p:cNvPicPr/>
          <p:nvPr/>
        </p:nvPicPr>
        <p:blipFill>
          <a:blip r:embed="rId1"/>
          <a:stretch/>
        </p:blipFill>
        <p:spPr>
          <a:xfrm>
            <a:off x="1727280" y="711360"/>
            <a:ext cx="5689440" cy="5435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3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2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33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2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27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8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598320" y="120816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Middle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0"/>
          <p:cNvSpPr/>
          <p:nvPr/>
        </p:nvSpPr>
        <p:spPr>
          <a:xfrm>
            <a:off x="1859400" y="1905120"/>
            <a:ext cx="36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7" descr="plummer rain shadow"/>
          <p:cNvPicPr/>
          <p:nvPr/>
        </p:nvPicPr>
        <p:blipFill>
          <a:blip r:embed="rId1"/>
          <a:stretch/>
        </p:blipFill>
        <p:spPr>
          <a:xfrm>
            <a:off x="1692360" y="2357280"/>
            <a:ext cx="6384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19520" y="152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33320" y="17524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plummer basin &amp; range origin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71600" y="2362320"/>
            <a:ext cx="59832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098"/>
          <p:cNvSpPr/>
          <p:nvPr/>
        </p:nvSpPr>
        <p:spPr>
          <a:xfrm>
            <a:off x="0" y="0"/>
            <a:ext cx="556272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99"/>
          <p:cNvSpPr/>
          <p:nvPr/>
        </p:nvSpPr>
        <p:spPr>
          <a:xfrm>
            <a:off x="304920" y="304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100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101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02"/>
          <p:cNvSpPr/>
          <p:nvPr/>
        </p:nvSpPr>
        <p:spPr>
          <a:xfrm>
            <a:off x="490320" y="19810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104" descr="plummer basin &amp; range landforms"/>
          <p:cNvPicPr/>
          <p:nvPr/>
        </p:nvPicPr>
        <p:blipFill>
          <a:blip r:embed="rId1"/>
          <a:stretch/>
        </p:blipFill>
        <p:spPr>
          <a:xfrm>
            <a:off x="5437080" y="0"/>
            <a:ext cx="3706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3520" y="1143000"/>
            <a:ext cx="64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nd ero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ortant in arid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33880" y="2133720"/>
            <a:ext cx="48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ample:  Types of sand du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905480" y="3048120"/>
            <a:ext cx="471888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055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lummer sand dune form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2209680"/>
            <a:ext cx="502920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989280" y="152388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lummer mud desert pavement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544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048680" y="15350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figure 14-08b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1523880"/>
            <a:ext cx="8610480" cy="4632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untitled2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30" descr="figure 14-21"/>
          <p:cNvPicPr/>
          <p:nvPr/>
        </p:nvPicPr>
        <p:blipFill>
          <a:blip r:embed="rId1"/>
          <a:stretch/>
        </p:blipFill>
        <p:spPr>
          <a:xfrm>
            <a:off x="1600200" y="150840"/>
            <a:ext cx="5791320" cy="4344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1"/>
          <p:cNvSpPr/>
          <p:nvPr/>
        </p:nvSpPr>
        <p:spPr>
          <a:xfrm>
            <a:off x="1981800" y="4572000"/>
            <a:ext cx="5999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iv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hernicoff graded bedding"/>
          <p:cNvPicPr/>
          <p:nvPr/>
        </p:nvPicPr>
        <p:blipFill>
          <a:blip r:embed="rId1"/>
          <a:stretch/>
        </p:blipFill>
        <p:spPr>
          <a:xfrm>
            <a:off x="3657600" y="990720"/>
            <a:ext cx="5160960" cy="5627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3480" y="19810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az_rep_dust_storm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09680" y="685800"/>
            <a:ext cx="8505720" cy="577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7" descr="az_rep_dust_storm_caption"/>
          <p:cNvPicPr/>
          <p:nvPr/>
        </p:nvPicPr>
        <p:blipFill>
          <a:blip r:embed="rId2"/>
          <a:stretch/>
        </p:blipFill>
        <p:spPr>
          <a:xfrm>
            <a:off x="295200" y="119160"/>
            <a:ext cx="5191200" cy="4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28" descr="az_rep_dust_storm_date"/>
          <p:cNvPicPr/>
          <p:nvPr/>
        </p:nvPicPr>
        <p:blipFill>
          <a:blip r:embed="rId3"/>
          <a:stretch/>
        </p:blipFill>
        <p:spPr>
          <a:xfrm>
            <a:off x="7391520" y="228600"/>
            <a:ext cx="10540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0160" y="1219320"/>
            <a:ext cx="58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arth’s dry reg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30% of all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2960" y="2057400"/>
            <a:ext cx="596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r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r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emi-arid, surrounds des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56000" y="472428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w much rain do we get in Tempe every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6960" y="1143000"/>
            <a:ext cx="39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causes dese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88440" y="2286000"/>
            <a:ext cx="22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09880" y="1763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00960" y="22096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12120" y="4162320"/>
            <a:ext cx="22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04920" y="40384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>
            <a:hlinkClick r:id="rId1"/>
          </p:cNvPr>
          <p:cNvSpPr/>
          <p:nvPr/>
        </p:nvSpPr>
        <p:spPr>
          <a:xfrm>
            <a:off x="4221720" y="62784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us_wind_cur_600x405"/>
          <p:cNvPicPr/>
          <p:nvPr/>
        </p:nvPicPr>
        <p:blipFill>
          <a:blip r:embed="rId2"/>
          <a:stretch/>
        </p:blipFill>
        <p:spPr>
          <a:xfrm>
            <a:off x="4800600" y="914400"/>
            <a:ext cx="4038480" cy="272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curwx_600x405"/>
          <p:cNvPicPr/>
          <p:nvPr/>
        </p:nvPicPr>
        <p:blipFill>
          <a:blip r:embed="rId3"/>
          <a:stretch/>
        </p:blipFill>
        <p:spPr>
          <a:xfrm>
            <a:off x="4800600" y="3581280"/>
            <a:ext cx="41148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plummer mud cracked playa"/>
          <p:cNvPicPr/>
          <p:nvPr/>
        </p:nvPicPr>
        <p:blipFill>
          <a:blip r:embed="rId1"/>
          <a:stretch/>
        </p:blipFill>
        <p:spPr>
          <a:xfrm>
            <a:off x="2349360" y="685800"/>
            <a:ext cx="4443480" cy="6019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98320" y="120816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Low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327320" y="2286000"/>
            <a:ext cx="326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92640" y="1752480"/>
            <a:ext cx="54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235880" y="4724280"/>
            <a:ext cx="3327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4000" y="434340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ernicoff 3d air currents"/>
          <p:cNvPicPr/>
          <p:nvPr/>
        </p:nvPicPr>
        <p:blipFill>
          <a:blip r:embed="rId1"/>
          <a:stretch/>
        </p:blipFill>
        <p:spPr>
          <a:xfrm>
            <a:off x="1219320" y="536400"/>
            <a:ext cx="6705360" cy="6397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lummer air circ 3d"/>
          <p:cNvPicPr/>
          <p:nvPr/>
        </p:nvPicPr>
        <p:blipFill>
          <a:blip r:embed="rId1"/>
          <a:stretch/>
        </p:blipFill>
        <p:spPr>
          <a:xfrm>
            <a:off x="1295280" y="533520"/>
            <a:ext cx="6402600" cy="6400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371600" y="55627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omaK</cp:lastModifiedBy>
  <dcterms:modified xsi:type="dcterms:W3CDTF">2015-09-04T09:42:04Z</dcterms:modified>
  <cp:revision>268</cp:revision>
  <dc:subject/>
  <dc:title>deserts and winds</dc:title>
</cp:coreProperties>
</file>