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9C54-4724-4424-9AA1-9264A4042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BB6-FAB0-4D9A-B755-3CA5E5E0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10A-8D92-48DB-8D43-758726B7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7A0-BE1F-44B0-89BD-D4D8199F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7D1-BE62-4354-B975-91D58BAE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B3C-A800-4633-A84E-A6DD7FFF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F24-2FC1-4F19-8ED3-37F83F92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EE2-0EFB-47CE-8737-4F4BC6A1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379-8112-4711-9068-9BB93C00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282-A876-454B-9F3B-CC71AD66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5E8-9F02-4D2B-82B4-E1897AF4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5F9-03E1-4348-82A2-68EDB57D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1A4-1BD9-4087-AD4D-ACCA8F9D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7B5B-C501-49D8-AFAC-CC66F5F92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eatherchannel.com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078" descr="Kresan 3e-14-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074"/>
          <p:cNvSpPr/>
          <p:nvPr/>
        </p:nvSpPr>
        <p:spPr>
          <a:xfrm>
            <a:off x="1981080" y="76320"/>
            <a:ext cx="525780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 13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eserts &amp; W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075"/>
          <p:cNvSpPr/>
          <p:nvPr/>
        </p:nvSpPr>
        <p:spPr>
          <a:xfrm>
            <a:off x="686520" y="152280"/>
            <a:ext cx="1015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30" descr="figure 14-01"/>
          <p:cNvPicPr/>
          <p:nvPr/>
        </p:nvPicPr>
        <p:blipFill>
          <a:blip r:embed="rId1"/>
          <a:stretch/>
        </p:blipFill>
        <p:spPr>
          <a:xfrm>
            <a:off x="1727280" y="711360"/>
            <a:ext cx="5689440" cy="5435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3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2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33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2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27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8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29"/>
          <p:cNvSpPr/>
          <p:nvPr/>
        </p:nvSpPr>
        <p:spPr>
          <a:xfrm>
            <a:off x="598320" y="1208160"/>
            <a:ext cx="40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Middle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0"/>
          <p:cNvSpPr/>
          <p:nvPr/>
        </p:nvSpPr>
        <p:spPr>
          <a:xfrm>
            <a:off x="1859400" y="1905120"/>
            <a:ext cx="36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7" descr="plummer rain shadow"/>
          <p:cNvPicPr/>
          <p:nvPr/>
        </p:nvPicPr>
        <p:blipFill>
          <a:blip r:embed="rId1"/>
          <a:stretch/>
        </p:blipFill>
        <p:spPr>
          <a:xfrm>
            <a:off x="1692360" y="2357280"/>
            <a:ext cx="6384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819520" y="152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33320" y="17524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plummer basin &amp; range origin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71600" y="2362320"/>
            <a:ext cx="59832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098"/>
          <p:cNvSpPr/>
          <p:nvPr/>
        </p:nvSpPr>
        <p:spPr>
          <a:xfrm>
            <a:off x="0" y="0"/>
            <a:ext cx="556272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99"/>
          <p:cNvSpPr/>
          <p:nvPr/>
        </p:nvSpPr>
        <p:spPr>
          <a:xfrm>
            <a:off x="304920" y="304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100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101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02"/>
          <p:cNvSpPr/>
          <p:nvPr/>
        </p:nvSpPr>
        <p:spPr>
          <a:xfrm>
            <a:off x="490320" y="19810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104" descr="plummer basin &amp; range landforms"/>
          <p:cNvPicPr/>
          <p:nvPr/>
        </p:nvPicPr>
        <p:blipFill>
          <a:blip r:embed="rId1"/>
          <a:stretch/>
        </p:blipFill>
        <p:spPr>
          <a:xfrm>
            <a:off x="5437080" y="0"/>
            <a:ext cx="37069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3520" y="1143000"/>
            <a:ext cx="64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nd ero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ortant in arid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33880" y="2133720"/>
            <a:ext cx="483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ample:  Types of sand du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905480" y="3048120"/>
            <a:ext cx="471888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055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lummer sand dune form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2209680"/>
            <a:ext cx="502920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989280" y="152388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lummer mud desert pavement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544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048680" y="15350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figure 14-08b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1523880"/>
            <a:ext cx="8610480" cy="4632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untitled2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30" descr="figure 14-21"/>
          <p:cNvPicPr/>
          <p:nvPr/>
        </p:nvPicPr>
        <p:blipFill>
          <a:blip r:embed="rId1"/>
          <a:stretch/>
        </p:blipFill>
        <p:spPr>
          <a:xfrm>
            <a:off x="1600200" y="150840"/>
            <a:ext cx="5791320" cy="4344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1"/>
          <p:cNvSpPr/>
          <p:nvPr/>
        </p:nvSpPr>
        <p:spPr>
          <a:xfrm>
            <a:off x="1981800" y="4572000"/>
            <a:ext cx="5999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iv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chernicoff graded bedding"/>
          <p:cNvPicPr/>
          <p:nvPr/>
        </p:nvPicPr>
        <p:blipFill>
          <a:blip r:embed="rId1"/>
          <a:stretch/>
        </p:blipFill>
        <p:spPr>
          <a:xfrm>
            <a:off x="3657600" y="990720"/>
            <a:ext cx="5160960" cy="5627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3480" y="19810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az_rep_dust_storm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09680" y="685800"/>
            <a:ext cx="8505720" cy="577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7" descr="az_rep_dust_storm_caption"/>
          <p:cNvPicPr/>
          <p:nvPr/>
        </p:nvPicPr>
        <p:blipFill>
          <a:blip r:embed="rId2"/>
          <a:stretch/>
        </p:blipFill>
        <p:spPr>
          <a:xfrm>
            <a:off x="295200" y="119160"/>
            <a:ext cx="5191200" cy="4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28" descr="az_rep_dust_storm_date"/>
          <p:cNvPicPr/>
          <p:nvPr/>
        </p:nvPicPr>
        <p:blipFill>
          <a:blip r:embed="rId3"/>
          <a:stretch/>
        </p:blipFill>
        <p:spPr>
          <a:xfrm>
            <a:off x="7391520" y="228600"/>
            <a:ext cx="10540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80160" y="1219320"/>
            <a:ext cx="58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arth’s dry reg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30% of all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2960" y="2057400"/>
            <a:ext cx="596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r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r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emi-arid, surrounds des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56000" y="472428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w much rain do we get in Tempe every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6960" y="1143000"/>
            <a:ext cx="39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causes dese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88440" y="2286000"/>
            <a:ext cx="22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09880" y="1763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00960" y="22096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12120" y="4162320"/>
            <a:ext cx="22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04920" y="40384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>
            <a:hlinkClick r:id="rId1"/>
          </p:cNvPr>
          <p:cNvSpPr/>
          <p:nvPr/>
        </p:nvSpPr>
        <p:spPr>
          <a:xfrm>
            <a:off x="4221720" y="62784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us_wind_cur_600x405"/>
          <p:cNvPicPr/>
          <p:nvPr/>
        </p:nvPicPr>
        <p:blipFill>
          <a:blip r:embed="rId2"/>
          <a:stretch/>
        </p:blipFill>
        <p:spPr>
          <a:xfrm>
            <a:off x="4800600" y="914400"/>
            <a:ext cx="4038480" cy="272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curwx_600x405"/>
          <p:cNvPicPr/>
          <p:nvPr/>
        </p:nvPicPr>
        <p:blipFill>
          <a:blip r:embed="rId3"/>
          <a:stretch/>
        </p:blipFill>
        <p:spPr>
          <a:xfrm>
            <a:off x="4800600" y="3581280"/>
            <a:ext cx="41148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plummer mud cracked playa"/>
          <p:cNvPicPr/>
          <p:nvPr/>
        </p:nvPicPr>
        <p:blipFill>
          <a:blip r:embed="rId1"/>
          <a:stretch/>
        </p:blipFill>
        <p:spPr>
          <a:xfrm>
            <a:off x="2349360" y="685800"/>
            <a:ext cx="4443480" cy="6019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98320" y="120816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Low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327320" y="2286000"/>
            <a:ext cx="326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92640" y="1752480"/>
            <a:ext cx="54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235880" y="4724280"/>
            <a:ext cx="3327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84000" y="434340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ernicoff 3d air currents"/>
          <p:cNvPicPr/>
          <p:nvPr/>
        </p:nvPicPr>
        <p:blipFill>
          <a:blip r:embed="rId1"/>
          <a:stretch/>
        </p:blipFill>
        <p:spPr>
          <a:xfrm>
            <a:off x="1219320" y="536400"/>
            <a:ext cx="6705360" cy="6397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lummer air circ 3d"/>
          <p:cNvPicPr/>
          <p:nvPr/>
        </p:nvPicPr>
        <p:blipFill>
          <a:blip r:embed="rId1"/>
          <a:stretch/>
        </p:blipFill>
        <p:spPr>
          <a:xfrm>
            <a:off x="1295280" y="533520"/>
            <a:ext cx="6402600" cy="6400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1371600" y="55627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omaK</cp:lastModifiedBy>
  <dcterms:modified xsi:type="dcterms:W3CDTF">2015-09-04T09:42:04Z</dcterms:modified>
  <cp:revision>268</cp:revision>
  <dc:subject/>
  <dc:title>deserts and winds</dc:title>
</cp:coreProperties>
</file>