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1EBED-E124-4CA7-AFFC-16C4B03086C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Earthquak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haking or trembling caused by the sudden release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associated with faulting or breaking of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ing adjustment of position results in aftersh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Earthquak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haking or trembling caused by the sudden release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associated with faulting or breaking of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ing adjustment of position results in aftersh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an Earthquake’s Epicenter Loc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ismic wave behav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waves arrive first, then S waves, then L and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speeds for all these waves is kn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an earthquake, the difference in arrival times at a seismograph station can be used to calculate the distance from the seismograph to the epicen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an Earthquake’s Epicenter Loc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ismic wave behav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waves arrive first, then S waves, then L and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speeds for all these waves is kn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an earthquake, the difference in arrival times at a seismograph station can be used to calculate the distance from the seismograph to the epicen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an Earthquake’s Epicenter Loc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-distance graph showing the average travel times for P- and S-waves. The farther away a seismograph is from the focus of an earthquake, the longer the interval between the arrivals of the P- and S-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an Earthquake’s Epicenter Loc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-distance graph showing the average travel times for P- and S-waves. The farther away a seismograph is from the focus of an earthquake, the longer the interval between the arrivals of the P- and S-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an Earthquake’s Epicenter Loc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seismograph stations are needed to locate the epicenter of an earthqu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ircle where the radius equals the distance to the epicenter is dra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tersection of the circles locates the epicen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an Earthquake’s Epicenter Loc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seismograph stations are needed to locate the epicenter of an earthqu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ircle where the radius equals the distance to the epicenter is dra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tersection of the circles locates the epicen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he Size and Strength of an Earthquake Measur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ified Mercalli Intensity 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4 Northridge, CA earthquake, magnitude 6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jective measure of the kind of damage done and people’s reactions to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seismal lines identify areas of equal int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he Size and Strength of an Earthquake Measur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ified Mercalli Intensity 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4 Northridge, CA earthquake, magnitude 6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jective measure of the kind of damage done and people’s reactions to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seismal lines identify areas of equal int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he Size and Strength of an Earthquake Measur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ter scale measures total amount of energy released by an earthquake; independent of int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plitude of the largest wave produced by an event is corrected for distance and assigned a value on an open-ended logarithmic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he Size and Strength of an Earthquake Measur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ter scale measures total amount of energy released by an earthquake; independent of int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plitude of the largest wave produced by an event is corrected for distance and assigned a value on an open-ended logarithmic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Destructive Effects of Earthquak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nd Sha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plitude, duration, and damage increases in poorly consolidated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Destructive Effects of Earthquak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nd Sha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plitude, duration, and damage increases in poorly consolidated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Earthquakes be Predic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quake Precurso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elevation or tilting of land surface, fluctuations in groundwater levels, magnetic field, electrical resistance of the 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ismic dilatancy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ismic ga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Earthquakes be Predic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quake Precurso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elevation or tilting of land surface, fluctuations in groundwater levels, magnetic field, electrical resistance of the 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ismic dilatancy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ismic ga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Earthquakes be Predic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quake Prediction Pr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 laboratory and field studies of rocks before, during, and after earthquak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itor activity along major fa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 risk assess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Earthquakes be Predic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quake Prediction Pr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 laboratory and field studies of rocks before, during, and after earthquak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itor activity along major fa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 risk assess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Earthquakes be Controll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showing the relationship between the amount of waste injected into wells per month and the average number of Denver earthquakes per mon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have suggested that pumping fluids into seismic gaps will cause small earthquakes while preventing large 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Earthquakes be Controll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showing the relationship between the amount of waste injected into wells per month and the average number of Denver earthquakes per mon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have suggested that pumping fluids into seismic gaps will cause small earthquakes while preventing large 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lastic Rebound Theor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s how energy is stored in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bend until the strength of the rock is exc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pture occurs and the rocks quickly rebound to an undeformed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s released in waves that radiate outward from the fa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lastic Rebound Theor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s how energy is stored in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bend until the strength of the rock is exc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pture occurs and the rocks quickly rebound to an undeformed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s released in waves that radiate outward from the fa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cus and Epicenter of an Earthqu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int within Earth where faulting begins is the focus, or hypo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int directly above the focus on the surface is the epi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cus and Epicenter of an Earthqu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int within Earth where faulting begins is the focus, or hypo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int directly above the focus on the surface is the epi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ismographs record earthquake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convergent boundaries, focal depth increases along a dipping seismic zone called a Benioff z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ismographs record earthquake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convergent boundaries, focal depth increases along a dipping seismic zone called a Benioff z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 Earthquakes Occur and How Oft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80% of all earthquakes occur in the circum-Pacific be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se result from convergent margin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15% occur in the Mediterranean-Asiatic be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aining 5% occur in the interiors of plates and on spreading ridge ce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han 150,000 quakes strong enough to be felt are recorded each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 Earthquakes Occur and How Oft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80% of all earthquakes occur in the circum-Pacific be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se result from convergent margin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15% occur in the Mediterranean-Asiatic be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aining 5% occur in the interiors of plates and on spreading ridge ce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han 150,000 quakes strong enough to be felt are recorded each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conomics and Societal Impacts of EQ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mage in Oakland, CA, 19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 colla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suna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nd fail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conomics and Societal Impacts of EQ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mage in Oakland, CA, 19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 colla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suna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nd fail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eismic Wav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 of material to the arrival of energy fronts released by ru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and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and 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eismic Wav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 of material to the arrival of energy fronts released by ru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and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and 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Waves: P and S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or primary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stest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through solids, liquids, or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ressional wave, material movement is in the same direction as wave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or secondary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wer than P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through solid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ar waves - move material perpendicular to wave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Waves: P and S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or primary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stest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through solids, liquids, or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ressional wave, material movement is in the same direction as wave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or secondary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wer than P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through solid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ar waves - move material perpendicular to wave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Waves: R and L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just below or along the ground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wer than body waves; rolling and side-to-side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ecially damaging to buil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Waves: R and L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just below or along the ground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wer than body waves; rolling and side-to-side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ecially damaging to buil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353D-8F6E-4D53-8AA0-F23CF317F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F6E5-99DB-4E62-B19E-1D673D4BD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528E-EF75-4BED-A947-F73EC70E6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35D3-6B47-4016-8969-4E17B686B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38B1-6A7E-4A39-912E-79071838A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E816-D847-4790-BD2B-9285B3E20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FC9F-111E-4BDC-A932-5C1FC6E03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CCC6-4B2A-4F75-86CA-BA29DBC63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F0FA-3D86-427A-BE56-A5EB47CC9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A62A-A794-4617-8F90-148CF191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6785-A5CD-4251-B209-EB8B91A8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BF4D-8E14-46C7-BC42-AE791242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8F2E3-8A2F-4B22-B4FB-6F0AC015B1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81080" y="914040"/>
            <a:ext cx="56390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Earthquak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haking or trembling caused by the sudden release of ener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associated with faulting or breaking of r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ing adjustment of position results in aftersh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is an Earthquake’s Epicenter Loca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4" descr="MWPG40914"/>
          <p:cNvPicPr/>
          <p:nvPr/>
        </p:nvPicPr>
        <p:blipFill>
          <a:blip r:embed="rId1"/>
          <a:stretch/>
        </p:blipFill>
        <p:spPr>
          <a:xfrm>
            <a:off x="838080" y="2971800"/>
            <a:ext cx="7620120" cy="54277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2640" y="914040"/>
            <a:ext cx="74674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ismic wave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 waves arrive first, then S waves, then L and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speeds for all these waves is kn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After an earthquake, the difference in arrival times at a seismograph station can be used to calculate the distance from the seismograph to the epicent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1066680" y="6324480"/>
            <a:ext cx="746784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is an Earthquake’s Epicenter Loc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360" y="1295280"/>
            <a:ext cx="33526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-distance graph showing the average travel times for P- and S-waves.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The farther away a seismograph is from the focus of an earthquake, the longer the interval between the arrivals of the P- and S- w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MWPG40915"/>
          <p:cNvPicPr/>
          <p:nvPr/>
        </p:nvPicPr>
        <p:blipFill>
          <a:blip r:embed="rId1"/>
          <a:stretch/>
        </p:blipFill>
        <p:spPr>
          <a:xfrm>
            <a:off x="4430880" y="990720"/>
            <a:ext cx="41846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s an Earthquake’s Epicenter Locat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5812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e seismograph stations are needed to locate the epicenter of an earthqua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circle where the radius equals the distance to the epicenter is dra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section of the circles locates the epicent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4" descr="MWPG40916"/>
          <p:cNvPicPr/>
          <p:nvPr/>
        </p:nvPicPr>
        <p:blipFill>
          <a:blip r:embed="rId1"/>
          <a:stretch/>
        </p:blipFill>
        <p:spPr>
          <a:xfrm>
            <a:off x="4267080" y="1905120"/>
            <a:ext cx="487692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are the Size and Strength of an Earthquake Measur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4" descr="MWPG40917"/>
          <p:cNvPicPr/>
          <p:nvPr/>
        </p:nvPicPr>
        <p:blipFill>
          <a:blip r:embed="rId1"/>
          <a:stretch/>
        </p:blipFill>
        <p:spPr>
          <a:xfrm>
            <a:off x="1143000" y="1447920"/>
            <a:ext cx="4876920" cy="33638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5"/>
          <p:cNvSpPr/>
          <p:nvPr/>
        </p:nvSpPr>
        <p:spPr>
          <a:xfrm>
            <a:off x="1752480" y="4952880"/>
            <a:ext cx="4572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ified Mercalli Intensity M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94 Northridge, CA earthquake, magnitude 6.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38320" y="1599840"/>
            <a:ext cx="31244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ubject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asure of the kind of damage done and people’s reactions to 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oseismal lines identify areas of equal int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MWPG40919"/>
          <p:cNvPicPr/>
          <p:nvPr/>
        </p:nvPicPr>
        <p:blipFill>
          <a:blip r:embed="rId1"/>
          <a:stretch/>
        </p:blipFill>
        <p:spPr>
          <a:xfrm>
            <a:off x="3886200" y="1143000"/>
            <a:ext cx="4597560" cy="5334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are the Size and Strength of an Earthquake Measur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gnitu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ter scale measure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otal amount of energ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leased by an earthquake; independent of int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plitude of the largest wave produced by an event is corrected for distance and assigned a value on an open-ended logarithmic sc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MWPG40920a"/>
          <p:cNvPicPr/>
          <p:nvPr/>
        </p:nvPicPr>
        <p:blipFill>
          <a:blip r:embed="rId1"/>
          <a:stretch/>
        </p:blipFill>
        <p:spPr>
          <a:xfrm>
            <a:off x="1828800" y="2057400"/>
            <a:ext cx="5715000" cy="38685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are the Destructive Effects of Earthquak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990720"/>
            <a:ext cx="72392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und Sha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plitude, duration, and damage increases in poorly consolidated r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MWPG40929"/>
          <p:cNvPicPr/>
          <p:nvPr/>
        </p:nvPicPr>
        <p:blipFill>
          <a:blip r:embed="rId1"/>
          <a:stretch/>
        </p:blipFill>
        <p:spPr>
          <a:xfrm>
            <a:off x="4114800" y="2438280"/>
            <a:ext cx="4267080" cy="39243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Earthquakes be Predic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3520" y="1143000"/>
            <a:ext cx="678204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thquake Precurs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es in elevation or tilting of land surface, fluctuations in groundwater levels, magnetic field, electrical resistance of the gr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ismic dilatanc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ismic ga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7057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Earthquakes be Predic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142640"/>
            <a:ext cx="761976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rthquake Prediction Pro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lude laboratory and field studies of rocks before, during, and after earthquak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itor activity along major fa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 risk assess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MWPG40928"/>
          <p:cNvPicPr/>
          <p:nvPr/>
        </p:nvPicPr>
        <p:blipFill>
          <a:blip r:embed="rId1"/>
          <a:stretch/>
        </p:blipFill>
        <p:spPr>
          <a:xfrm>
            <a:off x="914400" y="2895480"/>
            <a:ext cx="762012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586728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Earthquakes be Control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3" descr="MWPG40931b"/>
          <p:cNvPicPr/>
          <p:nvPr/>
        </p:nvPicPr>
        <p:blipFill>
          <a:blip r:embed="rId1"/>
          <a:stretch/>
        </p:blipFill>
        <p:spPr>
          <a:xfrm>
            <a:off x="4038480" y="1066680"/>
            <a:ext cx="4800600" cy="45691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581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ph showing the relationship between the amount of waste injected into wells per month and the average number of Denver earthquakes per mon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have suggested that pumping fluids into seismic gaps will cause small earthquakes while preventing large 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MWPG40903a"/>
          <p:cNvPicPr/>
          <p:nvPr/>
        </p:nvPicPr>
        <p:blipFill>
          <a:blip r:embed="rId1"/>
          <a:stretch/>
        </p:blipFill>
        <p:spPr>
          <a:xfrm>
            <a:off x="3581280" y="2057400"/>
            <a:ext cx="5257800" cy="35164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lastic Rebound Theor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3276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ains how energy is stored in r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cks bend until the strength of the rock is exc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pture occurs and the rocks quickly rebound to an undeformed 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ergy is released in waves that radiate outward from the fa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447920" y="1066680"/>
            <a:ext cx="670536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oc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picen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an Earthqu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MWPG40906"/>
          <p:cNvPicPr/>
          <p:nvPr/>
        </p:nvPicPr>
        <p:blipFill>
          <a:blip r:embed="rId1"/>
          <a:stretch/>
        </p:blipFill>
        <p:spPr>
          <a:xfrm>
            <a:off x="4343400" y="2362320"/>
            <a:ext cx="3733920" cy="33415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6"/>
          <p:cNvSpPr/>
          <p:nvPr/>
        </p:nvSpPr>
        <p:spPr>
          <a:xfrm>
            <a:off x="1371600" y="2438280"/>
            <a:ext cx="29718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oint within Earth where faulting begins is the focus, or hypoc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oint directly above the focus on the surface is the epic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294920" y="1142640"/>
            <a:ext cx="2971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ismograph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cord earthquak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4952880" y="4038480"/>
            <a:ext cx="381024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5486400" y="3733920"/>
            <a:ext cx="31240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convergent boundaries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ocal dep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creases along a dipping seismic zone called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enioff z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6" descr="MWPG40905a"/>
          <p:cNvPicPr/>
          <p:nvPr/>
        </p:nvPicPr>
        <p:blipFill>
          <a:blip r:embed="rId1"/>
          <a:stretch/>
        </p:blipFill>
        <p:spPr>
          <a:xfrm>
            <a:off x="4648320" y="609480"/>
            <a:ext cx="3733560" cy="2621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MWPG40908"/>
          <p:cNvPicPr/>
          <p:nvPr/>
        </p:nvPicPr>
        <p:blipFill>
          <a:blip r:embed="rId2"/>
          <a:stretch/>
        </p:blipFill>
        <p:spPr>
          <a:xfrm>
            <a:off x="990720" y="3505320"/>
            <a:ext cx="4343400" cy="25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re Do Earthquakes Occur and How Oft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9907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~80% of all earthquakes occur in the circum-Pacific be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of these result from convergent margin acti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~15% occur in the Mediterranean-Asiatic be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aining 5% occur in the interiors of plates and on spreading ridge cen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than 150,000 quakes strong enough to be felt are recorded each y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MWPG40907"/>
          <p:cNvPicPr/>
          <p:nvPr/>
        </p:nvPicPr>
        <p:blipFill>
          <a:blip r:embed="rId1"/>
          <a:stretch/>
        </p:blipFill>
        <p:spPr>
          <a:xfrm>
            <a:off x="2514600" y="3276720"/>
            <a:ext cx="441972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MWPG40909a"/>
          <p:cNvPicPr/>
          <p:nvPr/>
        </p:nvPicPr>
        <p:blipFill>
          <a:blip r:embed="rId1"/>
          <a:stretch/>
        </p:blipFill>
        <p:spPr>
          <a:xfrm>
            <a:off x="4572000" y="1143000"/>
            <a:ext cx="3886200" cy="26431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conomics and Societal Impacts of EQ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6" descr="MWPG40922"/>
          <p:cNvPicPr/>
          <p:nvPr/>
        </p:nvPicPr>
        <p:blipFill>
          <a:blip r:embed="rId2"/>
          <a:stretch/>
        </p:blipFill>
        <p:spPr>
          <a:xfrm>
            <a:off x="5486400" y="3657600"/>
            <a:ext cx="3276720" cy="2836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MWPG40927"/>
          <p:cNvPicPr/>
          <p:nvPr/>
        </p:nvPicPr>
        <p:blipFill>
          <a:blip r:embed="rId3"/>
          <a:stretch/>
        </p:blipFill>
        <p:spPr>
          <a:xfrm>
            <a:off x="1219320" y="3540240"/>
            <a:ext cx="4267080" cy="29509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4"/>
          <p:cNvSpPr/>
          <p:nvPr/>
        </p:nvSpPr>
        <p:spPr>
          <a:xfrm>
            <a:off x="4572000" y="1143000"/>
            <a:ext cx="3753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mage i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akl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CA, 19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1676520" y="1447920"/>
            <a:ext cx="27432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collap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una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und fail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440" y="609480"/>
            <a:ext cx="57913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re Seismic Wav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120" y="1599840"/>
            <a:ext cx="5257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of material to the arrival of energy fronts released by rup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typ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 w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 and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face w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 and 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MWPG40912"/>
          <p:cNvPicPr/>
          <p:nvPr/>
        </p:nvPicPr>
        <p:blipFill>
          <a:blip r:embed="rId1"/>
          <a:stretch/>
        </p:blipFill>
        <p:spPr>
          <a:xfrm>
            <a:off x="1066680" y="1676520"/>
            <a:ext cx="4724640" cy="363996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518148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dy Waves: P and S w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257440" y="1295280"/>
            <a:ext cx="35053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dy w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 or primary w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est w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vel through solids, liquids, or g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ressional wave, material movement is in the same direction as wave mo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 or secondary w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ower than P w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vel through solids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ar waves - move material perpendicular to wave mo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7040" y="609480"/>
            <a:ext cx="5638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rface Waves: R and L w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457200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rface W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vel just below or along the ground’s su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ower than body waves; rolling and side-to-side mo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pecially damaging to build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MWPG40913"/>
          <p:cNvPicPr/>
          <p:nvPr/>
        </p:nvPicPr>
        <p:blipFill>
          <a:blip r:embed="rId1"/>
          <a:stretch/>
        </p:blipFill>
        <p:spPr>
          <a:xfrm>
            <a:off x="914400" y="1676520"/>
            <a:ext cx="784872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6T15:06:16Z</dcterms:created>
  <dc:creator>Harry Rowe</dc:creator>
  <dc:description/>
  <dc:language>en-US</dc:language>
  <cp:lastModifiedBy>RomaK</cp:lastModifiedBy>
  <dcterms:modified xsi:type="dcterms:W3CDTF">2015-09-04T09:42:11Z</dcterms:modified>
  <cp:revision>13</cp:revision>
  <dc:subject/>
  <dc:title>what are earthquakes</dc:title>
</cp:coreProperties>
</file>