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5871-B03B-4874-8E19-33C2AA4BB4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wav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waves arrive first, then S waves, then L and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speeds for all these waves is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n earthquake, the difference in arrival times at a seismograph station can be used to calculate the distance from the seismograph to the epi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wav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waves arrive first, then S waves, then L and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speeds for all these waves is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n earthquake, the difference in arrival times at a seismograph station can be used to calculate the distance from the seismograph to the epi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nce graph showing the average travel times for P- and S-waves. The farther away a seismograph is from the focus of an earthquake, the longer the interval between the arrivals of the P- and S-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nce graph showing the average travel times for P- and S-waves. The farther away a seismograph is from the focus of an earthquake, the longer the interval between the arrivals of the P- and S-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eismograph stations are needed to locate the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le where the radius equals the distance to the epicenter is dra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ection of the circles locates the epi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eismograph stations are needed to locate the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le where the radius equals the distance to the epicenter is dra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ection of the circles locates the epi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Mercalli Intensity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 Northridge, CA earthquake, magnitud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ive measure of the kind of damage done and people’s reactions t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eismal lines identify areas of equal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Mercalli Intensity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 Northridge, CA earthquake, magnitud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ive measure of the kind of damage done and people’s reactions t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eismal lines identify areas of equal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ter scale measures total amount of energy released by an earthquake; independent of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of the largest wave produced by an event is corrected for distance and assigned a value on an open-ended logarithmic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ter scale measures total amount of energy released by an earthquake; independent of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of the largest wave produced by an event is corrected for distance and assigned a value on an open-ended logarithmic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estructive Effects of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h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, duration, and damage increases in poorly consolidated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estructive Effects of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h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, duration, and damage increases in poorly consolidated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dic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laboratory and field studies of rocks before, during, and after earthqu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activity along major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dic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laboratory and field studies of rocks before, during, and after earthqu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activity along major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Contro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ing the relationship between the amount of waste injected into wells per month and the average number of Denver earthquakes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ve suggested that pumping fluids into seismic gaps will cause small earthquakes while preventing larg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Contro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ing the relationship between the amount of waste injected into wells per month and the average number of Denver earthquakes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ve suggested that pumping fluids into seismic gaps will cause small earthquakes while preventing larg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lastic Rebound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how energy is stored in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bend until the strength of the rock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ccurs and the rocks quickly rebound to an undeformed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released in waves that radiate outward from the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lastic Rebound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how energy is stored in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bend until the strength of the rock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ccurs and the rocks quickly rebound to an undeformed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released in waves that radiate outward from the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cus and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within Earth where faulting begins is the focus, or hypo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directly above the focus on the surface is the epi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cus and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within Earth where faulting begins is the focus, or hypo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directly above the focus on the surface is the epi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ographs record earthquak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onvergent boundaries, focal depth increases along a dipping seismic zone called a Benioff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ographs record earthquak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onvergent boundaries, focal depth increases along a dipping seismic zone called a Benioff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Earthquakes Occur and How Of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80% of all earthquakes occur in the circum-Pacif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se result from convergent marg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5% occur in the Mediterranean-Asiat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5% occur in the interiors of plates and on spreading ridg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50,000 quakes strong enough to be felt are record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Earthquakes Occur and How Of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80% of all earthquakes occur in the circum-Pacif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se result from convergent marg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5% occur in the Mediterranean-Asiat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5% occur in the interiors of plates and on spreading ridg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50,000 quakes strong enough to be felt are record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nomics and Societal Impacts of E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in Oakland, CA,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nomics and Societal Impacts of E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in Oakland, CA,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ismic Wa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ismic Wa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: P and 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or prim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, liquids,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ional wave, material movement is in the same direction as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r second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P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ar waves - move material perpendicular to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: P and 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or prim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, liquids,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ional wave, material movement is in the same direction as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r second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P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ar waves - move material perpendicular to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: R and 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just below or along the ground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body waves; rolling and side-to-sid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damaging t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: R and 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just below or along the ground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body waves; rolling and side-to-sid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damaging t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1F9E-5557-450A-A674-3231B3DD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F1B1-194F-4C8A-BE10-055E1C41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CC84-4F87-4AA7-854B-CA5E8330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9695-D74E-43EC-8A5F-A60A255C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2A6-51AB-4082-8521-4C008515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0793-19D6-462B-B1A3-2E6E9990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71A-8B3B-4EF4-BC11-F899A9CB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C6A6-236B-4EB5-92EE-9BEB209F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459-542C-4094-9306-F70B09AB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B88-7D45-42AB-A3E6-BDB84577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5DC-80B2-4C81-87FC-6B656D90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DAA8-9DBF-47C4-BA8D-5F8E32CF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3760-F50B-470A-89F4-8E184F79D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s an Earthquake’s Epicenter 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MWPG40914"/>
          <p:cNvPicPr/>
          <p:nvPr/>
        </p:nvPicPr>
        <p:blipFill>
          <a:blip r:embed="rId1"/>
          <a:stretch/>
        </p:blipFill>
        <p:spPr>
          <a:xfrm>
            <a:off x="838080" y="2971800"/>
            <a:ext cx="7620120" cy="5427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2640" y="91404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ismic wave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 waves arrive first, then S waves, then L and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speeds for all these waves is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fter an earthquake, the difference in arrival times at a seismograph station can be used to calculate the distance from the seismograph to the epicen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066680" y="6324480"/>
            <a:ext cx="74678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is an Earthquake’s Epicenter Loc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3352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distance graph showing the average travel times for P- and S-waves.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he farther away a seismograph is from the focus of an earthquake, the longer the interval between the arrivals of the P- and S-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MWPG40915"/>
          <p:cNvPicPr/>
          <p:nvPr/>
        </p:nvPicPr>
        <p:blipFill>
          <a:blip r:embed="rId1"/>
          <a:stretch/>
        </p:blipFill>
        <p:spPr>
          <a:xfrm>
            <a:off x="4430880" y="990720"/>
            <a:ext cx="4184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581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seismograph stations are needed to locate the epicenter of an earthqu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ircle where the radius equals the distance to the epicenter is dra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section of the circles locates the epi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MWPG40916"/>
          <p:cNvPicPr/>
          <p:nvPr/>
        </p:nvPicPr>
        <p:blipFill>
          <a:blip r:embed="rId1"/>
          <a:stretch/>
        </p:blipFill>
        <p:spPr>
          <a:xfrm>
            <a:off x="4267080" y="1905120"/>
            <a:ext cx="487692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the Size and Strength of an Earthquake Meas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MWPG40917"/>
          <p:cNvPicPr/>
          <p:nvPr/>
        </p:nvPicPr>
        <p:blipFill>
          <a:blip r:embed="rId1"/>
          <a:stretch/>
        </p:blipFill>
        <p:spPr>
          <a:xfrm>
            <a:off x="1143000" y="1447920"/>
            <a:ext cx="4876920" cy="3363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1752480" y="495288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Mercalli Intensity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4 Northridge, CA earthquake, magnitude 6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38320" y="1599840"/>
            <a:ext cx="3124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bje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sure of the kind of damage done and people’s reactions t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seismal lines identify areas of equal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MWPG40919"/>
          <p:cNvPicPr/>
          <p:nvPr/>
        </p:nvPicPr>
        <p:blipFill>
          <a:blip r:embed="rId1"/>
          <a:stretch/>
        </p:blipFill>
        <p:spPr>
          <a:xfrm>
            <a:off x="3886200" y="1143000"/>
            <a:ext cx="4597560" cy="5334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the Size and Strength of an Earthquake Meas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ter scale measur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tal amount of ener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leased by an earthquake; independent of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 of the largest wave produced by an event is corrected for distance and assigned a value on an open-ended logarithmic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MWPG40920a"/>
          <p:cNvPicPr/>
          <p:nvPr/>
        </p:nvPicPr>
        <p:blipFill>
          <a:blip r:embed="rId1"/>
          <a:stretch/>
        </p:blipFill>
        <p:spPr>
          <a:xfrm>
            <a:off x="1828800" y="2057400"/>
            <a:ext cx="5715000" cy="3868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Destructive Effects of Earthquak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72392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nd Sh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, duration, and damage increases in poorly consolidated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MWPG40929"/>
          <p:cNvPicPr/>
          <p:nvPr/>
        </p:nvPicPr>
        <p:blipFill>
          <a:blip r:embed="rId1"/>
          <a:stretch/>
        </p:blipFill>
        <p:spPr>
          <a:xfrm>
            <a:off x="4114800" y="2438280"/>
            <a:ext cx="4267080" cy="3924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Predi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143000"/>
            <a:ext cx="67820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Predi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quake Prediction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laboratory and field studies of rocks before, during, and after earthqua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itor activity along major fa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 risk assess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MWPG40928"/>
          <p:cNvPicPr/>
          <p:nvPr/>
        </p:nvPicPr>
        <p:blipFill>
          <a:blip r:embed="rId1"/>
          <a:stretch/>
        </p:blipFill>
        <p:spPr>
          <a:xfrm>
            <a:off x="914400" y="2895480"/>
            <a:ext cx="76201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Contro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MWPG40931b"/>
          <p:cNvPicPr/>
          <p:nvPr/>
        </p:nvPicPr>
        <p:blipFill>
          <a:blip r:embed="rId1"/>
          <a:stretch/>
        </p:blipFill>
        <p:spPr>
          <a:xfrm>
            <a:off x="4038480" y="1066680"/>
            <a:ext cx="4800600" cy="4569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 showing the relationship between the amount of waste injected into wells per month and the average number of Denver earthquakes per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have suggested that pumping fluids into seismic gaps will cause small earthquakes while preventing large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WPG40903a"/>
          <p:cNvPicPr/>
          <p:nvPr/>
        </p:nvPicPr>
        <p:blipFill>
          <a:blip r:embed="rId1"/>
          <a:stretch/>
        </p:blipFill>
        <p:spPr>
          <a:xfrm>
            <a:off x="3581280" y="2057400"/>
            <a:ext cx="5257800" cy="3516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astic Rebound Theo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276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ains how energy is stored in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cks bend until the strength of the rock is exc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pture occurs and the rocks quickly rebound to an undeformed 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is released in waves that radiate outward from th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47920" y="1066680"/>
            <a:ext cx="67053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pice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n Earthqu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MWPG40906"/>
          <p:cNvPicPr/>
          <p:nvPr/>
        </p:nvPicPr>
        <p:blipFill>
          <a:blip r:embed="rId1"/>
          <a:stretch/>
        </p:blipFill>
        <p:spPr>
          <a:xfrm>
            <a:off x="4343400" y="2362320"/>
            <a:ext cx="3733920" cy="33415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1371600" y="2438280"/>
            <a:ext cx="2971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 within Earth where faulting begins is the focus, or hypo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 directly above the focus on the surface is the epi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94920" y="1142640"/>
            <a:ext cx="2971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ismograph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cord earthquak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952880" y="4038480"/>
            <a:ext cx="38102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486400" y="3733920"/>
            <a:ext cx="3124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convergent boundarie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cal dep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reases along a dipping seismic zone called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nioff 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WPG40905a"/>
          <p:cNvPicPr/>
          <p:nvPr/>
        </p:nvPicPr>
        <p:blipFill>
          <a:blip r:embed="rId1"/>
          <a:stretch/>
        </p:blipFill>
        <p:spPr>
          <a:xfrm>
            <a:off x="4648320" y="609480"/>
            <a:ext cx="3733560" cy="262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WPG40908"/>
          <p:cNvPicPr/>
          <p:nvPr/>
        </p:nvPicPr>
        <p:blipFill>
          <a:blip r:embed="rId2"/>
          <a:stretch/>
        </p:blipFill>
        <p:spPr>
          <a:xfrm>
            <a:off x="990720" y="3505320"/>
            <a:ext cx="434340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Do Earthquakes Occur and How Of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990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80% of all earthquakes occur in the circum-Pacific 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of these result from convergent margin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15% occur in the Mediterranean-Asiatic 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ining 5% occur in the interiors of plates and on spreading ridge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han 150,000 quakes strong enough to be felt are recorded each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MWPG40907"/>
          <p:cNvPicPr/>
          <p:nvPr/>
        </p:nvPicPr>
        <p:blipFill>
          <a:blip r:embed="rId1"/>
          <a:stretch/>
        </p:blipFill>
        <p:spPr>
          <a:xfrm>
            <a:off x="2514600" y="3276720"/>
            <a:ext cx="44197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MWPG40909a"/>
          <p:cNvPicPr/>
          <p:nvPr/>
        </p:nvPicPr>
        <p:blipFill>
          <a:blip r:embed="rId1"/>
          <a:stretch/>
        </p:blipFill>
        <p:spPr>
          <a:xfrm>
            <a:off x="4572000" y="1143000"/>
            <a:ext cx="3886200" cy="2643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cs and Societal Impacts of E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MWPG40922"/>
          <p:cNvPicPr/>
          <p:nvPr/>
        </p:nvPicPr>
        <p:blipFill>
          <a:blip r:embed="rId2"/>
          <a:stretch/>
        </p:blipFill>
        <p:spPr>
          <a:xfrm>
            <a:off x="5486400" y="36576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MWPG40927"/>
          <p:cNvPicPr/>
          <p:nvPr/>
        </p:nvPicPr>
        <p:blipFill>
          <a:blip r:embed="rId3"/>
          <a:stretch/>
        </p:blipFill>
        <p:spPr>
          <a:xfrm>
            <a:off x="1219320" y="3540240"/>
            <a:ext cx="4267080" cy="2950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4572000" y="1143000"/>
            <a:ext cx="375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age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akl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676520" y="1447920"/>
            <a:ext cx="2743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colla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un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nd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60948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Seismic Wa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5998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MWPG40912"/>
          <p:cNvPicPr/>
          <p:nvPr/>
        </p:nvPicPr>
        <p:blipFill>
          <a:blip r:embed="rId1"/>
          <a:stretch/>
        </p:blipFill>
        <p:spPr>
          <a:xfrm>
            <a:off x="1066680" y="1676520"/>
            <a:ext cx="4724640" cy="36399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 Waves: P and S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57440" y="1295280"/>
            <a:ext cx="3505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 or primar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st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through solids, liquids, or g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ssional wave, material movement is in the same direction as wav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 or secondar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than P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through solids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ar waves - move material perpendicular to wav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6094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face Waves: R and L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45720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vel just below or along the ground’s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er than body waves; rolling and side-to-sid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ally damaging to buil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MWPG40913"/>
          <p:cNvPicPr/>
          <p:nvPr/>
        </p:nvPicPr>
        <p:blipFill>
          <a:blip r:embed="rId1"/>
          <a:stretch/>
        </p:blipFill>
        <p:spPr>
          <a:xfrm>
            <a:off x="914400" y="1676520"/>
            <a:ext cx="7848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06:16Z</dcterms:created>
  <dc:creator>Harry Rowe</dc:creator>
  <dc:description/>
  <dc:language>en-US</dc:language>
  <cp:lastModifiedBy>RomaK</cp:lastModifiedBy>
  <dcterms:modified xsi:type="dcterms:W3CDTF">2015-09-04T09:42:11Z</dcterms:modified>
  <cp:revision>13</cp:revision>
  <dc:subject/>
  <dc:title>what are earthquakes</dc:title>
</cp:coreProperties>
</file>