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FB05-A9B1-43FE-910F-3C8013EFC3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zo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azo compoun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the -N=N-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R and R’ are arene groups more stable than alkyl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group is stabilised by becoming part of extended delocalised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a coupling reaction between a diazonium salt and a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-N=N-R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azo compoun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the -N=N-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R and R’ are arene groups more stable than alkyl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group is stabilised by becoming part of extended delocalised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a coupling reaction between a diazonium salt and a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-N=N-R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zonium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ly stable salts are aromatic - not particularly 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se -N+N as N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 rich benzene ring stabilises the -N+N  group but decomposition occurs above about 5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d cold soln. sodium nitrite (NaNO2) to arylamine soln. In dilute acid below 5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zotis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pare fresh and use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nium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stable salts are aromatic - not particularly 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e -N+N as N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rich benzene ring stabilises the -N+N  group but decomposition occurs above about 5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cold soln. sodium nitrite (NaNO2) to arylamine soln. In dilute acid below 5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tis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are fresh and use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w the salt is m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id reacts with sodium nitrite to form unstable nitrous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NO2 (aq) + HCl (aq) HNO2 (aq) + NaCl 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us acid reacts with the aryl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yl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diazoniu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salt is m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reacts with sodium nitrite to form unstable nitrous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NO2 (aq) + HCl (aq) HNO2 (aq) + NaCl 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us acid reacts with the aryl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yl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diazoniu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 coupling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azonium salt reacts with another compound containing a benzene ring called a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nium salt acts as an electrophile - reacts with benzene ring of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ed precipitate of azo compound immediately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use as dy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 coupling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azonium salt reacts with another compound containing a benzene ring called a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nium salt acts as an electrophile - reacts with benzene ring of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ed precipitate of azo compound immediately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use as dy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upling with phen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diazonium salt and alkaline phenol gives a yellow orange azo 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diazonium salt and alkaline naphthalen-2-ol gives a red azo comp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pling with phen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diazonium salt and alkaline phenol gives a yellow orange azo 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diazonium salt and alkaline naphthalen-2-ol gives a red azo comp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upling with am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zonium salts couple with arylam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diazonium salt and phenylamine gives a yellow azo comp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se different diazonium salts and coupling agents to make different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zo compounds are stable so dyes do not f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pling with am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nium salts couple with arylam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diazonium salt and phenylamine gives a yellow azo comp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different diazonium salts and coupling agents to make different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compounds are stable so dyes do not f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7CE4-8699-4945-A06D-41A664341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7D26-DD6E-4D1A-A920-302625EE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F11E-D872-4588-A466-6DF384AB2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51D1-AB57-4614-A036-B4BDAA0BA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99B1-5FBC-4441-9D0D-85CAFE96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5629-7113-403E-B4EB-9A258D3B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34A9-40C0-4E54-9328-12421C44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286C-2035-4E94-A5F4-8DA14E42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4888-96C7-43D0-8269-0877637D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5692-ED0B-47C1-9D8D-6CFF0E0F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AA00-DDB5-41E9-B9E3-EE2CE184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AB3C-00FA-426D-AD27-83C8BA8C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BFA4-2DF3-4F7A-87DD-927DC0623C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10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Azo Compoun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99"/>
                </a:solidFill>
                <a:latin typeface="Times New Roman"/>
              </a:rPr>
              <a:t>What are azo compound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724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tain the -N=N- gro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re R and R’ are arene groups more stable than alkyl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zo group is stabilised by becoming part of extended delocalised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ult of a </a:t>
            </a:r>
            <a:r>
              <a:rPr b="0" i="1" lang="en-GB" sz="2800" spc="-1" strike="noStrike">
                <a:solidFill>
                  <a:srgbClr val="3333cc"/>
                </a:solidFill>
                <a:latin typeface="Times New Roman"/>
              </a:rPr>
              <a:t>coupling reactio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tween a </a:t>
            </a:r>
            <a:r>
              <a:rPr b="0" i="1" lang="en-GB" sz="2800" spc="-1" strike="noStrike">
                <a:solidFill>
                  <a:srgbClr val="3333cc"/>
                </a:solidFill>
                <a:latin typeface="Times New Roman"/>
              </a:rPr>
              <a:t>diazonium sal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a </a:t>
            </a:r>
            <a:r>
              <a:rPr b="0" i="1" lang="en-GB" sz="2800" spc="-1" strike="noStrike">
                <a:solidFill>
                  <a:srgbClr val="3333cc"/>
                </a:solidFill>
                <a:latin typeface="Times New Roman"/>
              </a:rPr>
              <a:t>coupling ag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WordArt 6"/>
          <p:cNvSpPr txBox="1"/>
          <p:nvPr/>
        </p:nvSpPr>
        <p:spPr>
          <a:xfrm>
            <a:off x="4952880" y="2438280"/>
            <a:ext cx="3276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ll MT"/>
              </a:rPr>
              <a:t>R-N=N-R'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ll MT"/>
              <a:ea typeface="Bell MT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5562720" y="2362320"/>
            <a:ext cx="1904760" cy="1371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5638680" y="42670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zo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Times New Roman"/>
              </a:rPr>
              <a:t>Diazonium sa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2361960"/>
            <a:ext cx="80773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Only stable salts are aromatic - not particularly st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Lose -N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N as N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Times New Roman"/>
              </a:rPr>
              <a:t>2(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Electron rich benzene ring stabilises the -N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N  group but decomposition occurs above about 5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dd cold soln. sodium nitrite (NaNO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) to arylamine soln. In dilute acid below 5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3333cc"/>
                </a:solidFill>
                <a:latin typeface="Times New Roman"/>
              </a:rPr>
              <a:t>Diazotis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Prepare fresh and use immediatel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13"/>
          <p:cNvGrpSpPr/>
          <p:nvPr/>
        </p:nvGrpSpPr>
        <p:grpSpPr>
          <a:xfrm>
            <a:off x="3276720" y="1600200"/>
            <a:ext cx="2895120" cy="685800"/>
            <a:chOff x="3276720" y="1600200"/>
            <a:chExt cx="2895120" cy="685800"/>
          </a:xfrm>
        </p:grpSpPr>
        <p:sp>
          <p:nvSpPr>
            <p:cNvPr id="59" name="Line 6"/>
            <p:cNvSpPr/>
            <p:nvPr/>
          </p:nvSpPr>
          <p:spPr>
            <a:xfrm>
              <a:off x="4037040" y="195588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Group 12"/>
            <p:cNvGrpSpPr/>
            <p:nvPr/>
          </p:nvGrpSpPr>
          <p:grpSpPr>
            <a:xfrm>
              <a:off x="3276720" y="1600200"/>
              <a:ext cx="2895120" cy="685800"/>
              <a:chOff x="3276720" y="1600200"/>
              <a:chExt cx="2895120" cy="685800"/>
            </a:xfrm>
          </p:grpSpPr>
          <p:sp>
            <p:nvSpPr>
              <p:cNvPr id="61" name="AutoShape 9"/>
              <p:cNvSpPr/>
              <p:nvPr/>
            </p:nvSpPr>
            <p:spPr>
              <a:xfrm>
                <a:off x="3276720" y="1600200"/>
                <a:ext cx="761760" cy="685800"/>
              </a:xfrm>
              <a:prstGeom prst="hexagon">
                <a:avLst>
                  <a:gd name="adj" fmla="val 27769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Oval 10"/>
              <p:cNvSpPr/>
              <p:nvPr/>
            </p:nvSpPr>
            <p:spPr>
              <a:xfrm>
                <a:off x="3429000" y="1712880"/>
                <a:ext cx="45684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Text Box 11"/>
              <p:cNvSpPr/>
              <p:nvPr/>
            </p:nvSpPr>
            <p:spPr>
              <a:xfrm>
                <a:off x="4179600" y="1714680"/>
                <a:ext cx="1992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GB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0" lang="en-GB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</a:t>
                </a: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N         Cl</a:t>
                </a:r>
                <a:r>
                  <a:rPr b="0" lang="en-GB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33"/>
                </a:solidFill>
                <a:latin typeface="Times New Roman"/>
              </a:rPr>
              <a:t>How the salt is mad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id reacts with sodium nitrite to form unstabl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itrous ac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aNO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2 (aq)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+ HCl 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HNO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+ NaCl 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itrous acid reacts with the aryla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42"/>
          <p:cNvGrpSpPr/>
          <p:nvPr/>
        </p:nvGrpSpPr>
        <p:grpSpPr>
          <a:xfrm>
            <a:off x="1295280" y="3809880"/>
            <a:ext cx="6400440" cy="685800"/>
            <a:chOff x="1295280" y="3809880"/>
            <a:chExt cx="6400440" cy="685800"/>
          </a:xfrm>
        </p:grpSpPr>
        <p:grpSp>
          <p:nvGrpSpPr>
            <p:cNvPr id="67" name="Group 41"/>
            <p:cNvGrpSpPr/>
            <p:nvPr/>
          </p:nvGrpSpPr>
          <p:grpSpPr>
            <a:xfrm>
              <a:off x="1295280" y="3809880"/>
              <a:ext cx="6400440" cy="685800"/>
              <a:chOff x="1295280" y="3809880"/>
              <a:chExt cx="6400440" cy="685800"/>
            </a:xfrm>
          </p:grpSpPr>
          <p:grpSp>
            <p:nvGrpSpPr>
              <p:cNvPr id="68" name="Group 23"/>
              <p:cNvGrpSpPr/>
              <p:nvPr/>
            </p:nvGrpSpPr>
            <p:grpSpPr>
              <a:xfrm>
                <a:off x="1904760" y="3809880"/>
                <a:ext cx="5790960" cy="685800"/>
                <a:chOff x="1904760" y="3809880"/>
                <a:chExt cx="5790960" cy="685800"/>
              </a:xfrm>
            </p:grpSpPr>
            <p:sp>
              <p:nvSpPr>
                <p:cNvPr id="69" name="Line 20"/>
                <p:cNvSpPr/>
                <p:nvPr/>
              </p:nvSpPr>
              <p:spPr>
                <a:xfrm>
                  <a:off x="5560920" y="41655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" name="Group 22"/>
                <p:cNvGrpSpPr/>
                <p:nvPr/>
              </p:nvGrpSpPr>
              <p:grpSpPr>
                <a:xfrm>
                  <a:off x="1904760" y="3809880"/>
                  <a:ext cx="5790960" cy="685800"/>
                  <a:chOff x="1904760" y="3809880"/>
                  <a:chExt cx="5790960" cy="685800"/>
                </a:xfrm>
              </p:grpSpPr>
              <p:sp>
                <p:nvSpPr>
                  <p:cNvPr id="71" name="Text Box 16"/>
                  <p:cNvSpPr/>
                  <p:nvPr/>
                </p:nvSpPr>
                <p:spPr>
                  <a:xfrm>
                    <a:off x="1904760" y="3886200"/>
                    <a:ext cx="5715000" cy="49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         </a:t>
                    </a:r>
                    <a:r>
                      <a:rPr b="0" i="1" lang="en-GB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+ HNO</a:t>
                    </a:r>
                    <a:r>
                      <a:rPr b="0" i="1" lang="en-GB" sz="20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r>
                      <a:rPr b="0" i="1" lang="en-GB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+ H</a:t>
                    </a:r>
                    <a:r>
                      <a:rPr b="0" i="1" lang="en-GB" sz="2000" spc="-1" strike="noStrike" baseline="30000">
                        <a:solidFill>
                          <a:srgbClr val="000000"/>
                        </a:solidFill>
                        <a:latin typeface="Times New Roman"/>
                      </a:rPr>
                      <a:t>+ </a:t>
                    </a:r>
                    <a:r>
                      <a:rPr b="0" i="1" lang="en-GB" sz="2400" spc="-1" strike="noStrike">
                        <a:solidFill>
                          <a:srgbClr val="000000"/>
                        </a:solidFill>
                        <a:latin typeface="Wingdings"/>
                        <a:ea typeface="Wingdings"/>
                      </a:rPr>
                      <a:t>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AutoShape 18"/>
                  <p:cNvSpPr/>
                  <p:nvPr/>
                </p:nvSpPr>
                <p:spPr>
                  <a:xfrm>
                    <a:off x="4800240" y="3809880"/>
                    <a:ext cx="762120" cy="685800"/>
                  </a:xfrm>
                  <a:prstGeom prst="hexagon">
                    <a:avLst>
                      <a:gd name="adj" fmla="val 27782"/>
                      <a:gd name="vf" fmla="val 11547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Oval 19"/>
                  <p:cNvSpPr/>
                  <p:nvPr/>
                </p:nvSpPr>
                <p:spPr>
                  <a:xfrm>
                    <a:off x="4952520" y="3922560"/>
                    <a:ext cx="457200" cy="4572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Text Box 21"/>
                  <p:cNvSpPr/>
                  <p:nvPr/>
                </p:nvSpPr>
                <p:spPr>
                  <a:xfrm>
                    <a:off x="5703480" y="3924360"/>
                    <a:ext cx="1992240" cy="475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37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</a:t>
                    </a:r>
                    <a:r>
                      <a:rPr b="0" lang="en-GB" sz="2200" spc="-1" strike="noStrike" baseline="30000">
                        <a:solidFill>
                          <a:srgbClr val="000000"/>
                        </a:solidFill>
                        <a:latin typeface="Times New Roman"/>
                      </a:rPr>
                      <a:t>+</a:t>
                    </a:r>
                    <a:r>
                      <a:rPr b="0" lang="en-GB" sz="2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</a:t>
                    </a:r>
                    <a:r>
                      <a:rPr b="0" lang="en-GB" sz="2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 + 2 H</a:t>
                    </a:r>
                    <a:r>
                      <a:rPr b="0" lang="en-GB" sz="22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r>
                      <a:rPr b="0" lang="en-GB" sz="2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O</a:t>
                    </a:r>
                    <a:endParaRPr b="0" lang="en-US" sz="2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5" name="Group 39"/>
              <p:cNvGrpSpPr/>
              <p:nvPr/>
            </p:nvGrpSpPr>
            <p:grpSpPr>
              <a:xfrm>
                <a:off x="1295280" y="3809880"/>
                <a:ext cx="1600200" cy="685800"/>
                <a:chOff x="1295280" y="3809880"/>
                <a:chExt cx="1600200" cy="685800"/>
              </a:xfrm>
            </p:grpSpPr>
            <p:sp>
              <p:nvSpPr>
                <p:cNvPr id="76" name="AutoShape 29"/>
                <p:cNvSpPr/>
                <p:nvPr/>
              </p:nvSpPr>
              <p:spPr>
                <a:xfrm>
                  <a:off x="1295280" y="3809880"/>
                  <a:ext cx="762120" cy="685800"/>
                </a:xfrm>
                <a:prstGeom prst="hexagon">
                  <a:avLst>
                    <a:gd name="adj" fmla="val 27782"/>
                    <a:gd name="vf" fmla="val 11547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30"/>
                <p:cNvSpPr/>
                <p:nvPr/>
              </p:nvSpPr>
              <p:spPr>
                <a:xfrm>
                  <a:off x="1447920" y="3922560"/>
                  <a:ext cx="457200" cy="457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Text Box 31"/>
                <p:cNvSpPr/>
                <p:nvPr/>
              </p:nvSpPr>
              <p:spPr>
                <a:xfrm>
                  <a:off x="2198520" y="3924000"/>
                  <a:ext cx="696960" cy="47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Times New Roman"/>
                    </a:rPr>
                    <a:t>NH</a:t>
                  </a:r>
                  <a:r>
                    <a:rPr b="0" lang="en-GB" sz="2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9" name="Line 26"/>
            <p:cNvSpPr/>
            <p:nvPr/>
          </p:nvSpPr>
          <p:spPr>
            <a:xfrm>
              <a:off x="2054160" y="4159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Text Box 43"/>
          <p:cNvSpPr/>
          <p:nvPr/>
        </p:nvSpPr>
        <p:spPr>
          <a:xfrm>
            <a:off x="914400" y="4800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phenyla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4"/>
          <p:cNvSpPr/>
          <p:nvPr/>
        </p:nvSpPr>
        <p:spPr>
          <a:xfrm>
            <a:off x="4419720" y="4800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benzenediazonium 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" descr="coupling"/>
          <p:cNvPicPr/>
          <p:nvPr/>
        </p:nvPicPr>
        <p:blipFill>
          <a:blip r:embed="rId1"/>
          <a:stretch/>
        </p:blipFill>
        <p:spPr>
          <a:xfrm>
            <a:off x="0" y="2125800"/>
            <a:ext cx="5062680" cy="2128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Times New Roman"/>
              </a:rPr>
              <a:t>Diazo coupling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1640" y="159984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diazonium salt reacts with another compound containing a benzene ring called a 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coupling ag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azonium salt acts as an electrophile - reacts with benzene ring of coupling ag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loured precipitate of azo compound immediately fo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ortant use as d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Coupling with phen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nzenediazonium salt and alkaline phenol gives a yellow orange azo comp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nzenediazonium salt and alkaline naphthalen-2-ol gives a red azo compou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diazonium"/>
          <p:cNvPicPr/>
          <p:nvPr/>
        </p:nvPicPr>
        <p:blipFill>
          <a:blip r:embed="rId1"/>
          <a:stretch/>
        </p:blipFill>
        <p:spPr>
          <a:xfrm>
            <a:off x="457200" y="3060720"/>
            <a:ext cx="8229600" cy="1419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red azo"/>
          <p:cNvPicPr/>
          <p:nvPr/>
        </p:nvPicPr>
        <p:blipFill>
          <a:blip r:embed="rId2"/>
          <a:stretch/>
        </p:blipFill>
        <p:spPr>
          <a:xfrm>
            <a:off x="685800" y="4267080"/>
            <a:ext cx="7848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00"/>
                </a:solidFill>
                <a:latin typeface="Times New Roman"/>
              </a:rPr>
              <a:t>Coupling with am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azonium salts couple with arylam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nzenediazonium salt and phenylamine gives a yellow azo comp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different diazonium salts and coupling agents to make different col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zo compounds are stable so dyes do not fad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yellow azo"/>
          <p:cNvPicPr/>
          <p:nvPr/>
        </p:nvPicPr>
        <p:blipFill>
          <a:blip r:embed="rId1"/>
          <a:stretch/>
        </p:blipFill>
        <p:spPr>
          <a:xfrm>
            <a:off x="380880" y="4419720"/>
            <a:ext cx="856296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3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8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20:46:38Z</dcterms:created>
  <dc:creator>M Tyrrell</dc:creator>
  <dc:description/>
  <dc:language>en-US</dc:language>
  <cp:lastModifiedBy>LEGION</cp:lastModifiedBy>
  <dcterms:modified xsi:type="dcterms:W3CDTF">2015-09-04T09:50:56Z</dcterms:modified>
  <cp:revision>17</cp:revision>
  <dc:subject/>
  <dc:title>Azo Compounds</dc:title>
</cp:coreProperties>
</file>