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155FB-22DD-43B4-AEFA-F0187BD9BFB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zo Compou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zo Compou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azo compound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 the -N=N-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R and R’ are arene groups more stable than alkyl group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zo group is stabilised by becoming part of extended delocalised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ult of a coupling reaction between a diazonium salt and a coupling ag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-N=N-R'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zo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azo compound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 the -N=N-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R and R’ are arene groups more stable than alkyl group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zo group is stabilised by becoming part of extended delocalised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ult of a coupling reaction between a diazonium salt and a coupling ag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-N=N-R'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zo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azonium sa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nly stable salts are aromatic - not particularly sta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ose -N+N as N2(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lectron rich benzene ring stabilises the -N+N  group but decomposition occurs above about 5o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dd cold soln. sodium nitrite (NaNO2) to arylamine soln. In dilute acid below 5o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azotis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repare fresh and use immediate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azonium sa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stable salts are aromatic - not particularly sta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se -N+N as N2(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 rich benzene ring stabilises the -N+N  group but decomposition occurs above about 5o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 cold soln. sodium nitrite (NaNO2) to arylamine soln. In dilute acid below 5o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azotis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pare fresh and use immediate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ow the salt is ma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cid reacts with sodium nitrite to form unstable nitrous aci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NO2 (aq) + HCl (aq) HNO2 (aq) + NaCl (aq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itrous acid reacts with the arylami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henylam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enzenediazonium 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he salt is ma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id reacts with sodium nitrite to form unstable nitrous aci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NO2 (aq) + HCl (aq) HNO2 (aq) + NaCl (aq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itrous acid reacts with the arylami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enylam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nzenediazonium 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azo coupling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iazonium salt reacts with another compound containing a benzene ring called a coupling ag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azonium salt acts as an electrophile - reacts with benzene ring of coupling ag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oured precipitate of azo compound immediately for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ortant use as dy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azo coupling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iazonium salt reacts with another compound containing a benzene ring called a coupling ag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azonium salt acts as an electrophile - reacts with benzene ring of coupling ag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oured precipitate of azo compound immediately for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ortant use as dy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upling with phen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enzenediazonium salt and alkaline phenol gives a yellow orange azo compo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enzenediazonium salt and alkaline naphthalen-2-ol gives a red azo compou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pling with phen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nzenediazonium salt and alkaline phenol gives a yellow orange azo compo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nzenediazonium salt and alkaline naphthalen-2-ol gives a red azo compou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upling with am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azonium salts couple with arylamin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enzenediazonium salt and phenylamine gives a yellow azo compou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Use different diazonium salts and coupling agents to make different colou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zo compounds are stable so dyes do not fa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pling with am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azonium salts couple with arylamin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nzenediazonium salt and phenylamine gives a yellow azo compou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different diazonium salts and coupling agents to make different colou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zo compounds are stable so dyes do not fa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720E2-B3D2-4FC1-A184-35BBB96C8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CA242-C946-4B32-8A70-F89F1F3B9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985D5-A648-4168-BE15-D0AE2CC37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5A500-8FAA-410E-B596-830D70FCF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AF629-CDA3-4D47-8F40-66ADF6DC6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02872-3A86-445B-8289-B656FCF8E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D8708-13D3-47F7-8378-17D94E142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0D082-1B04-461E-BB05-B566B8A5F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22AD6-4C6A-41AB-870F-B9AE246F5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85FE8-D9C2-42FE-BB9B-F70C06157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39267-7BA4-4031-8826-472442298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930C9-58EB-47CB-B89D-CE39993A2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04206-9510-430B-B462-D06711868DE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Object 10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0000"/>
                </a:solidFill>
                <a:latin typeface="Times New Roman"/>
              </a:rPr>
              <a:t>Azo Compound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3399"/>
                </a:solidFill>
                <a:latin typeface="Times New Roman"/>
              </a:rPr>
              <a:t>What are azo compound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4724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ontain the -N=N- grou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here R and R’ are arene groups more stable than alkyl group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zo group is stabilised by becoming part of extended delocalised syste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ult of a </a:t>
            </a:r>
            <a:r>
              <a:rPr b="0" i="1" lang="en-GB" sz="2800" spc="-1" strike="noStrike">
                <a:solidFill>
                  <a:srgbClr val="3333cc"/>
                </a:solidFill>
                <a:latin typeface="Times New Roman"/>
              </a:rPr>
              <a:t>coupling reaction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between a </a:t>
            </a:r>
            <a:r>
              <a:rPr b="0" i="1" lang="en-GB" sz="2800" spc="-1" strike="noStrike">
                <a:solidFill>
                  <a:srgbClr val="3333cc"/>
                </a:solidFill>
                <a:latin typeface="Times New Roman"/>
              </a:rPr>
              <a:t>diazonium salt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and a </a:t>
            </a:r>
            <a:r>
              <a:rPr b="0" i="1" lang="en-GB" sz="2800" spc="-1" strike="noStrike">
                <a:solidFill>
                  <a:srgbClr val="3333cc"/>
                </a:solidFill>
                <a:latin typeface="Times New Roman"/>
              </a:rPr>
              <a:t>coupling ag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WordArt 6"/>
          <p:cNvSpPr txBox="1"/>
          <p:nvPr/>
        </p:nvSpPr>
        <p:spPr>
          <a:xfrm>
            <a:off x="4952880" y="2438280"/>
            <a:ext cx="32767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ell MT"/>
              </a:rPr>
              <a:t>R-N=N-R'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ell MT"/>
              <a:ea typeface="Bell MT"/>
            </a:endParaRPr>
          </a:p>
        </p:txBody>
      </p:sp>
      <p:sp>
        <p:nvSpPr>
          <p:cNvPr id="54" name="Rectangle 7"/>
          <p:cNvSpPr/>
          <p:nvPr/>
        </p:nvSpPr>
        <p:spPr>
          <a:xfrm>
            <a:off x="5562720" y="2362320"/>
            <a:ext cx="1904760" cy="1371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8"/>
          <p:cNvSpPr/>
          <p:nvPr/>
        </p:nvSpPr>
        <p:spPr>
          <a:xfrm>
            <a:off x="5638680" y="426708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zo gro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a50021"/>
                </a:solidFill>
                <a:latin typeface="Times New Roman"/>
              </a:rPr>
              <a:t>Diazonium sal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120" y="2361960"/>
            <a:ext cx="807732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Only stable salts are aromatic - not particularly stabl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49"/>
              </a:spcBef>
              <a:spcAft>
                <a:spcPts val="814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Lose -N</a:t>
            </a:r>
            <a:r>
              <a:rPr b="0" lang="en-GB" sz="26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N as N</a:t>
            </a:r>
            <a:r>
              <a:rPr b="0" lang="en-GB" sz="2600" spc="-1" strike="noStrike" baseline="-25000">
                <a:solidFill>
                  <a:srgbClr val="000000"/>
                </a:solidFill>
                <a:latin typeface="Times New Roman"/>
              </a:rPr>
              <a:t>2(g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Electron rich benzene ring stabilises the -N</a:t>
            </a:r>
            <a:r>
              <a:rPr b="0" lang="en-GB" sz="26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N  group but decomposition occurs above about 5</a:t>
            </a:r>
            <a:r>
              <a:rPr b="0" lang="en-GB" sz="26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Add cold soln. sodium nitrite (NaNO</a:t>
            </a:r>
            <a:r>
              <a:rPr b="0" lang="en-GB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) to arylamine soln. In dilute acid below 5</a:t>
            </a:r>
            <a:r>
              <a:rPr b="0" lang="en-GB" sz="26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4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600" spc="-1" strike="noStrike">
                <a:solidFill>
                  <a:srgbClr val="3333cc"/>
                </a:solidFill>
                <a:latin typeface="Times New Roman"/>
              </a:rPr>
              <a:t>Diazotisation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Prepare fresh and use immediately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Group 13"/>
          <p:cNvGrpSpPr/>
          <p:nvPr/>
        </p:nvGrpSpPr>
        <p:grpSpPr>
          <a:xfrm>
            <a:off x="3276720" y="1600200"/>
            <a:ext cx="2895120" cy="685800"/>
            <a:chOff x="3276720" y="1600200"/>
            <a:chExt cx="2895120" cy="685800"/>
          </a:xfrm>
        </p:grpSpPr>
        <p:sp>
          <p:nvSpPr>
            <p:cNvPr id="59" name="Line 6"/>
            <p:cNvSpPr/>
            <p:nvPr/>
          </p:nvSpPr>
          <p:spPr>
            <a:xfrm>
              <a:off x="4037040" y="1955880"/>
              <a:ext cx="228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" name="Group 12"/>
            <p:cNvGrpSpPr/>
            <p:nvPr/>
          </p:nvGrpSpPr>
          <p:grpSpPr>
            <a:xfrm>
              <a:off x="3276720" y="1600200"/>
              <a:ext cx="2895120" cy="685800"/>
              <a:chOff x="3276720" y="1600200"/>
              <a:chExt cx="2895120" cy="685800"/>
            </a:xfrm>
          </p:grpSpPr>
          <p:sp>
            <p:nvSpPr>
              <p:cNvPr id="61" name="AutoShape 9"/>
              <p:cNvSpPr/>
              <p:nvPr/>
            </p:nvSpPr>
            <p:spPr>
              <a:xfrm>
                <a:off x="3276720" y="1600200"/>
                <a:ext cx="761760" cy="685800"/>
              </a:xfrm>
              <a:prstGeom prst="hexagon">
                <a:avLst>
                  <a:gd name="adj" fmla="val 27769"/>
                  <a:gd name="vf" fmla="val 11547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           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Oval 10"/>
              <p:cNvSpPr/>
              <p:nvPr/>
            </p:nvSpPr>
            <p:spPr>
              <a:xfrm>
                <a:off x="3429000" y="1712880"/>
                <a:ext cx="456840" cy="4572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         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Text Box 11"/>
              <p:cNvSpPr/>
              <p:nvPr/>
            </p:nvSpPr>
            <p:spPr>
              <a:xfrm>
                <a:off x="4179600" y="1714680"/>
                <a:ext cx="199224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3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2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r>
                  <a:rPr b="0" lang="en-GB" sz="2200" spc="-1" strike="noStrike" baseline="30000">
                    <a:solidFill>
                      <a:srgbClr val="000000"/>
                    </a:solidFill>
                    <a:latin typeface="Times New Roman"/>
                  </a:rPr>
                  <a:t>+</a:t>
                </a:r>
                <a:r>
                  <a:rPr b="0" lang="en-GB" sz="2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</a:t>
                </a:r>
                <a:r>
                  <a:rPr b="0" lang="en-GB" sz="2200" spc="-1" strike="noStrike">
                    <a:solidFill>
                      <a:srgbClr val="000000"/>
                    </a:solidFill>
                    <a:latin typeface="Times New Roman"/>
                  </a:rPr>
                  <a:t>N         Cl</a:t>
                </a:r>
                <a:r>
                  <a:rPr b="0" lang="en-GB" sz="2200" spc="-1" strike="noStrike" baseline="30000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ff33"/>
                </a:solidFill>
                <a:latin typeface="Times New Roman"/>
              </a:rPr>
              <a:t>How the salt is mad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2120" y="15998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cid reacts with sodium nitrite to form unstable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nitrous aci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spcAft>
                <a:spcPts val="876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NaNO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Times New Roman"/>
              </a:rPr>
              <a:t>2 (aq)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+ HCl 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Times New Roman"/>
              </a:rPr>
              <a:t>(aq)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HNO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Times New Roman"/>
              </a:rPr>
              <a:t>(aq)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+ NaCl 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Times New Roman"/>
              </a:rPr>
              <a:t>(aq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Nitrous acid reacts with the arylami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" name="Group 42"/>
          <p:cNvGrpSpPr/>
          <p:nvPr/>
        </p:nvGrpSpPr>
        <p:grpSpPr>
          <a:xfrm>
            <a:off x="1295280" y="3809880"/>
            <a:ext cx="6400440" cy="685800"/>
            <a:chOff x="1295280" y="3809880"/>
            <a:chExt cx="6400440" cy="685800"/>
          </a:xfrm>
        </p:grpSpPr>
        <p:grpSp>
          <p:nvGrpSpPr>
            <p:cNvPr id="67" name="Group 41"/>
            <p:cNvGrpSpPr/>
            <p:nvPr/>
          </p:nvGrpSpPr>
          <p:grpSpPr>
            <a:xfrm>
              <a:off x="1295280" y="3809880"/>
              <a:ext cx="6400440" cy="685800"/>
              <a:chOff x="1295280" y="3809880"/>
              <a:chExt cx="6400440" cy="685800"/>
            </a:xfrm>
          </p:grpSpPr>
          <p:grpSp>
            <p:nvGrpSpPr>
              <p:cNvPr id="68" name="Group 23"/>
              <p:cNvGrpSpPr/>
              <p:nvPr/>
            </p:nvGrpSpPr>
            <p:grpSpPr>
              <a:xfrm>
                <a:off x="1904760" y="3809880"/>
                <a:ext cx="5790960" cy="685800"/>
                <a:chOff x="1904760" y="3809880"/>
                <a:chExt cx="5790960" cy="685800"/>
              </a:xfrm>
            </p:grpSpPr>
            <p:sp>
              <p:nvSpPr>
                <p:cNvPr id="69" name="Line 20"/>
                <p:cNvSpPr/>
                <p:nvPr/>
              </p:nvSpPr>
              <p:spPr>
                <a:xfrm>
                  <a:off x="5560920" y="416556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0" name="Group 22"/>
                <p:cNvGrpSpPr/>
                <p:nvPr/>
              </p:nvGrpSpPr>
              <p:grpSpPr>
                <a:xfrm>
                  <a:off x="1904760" y="3809880"/>
                  <a:ext cx="5790960" cy="685800"/>
                  <a:chOff x="1904760" y="3809880"/>
                  <a:chExt cx="5790960" cy="685800"/>
                </a:xfrm>
              </p:grpSpPr>
              <p:sp>
                <p:nvSpPr>
                  <p:cNvPr id="71" name="Text Box 16"/>
                  <p:cNvSpPr/>
                  <p:nvPr/>
                </p:nvSpPr>
                <p:spPr>
                  <a:xfrm>
                    <a:off x="1904760" y="3886200"/>
                    <a:ext cx="5715000" cy="491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GB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               </a:t>
                    </a:r>
                    <a:r>
                      <a:rPr b="0" i="1" lang="en-GB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+ HNO</a:t>
                    </a:r>
                    <a:r>
                      <a:rPr b="0" i="1" lang="en-GB" sz="2000" spc="-1" strike="noStrike" baseline="-25000">
                        <a:solidFill>
                          <a:srgbClr val="000000"/>
                        </a:solidFill>
                        <a:latin typeface="Times New Roman"/>
                      </a:rPr>
                      <a:t>2</a:t>
                    </a:r>
                    <a:r>
                      <a:rPr b="0" i="1" lang="en-GB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 + H</a:t>
                    </a:r>
                    <a:r>
                      <a:rPr b="0" i="1" lang="en-GB" sz="2000" spc="-1" strike="noStrike" baseline="30000">
                        <a:solidFill>
                          <a:srgbClr val="000000"/>
                        </a:solidFill>
                        <a:latin typeface="Times New Roman"/>
                      </a:rPr>
                      <a:t>+ </a:t>
                    </a:r>
                    <a:r>
                      <a:rPr b="0" i="1" lang="en-GB" sz="2400" spc="-1" strike="noStrike">
                        <a:solidFill>
                          <a:srgbClr val="000000"/>
                        </a:solidFill>
                        <a:latin typeface="Wingdings"/>
                        <a:ea typeface="Wingdings"/>
                      </a:rPr>
                      <a:t>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" name="AutoShape 18"/>
                  <p:cNvSpPr/>
                  <p:nvPr/>
                </p:nvSpPr>
                <p:spPr>
                  <a:xfrm>
                    <a:off x="4800240" y="3809880"/>
                    <a:ext cx="762120" cy="685800"/>
                  </a:xfrm>
                  <a:prstGeom prst="hexagon">
                    <a:avLst>
                      <a:gd name="adj" fmla="val 27782"/>
                      <a:gd name="vf" fmla="val 115470"/>
                    </a:avLst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" name="Oval 19"/>
                  <p:cNvSpPr/>
                  <p:nvPr/>
                </p:nvSpPr>
                <p:spPr>
                  <a:xfrm>
                    <a:off x="4952520" y="3922560"/>
                    <a:ext cx="457200" cy="45720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" name="Text Box 21"/>
                  <p:cNvSpPr/>
                  <p:nvPr/>
                </p:nvSpPr>
                <p:spPr>
                  <a:xfrm>
                    <a:off x="5703480" y="3924360"/>
                    <a:ext cx="1992240" cy="475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37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2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N</a:t>
                    </a:r>
                    <a:r>
                      <a:rPr b="0" lang="en-GB" sz="2200" spc="-1" strike="noStrike" baseline="30000">
                        <a:solidFill>
                          <a:srgbClr val="000000"/>
                        </a:solidFill>
                        <a:latin typeface="Times New Roman"/>
                      </a:rPr>
                      <a:t>+</a:t>
                    </a:r>
                    <a:r>
                      <a:rPr b="0" lang="en-GB" sz="2200" spc="-1" strike="noStrike">
                        <a:solidFill>
                          <a:srgbClr val="000000"/>
                        </a:solidFill>
                        <a:latin typeface="Symbol"/>
                        <a:ea typeface="Symbol"/>
                      </a:rPr>
                      <a:t></a:t>
                    </a:r>
                    <a:r>
                      <a:rPr b="0" lang="en-GB" sz="2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N + 2 H</a:t>
                    </a:r>
                    <a:r>
                      <a:rPr b="0" lang="en-GB" sz="2200" spc="-1" strike="noStrike" baseline="-25000">
                        <a:solidFill>
                          <a:srgbClr val="000000"/>
                        </a:solidFill>
                        <a:latin typeface="Times New Roman"/>
                      </a:rPr>
                      <a:t>2</a:t>
                    </a:r>
                    <a:r>
                      <a:rPr b="0" lang="en-GB" sz="2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O</a:t>
                    </a:r>
                    <a:endParaRPr b="0" lang="en-US" sz="2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75" name="Group 39"/>
              <p:cNvGrpSpPr/>
              <p:nvPr/>
            </p:nvGrpSpPr>
            <p:grpSpPr>
              <a:xfrm>
                <a:off x="1295280" y="3809880"/>
                <a:ext cx="1600200" cy="685800"/>
                <a:chOff x="1295280" y="3809880"/>
                <a:chExt cx="1600200" cy="685800"/>
              </a:xfrm>
            </p:grpSpPr>
            <p:sp>
              <p:nvSpPr>
                <p:cNvPr id="76" name="AutoShape 29"/>
                <p:cNvSpPr/>
                <p:nvPr/>
              </p:nvSpPr>
              <p:spPr>
                <a:xfrm>
                  <a:off x="1295280" y="3809880"/>
                  <a:ext cx="762120" cy="685800"/>
                </a:xfrm>
                <a:prstGeom prst="hexagon">
                  <a:avLst>
                    <a:gd name="adj" fmla="val 27782"/>
                    <a:gd name="vf" fmla="val 115470"/>
                  </a:avLst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Oval 30"/>
                <p:cNvSpPr/>
                <p:nvPr/>
              </p:nvSpPr>
              <p:spPr>
                <a:xfrm>
                  <a:off x="1447920" y="3922560"/>
                  <a:ext cx="457200" cy="45720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Text Box 31"/>
                <p:cNvSpPr/>
                <p:nvPr/>
              </p:nvSpPr>
              <p:spPr>
                <a:xfrm>
                  <a:off x="2198520" y="3924000"/>
                  <a:ext cx="696960" cy="47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3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200" spc="-1" strike="noStrike">
                      <a:solidFill>
                        <a:srgbClr val="000000"/>
                      </a:solidFill>
                      <a:latin typeface="Times New Roman"/>
                    </a:rPr>
                    <a:t>NH</a:t>
                  </a:r>
                  <a:r>
                    <a:rPr b="0" lang="en-GB" sz="22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9" name="Line 26"/>
            <p:cNvSpPr/>
            <p:nvPr/>
          </p:nvSpPr>
          <p:spPr>
            <a:xfrm>
              <a:off x="2054160" y="41590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" name="Text Box 43"/>
          <p:cNvSpPr/>
          <p:nvPr/>
        </p:nvSpPr>
        <p:spPr>
          <a:xfrm>
            <a:off x="914400" y="48006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3333cc"/>
                </a:solidFill>
                <a:latin typeface="Times New Roman"/>
              </a:rPr>
              <a:t>phenylam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4"/>
          <p:cNvSpPr/>
          <p:nvPr/>
        </p:nvSpPr>
        <p:spPr>
          <a:xfrm>
            <a:off x="4419720" y="480060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3333cc"/>
                </a:solidFill>
                <a:latin typeface="Times New Roman"/>
              </a:rPr>
              <a:t>benzenediazonium 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10" descr="coupling"/>
          <p:cNvPicPr/>
          <p:nvPr/>
        </p:nvPicPr>
        <p:blipFill>
          <a:blip r:embed="rId1"/>
          <a:stretch/>
        </p:blipFill>
        <p:spPr>
          <a:xfrm>
            <a:off x="0" y="2125800"/>
            <a:ext cx="5062680" cy="212868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3300"/>
                </a:solidFill>
                <a:latin typeface="Times New Roman"/>
              </a:rPr>
              <a:t>Diazo coupling rea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1640" y="1599840"/>
            <a:ext cx="4343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 diazonium salt reacts with another compound containing a benzene ring called a </a:t>
            </a:r>
            <a:r>
              <a:rPr b="0" lang="en-GB" sz="2400" spc="-1" strike="noStrike">
                <a:solidFill>
                  <a:srgbClr val="3333cc"/>
                </a:solidFill>
                <a:latin typeface="Times New Roman"/>
              </a:rPr>
              <a:t>coupling ag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iazonium salt acts as an electrophile - reacts with benzene ring of coupling ag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loured precipitate of azo compound immediately for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mportant use as dy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5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0" dur="5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5" dur="5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0" dur="5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Times New Roman"/>
              </a:rPr>
              <a:t>Coupling with pheno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Benzenediazonium salt and alkaline phenol gives a yellow orange azo compou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Benzenediazonium salt and alkaline naphthalen-2-ol gives a red azo compoun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5" descr="diazonium"/>
          <p:cNvPicPr/>
          <p:nvPr/>
        </p:nvPicPr>
        <p:blipFill>
          <a:blip r:embed="rId1"/>
          <a:stretch/>
        </p:blipFill>
        <p:spPr>
          <a:xfrm>
            <a:off x="457200" y="3060720"/>
            <a:ext cx="8229600" cy="14191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6" descr="red azo"/>
          <p:cNvPicPr/>
          <p:nvPr/>
        </p:nvPicPr>
        <p:blipFill>
          <a:blip r:embed="rId2"/>
          <a:stretch/>
        </p:blipFill>
        <p:spPr>
          <a:xfrm>
            <a:off x="685800" y="4267080"/>
            <a:ext cx="784872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9900"/>
                </a:solidFill>
                <a:latin typeface="Times New Roman"/>
              </a:rPr>
              <a:t>Coupling with ami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iazonium salts couple with arylami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enzenediazonium salt and phenylamine gives a yellow azo compou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Use different diazonium salts and coupling agents to make different colou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zo compounds are stable so dyes do not fade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5" descr="yellow azo"/>
          <p:cNvPicPr/>
          <p:nvPr/>
        </p:nvPicPr>
        <p:blipFill>
          <a:blip r:embed="rId1"/>
          <a:stretch/>
        </p:blipFill>
        <p:spPr>
          <a:xfrm>
            <a:off x="380880" y="4419720"/>
            <a:ext cx="8562960" cy="123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3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8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3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8" dur="5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09T20:46:38Z</dcterms:created>
  <dc:creator>M Tyrrell</dc:creator>
  <dc:description/>
  <dc:language>en-US</dc:language>
  <cp:lastModifiedBy>LEGION</cp:lastModifiedBy>
  <dcterms:modified xsi:type="dcterms:W3CDTF">2015-09-04T09:50:56Z</dcterms:modified>
  <cp:revision>17</cp:revision>
  <dc:subject/>
  <dc:title>Azo Compounds</dc:title>
</cp:coreProperties>
</file>