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8CF8-0E81-45C8-A54C-F740CB2AE6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91C-08F4-4549-9135-6818F426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590-F4EF-480F-82C5-038CE922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F26-B8BC-4543-9884-E9AAE3C5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409-2302-465A-9A0C-F4897355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BE7-09A7-44D6-B781-86DA2CC7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A70-0D92-4270-9F82-BCDBBF13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C52-A02F-43AB-92F7-D9005446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205-F4DE-450E-9B87-BFC067DC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A3B-960D-47AD-97B5-7CC96C73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1BB-3C8D-4954-A2CC-5D19F7D5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626-2BD0-4238-BE43-08F13BC3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584-DD51-4821-A0A6-43F516F1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B110-5C89-4209-9287-E168F6FDF3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zo Compou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Times New Roman"/>
              </a:rPr>
              <a:t>What are azo compou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 of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rea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diazonium sal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4952880" y="24382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ll MT"/>
              </a:rPr>
              <a:t>R-N=N-R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ll MT"/>
              <a:ea typeface="Bell MT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562720" y="2362320"/>
            <a:ext cx="1904760" cy="1371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638680" y="42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Diazonium sa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os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as N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ectron rich benzene ring stabilises th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 group but decomposition occurs above about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d cold soln. sodium nitrite (NaN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to arylamine soln. In dilute acid below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3333cc"/>
                </a:solidFill>
                <a:latin typeface="Times New Roman"/>
              </a:rPr>
              <a:t>Diazotis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3"/>
          <p:cNvGrpSpPr/>
          <p:nvPr/>
        </p:nvGrpSpPr>
        <p:grpSpPr>
          <a:xfrm>
            <a:off x="3276720" y="1600200"/>
            <a:ext cx="2895120" cy="685800"/>
            <a:chOff x="3276720" y="1600200"/>
            <a:chExt cx="2895120" cy="685800"/>
          </a:xfrm>
        </p:grpSpPr>
        <p:sp>
          <p:nvSpPr>
            <p:cNvPr id="59" name="Line 6"/>
            <p:cNvSpPr/>
            <p:nvPr/>
          </p:nvSpPr>
          <p:spPr>
            <a:xfrm>
              <a:off x="4037040" y="19558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12"/>
            <p:cNvGrpSpPr/>
            <p:nvPr/>
          </p:nvGrpSpPr>
          <p:grpSpPr>
            <a:xfrm>
              <a:off x="3276720" y="1600200"/>
              <a:ext cx="2895120" cy="685800"/>
              <a:chOff x="3276720" y="1600200"/>
              <a:chExt cx="2895120" cy="68580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3276720" y="1600200"/>
                <a:ext cx="761760" cy="685800"/>
              </a:xfrm>
              <a:prstGeom prst="hexagon">
                <a:avLst>
                  <a:gd name="adj" fmla="val 27769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10"/>
              <p:cNvSpPr/>
              <p:nvPr/>
            </p:nvSpPr>
            <p:spPr>
              <a:xfrm>
                <a:off x="3429000" y="17128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1"/>
              <p:cNvSpPr/>
              <p:nvPr/>
            </p:nvSpPr>
            <p:spPr>
              <a:xfrm>
                <a:off x="4179600" y="1714680"/>
                <a:ext cx="1992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         Cl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33"/>
                </a:solidFill>
                <a:latin typeface="Times New Roman"/>
              </a:rPr>
              <a:t>How the salt is m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itrous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 (aq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+ H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Na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2"/>
          <p:cNvGrpSpPr/>
          <p:nvPr/>
        </p:nvGrpSpPr>
        <p:grpSpPr>
          <a:xfrm>
            <a:off x="1295280" y="3809880"/>
            <a:ext cx="6400440" cy="685800"/>
            <a:chOff x="1295280" y="3809880"/>
            <a:chExt cx="6400440" cy="685800"/>
          </a:xfrm>
        </p:grpSpPr>
        <p:grpSp>
          <p:nvGrpSpPr>
            <p:cNvPr id="67" name="Group 41"/>
            <p:cNvGrpSpPr/>
            <p:nvPr/>
          </p:nvGrpSpPr>
          <p:grpSpPr>
            <a:xfrm>
              <a:off x="1295280" y="3809880"/>
              <a:ext cx="6400440" cy="685800"/>
              <a:chOff x="1295280" y="3809880"/>
              <a:chExt cx="6400440" cy="685800"/>
            </a:xfrm>
          </p:grpSpPr>
          <p:grpSp>
            <p:nvGrpSpPr>
              <p:cNvPr id="68" name="Group 23"/>
              <p:cNvGrpSpPr/>
              <p:nvPr/>
            </p:nvGrpSpPr>
            <p:grpSpPr>
              <a:xfrm>
                <a:off x="1904760" y="3809880"/>
                <a:ext cx="5790960" cy="685800"/>
                <a:chOff x="1904760" y="3809880"/>
                <a:chExt cx="5790960" cy="685800"/>
              </a:xfrm>
            </p:grpSpPr>
            <p:sp>
              <p:nvSpPr>
                <p:cNvPr id="69" name="Line 20"/>
                <p:cNvSpPr/>
                <p:nvPr/>
              </p:nvSpPr>
              <p:spPr>
                <a:xfrm>
                  <a:off x="5560920" y="4165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22"/>
                <p:cNvGrpSpPr/>
                <p:nvPr/>
              </p:nvGrpSpPr>
              <p:grpSpPr>
                <a:xfrm>
                  <a:off x="1904760" y="3809880"/>
                  <a:ext cx="5790960" cy="685800"/>
                  <a:chOff x="1904760" y="3809880"/>
                  <a:chExt cx="5790960" cy="685800"/>
                </a:xfrm>
              </p:grpSpPr>
              <p:sp>
                <p:nvSpPr>
                  <p:cNvPr id="71" name="Text Box 16"/>
                  <p:cNvSpPr/>
                  <p:nvPr/>
                </p:nvSpPr>
                <p:spPr>
                  <a:xfrm>
                    <a:off x="1904760" y="3886200"/>
                    <a:ext cx="5715000" cy="49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HNO</a:t>
                    </a:r>
                    <a:r>
                      <a:rPr b="0" i="1" lang="en-GB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+ H</a:t>
                    </a:r>
                    <a:r>
                      <a:rPr b="0" i="1" lang="en-GB" sz="20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 </a:t>
                    </a:r>
                    <a:r>
                      <a:rPr b="0" i="1" lang="en-GB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AutoShape 18"/>
                  <p:cNvSpPr/>
                  <p:nvPr/>
                </p:nvSpPr>
                <p:spPr>
                  <a:xfrm>
                    <a:off x="4800240" y="380988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19"/>
                  <p:cNvSpPr/>
                  <p:nvPr/>
                </p:nvSpPr>
                <p:spPr>
                  <a:xfrm>
                    <a:off x="4952520" y="392256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Text Box 21"/>
                  <p:cNvSpPr/>
                  <p:nvPr/>
                </p:nvSpPr>
                <p:spPr>
                  <a:xfrm>
                    <a:off x="5703480" y="3924360"/>
                    <a:ext cx="1992240" cy="47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r>
                      <a:rPr b="0" lang="en-GB" sz="22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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 + 2 H</a:t>
                    </a:r>
                    <a:r>
                      <a:rPr b="0" lang="en-GB" sz="2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Group 39"/>
              <p:cNvGrpSpPr/>
              <p:nvPr/>
            </p:nvGrpSpPr>
            <p:grpSpPr>
              <a:xfrm>
                <a:off x="1295280" y="3809880"/>
                <a:ext cx="1600200" cy="685800"/>
                <a:chOff x="1295280" y="3809880"/>
                <a:chExt cx="1600200" cy="685800"/>
              </a:xfrm>
            </p:grpSpPr>
            <p:sp>
              <p:nvSpPr>
                <p:cNvPr id="76" name="AutoShape 29"/>
                <p:cNvSpPr/>
                <p:nvPr/>
              </p:nvSpPr>
              <p:spPr>
                <a:xfrm>
                  <a:off x="1295280" y="3809880"/>
                  <a:ext cx="762120" cy="685800"/>
                </a:xfrm>
                <a:prstGeom prst="hexagon">
                  <a:avLst>
                    <a:gd name="adj" fmla="val 27782"/>
                    <a:gd name="vf" fmla="val 11547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30"/>
                <p:cNvSpPr/>
                <p:nvPr/>
              </p:nvSpPr>
              <p:spPr>
                <a:xfrm>
                  <a:off x="1447920" y="392256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Text Box 31"/>
                <p:cNvSpPr/>
                <p:nvPr/>
              </p:nvSpPr>
              <p:spPr>
                <a:xfrm>
                  <a:off x="2198520" y="3924000"/>
                  <a:ext cx="6969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</a:rPr>
                    <a:t>NH</a:t>
                  </a:r>
                  <a:r>
                    <a:rPr b="0" lang="en-GB" sz="2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Line 26"/>
            <p:cNvSpPr/>
            <p:nvPr/>
          </p:nvSpPr>
          <p:spPr>
            <a:xfrm>
              <a:off x="2054160" y="4159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43"/>
          <p:cNvSpPr/>
          <p:nvPr/>
        </p:nvSpPr>
        <p:spPr>
          <a:xfrm>
            <a:off x="9144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phenyl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4"/>
          <p:cNvSpPr/>
          <p:nvPr/>
        </p:nvSpPr>
        <p:spPr>
          <a:xfrm>
            <a:off x="44197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benzenediazon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oupling"/>
          <p:cNvPicPr/>
          <p:nvPr/>
        </p:nvPicPr>
        <p:blipFill>
          <a:blip r:embed="rId1"/>
          <a:stretch/>
        </p:blipFill>
        <p:spPr>
          <a:xfrm>
            <a:off x="0" y="2125800"/>
            <a:ext cx="5062680" cy="212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imes New Roman"/>
              </a:rPr>
              <a:t>Diazo coupling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Coupling with phen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diazonium"/>
          <p:cNvPicPr/>
          <p:nvPr/>
        </p:nvPicPr>
        <p:blipFill>
          <a:blip r:embed="rId1"/>
          <a:stretch/>
        </p:blipFill>
        <p:spPr>
          <a:xfrm>
            <a:off x="457200" y="3060720"/>
            <a:ext cx="822960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red azo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</a:rPr>
              <a:t>Coupling with 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o compounds are stable so dyes do not f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yellow azo"/>
          <p:cNvPicPr/>
          <p:nvPr/>
        </p:nvPicPr>
        <p:blipFill>
          <a:blip r:embed="rId1"/>
          <a:stretch/>
        </p:blipFill>
        <p:spPr>
          <a:xfrm>
            <a:off x="380880" y="4419720"/>
            <a:ext cx="8562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0:46:38Z</dcterms:created>
  <dc:creator>M Tyrrell</dc:creator>
  <dc:description/>
  <dc:language>en-US</dc:language>
  <cp:lastModifiedBy>LEGION</cp:lastModifiedBy>
  <dcterms:modified xsi:type="dcterms:W3CDTF">2015-09-04T09:50:56Z</dcterms:modified>
  <cp:revision>17</cp:revision>
  <dc:subject/>
  <dc:title>Azo Compounds</dc:title>
</cp:coreProperties>
</file>