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27F1-D754-4A6E-A803-672404AA7A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azo compou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 coupling reaction between a diazonium salt an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N=N-R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e -N+N as N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rich benzene ring stabilises the -N+N  group but decomposition occurs above about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cold soln. sodium nitrite (NaNO2) to arylamine soln. In dilute acid below 5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t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salt is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nitrous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NO2 (aq) + HCl (aq) HNO2 (aq) + NaCl 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yl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 coupling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phen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pling with am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o compounds are stable so dyes do not f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243-63CB-4FBD-B38B-A4AF651D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C3C-490A-48B7-A590-4F757E9A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152-43D3-4DB5-8997-13D86E8A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00EA-4798-4646-BC5B-A5E5D8F3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238-5C44-4964-A71F-CABE3EB3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BC0-6FEC-4DA1-8521-010B34DD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F44-F0DA-4E7E-894B-C04F174B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198-D6EF-406E-804A-18D2564E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B7F-5F7F-4CA4-AED9-D82CB80C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B64-5466-42E3-A658-7385C9A1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8B4-0A60-4FD3-93D3-8812BB3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8AF-1E46-4BA4-B352-43AE057C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366D-E9F1-4368-B44B-11DE6B2394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0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</a:rPr>
              <a:t>Azo Compoun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99"/>
                </a:solidFill>
                <a:latin typeface="Times New Roman"/>
              </a:rPr>
              <a:t>What are azo compou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ain the -N=N-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R and R’ are arene groups more stable than alkyl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 is stabilised by becoming part of extended delocalis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ult of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reac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tween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diazonium sal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4952880" y="24382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ll MT"/>
              </a:rPr>
              <a:t>R-N=N-R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ll MT"/>
              <a:ea typeface="Bell MT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562720" y="2362320"/>
            <a:ext cx="1904760" cy="1371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638680" y="4267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zo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Times New Roman"/>
              </a:rPr>
              <a:t>Diazonium sa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nly stable salts are aromatic - not particularly s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Los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as N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ectron rich benzene ring stabilises the -N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  group but decomposition occurs above about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dd cold soln. sodium nitrite (NaN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) to arylamine soln. In dilute acid below 5</a:t>
            </a:r>
            <a:r>
              <a:rPr b="0" lang="en-GB" sz="2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3333cc"/>
                </a:solidFill>
                <a:latin typeface="Times New Roman"/>
              </a:rPr>
              <a:t>Diazotis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repare fresh and use immediat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3"/>
          <p:cNvGrpSpPr/>
          <p:nvPr/>
        </p:nvGrpSpPr>
        <p:grpSpPr>
          <a:xfrm>
            <a:off x="3276720" y="1600200"/>
            <a:ext cx="2895120" cy="685800"/>
            <a:chOff x="3276720" y="1600200"/>
            <a:chExt cx="2895120" cy="685800"/>
          </a:xfrm>
        </p:grpSpPr>
        <p:sp>
          <p:nvSpPr>
            <p:cNvPr id="59" name="Line 6"/>
            <p:cNvSpPr/>
            <p:nvPr/>
          </p:nvSpPr>
          <p:spPr>
            <a:xfrm>
              <a:off x="4037040" y="19558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Group 12"/>
            <p:cNvGrpSpPr/>
            <p:nvPr/>
          </p:nvGrpSpPr>
          <p:grpSpPr>
            <a:xfrm>
              <a:off x="3276720" y="1600200"/>
              <a:ext cx="2895120" cy="685800"/>
              <a:chOff x="3276720" y="1600200"/>
              <a:chExt cx="2895120" cy="685800"/>
            </a:xfrm>
          </p:grpSpPr>
          <p:sp>
            <p:nvSpPr>
              <p:cNvPr id="61" name="AutoShape 9"/>
              <p:cNvSpPr/>
              <p:nvPr/>
            </p:nvSpPr>
            <p:spPr>
              <a:xfrm>
                <a:off x="3276720" y="1600200"/>
                <a:ext cx="761760" cy="685800"/>
              </a:xfrm>
              <a:prstGeom prst="hexagon">
                <a:avLst>
                  <a:gd name="adj" fmla="val 27769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10"/>
              <p:cNvSpPr/>
              <p:nvPr/>
            </p:nvSpPr>
            <p:spPr>
              <a:xfrm>
                <a:off x="3429000" y="1712880"/>
                <a:ext cx="4568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1"/>
              <p:cNvSpPr/>
              <p:nvPr/>
            </p:nvSpPr>
            <p:spPr>
              <a:xfrm>
                <a:off x="4179600" y="1714680"/>
                <a:ext cx="1992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Times New Roman"/>
                  </a:rPr>
                  <a:t>N         Cl</a:t>
                </a:r>
                <a:r>
                  <a:rPr b="0" lang="en-GB" sz="22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ff33"/>
                </a:solidFill>
                <a:latin typeface="Times New Roman"/>
              </a:rPr>
              <a:t>How the salt is ma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id reacts with sodium nitrite to form unstabl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itrous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 (aq)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+ H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+ NaCl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trous acid reacts with the aryl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2"/>
          <p:cNvGrpSpPr/>
          <p:nvPr/>
        </p:nvGrpSpPr>
        <p:grpSpPr>
          <a:xfrm>
            <a:off x="1295280" y="3809880"/>
            <a:ext cx="6400440" cy="685800"/>
            <a:chOff x="1295280" y="3809880"/>
            <a:chExt cx="6400440" cy="685800"/>
          </a:xfrm>
        </p:grpSpPr>
        <p:grpSp>
          <p:nvGrpSpPr>
            <p:cNvPr id="67" name="Group 41"/>
            <p:cNvGrpSpPr/>
            <p:nvPr/>
          </p:nvGrpSpPr>
          <p:grpSpPr>
            <a:xfrm>
              <a:off x="1295280" y="3809880"/>
              <a:ext cx="6400440" cy="685800"/>
              <a:chOff x="1295280" y="3809880"/>
              <a:chExt cx="6400440" cy="685800"/>
            </a:xfrm>
          </p:grpSpPr>
          <p:grpSp>
            <p:nvGrpSpPr>
              <p:cNvPr id="68" name="Group 23"/>
              <p:cNvGrpSpPr/>
              <p:nvPr/>
            </p:nvGrpSpPr>
            <p:grpSpPr>
              <a:xfrm>
                <a:off x="1904760" y="3809880"/>
                <a:ext cx="5790960" cy="685800"/>
                <a:chOff x="1904760" y="3809880"/>
                <a:chExt cx="5790960" cy="685800"/>
              </a:xfrm>
            </p:grpSpPr>
            <p:sp>
              <p:nvSpPr>
                <p:cNvPr id="69" name="Line 20"/>
                <p:cNvSpPr/>
                <p:nvPr/>
              </p:nvSpPr>
              <p:spPr>
                <a:xfrm>
                  <a:off x="5560920" y="41655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22"/>
                <p:cNvGrpSpPr/>
                <p:nvPr/>
              </p:nvGrpSpPr>
              <p:grpSpPr>
                <a:xfrm>
                  <a:off x="1904760" y="3809880"/>
                  <a:ext cx="5790960" cy="685800"/>
                  <a:chOff x="1904760" y="3809880"/>
                  <a:chExt cx="5790960" cy="685800"/>
                </a:xfrm>
              </p:grpSpPr>
              <p:sp>
                <p:nvSpPr>
                  <p:cNvPr id="71" name="Text Box 16"/>
                  <p:cNvSpPr/>
                  <p:nvPr/>
                </p:nvSpPr>
                <p:spPr>
                  <a:xfrm>
                    <a:off x="1904760" y="3886200"/>
                    <a:ext cx="5715000" cy="49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HNO</a:t>
                    </a:r>
                    <a:r>
                      <a:rPr b="0" i="1" lang="en-GB" sz="20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i="1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+ H</a:t>
                    </a:r>
                    <a:r>
                      <a:rPr b="0" i="1" lang="en-GB" sz="20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 </a:t>
                    </a:r>
                    <a:r>
                      <a:rPr b="0" i="1" lang="en-GB" sz="2400" spc="-1" strike="noStrike">
                        <a:solidFill>
                          <a:srgbClr val="000000"/>
                        </a:solidFill>
                        <a:latin typeface="Wingdings"/>
                        <a:ea typeface="Wingdings"/>
                      </a:rPr>
                      <a:t>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AutoShape 18"/>
                  <p:cNvSpPr/>
                  <p:nvPr/>
                </p:nvSpPr>
                <p:spPr>
                  <a:xfrm>
                    <a:off x="4800240" y="380988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Oval 19"/>
                  <p:cNvSpPr/>
                  <p:nvPr/>
                </p:nvSpPr>
                <p:spPr>
                  <a:xfrm>
                    <a:off x="4952520" y="392256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Text Box 21"/>
                  <p:cNvSpPr/>
                  <p:nvPr/>
                </p:nvSpPr>
                <p:spPr>
                  <a:xfrm>
                    <a:off x="5703480" y="3924360"/>
                    <a:ext cx="1992240" cy="47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37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r>
                      <a:rPr b="0" lang="en-GB" sz="2200" spc="-1" strike="noStrike" baseline="30000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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 + 2 H</a:t>
                    </a:r>
                    <a:r>
                      <a:rPr b="0" lang="en-GB" sz="2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lang="en-GB" sz="2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Group 39"/>
              <p:cNvGrpSpPr/>
              <p:nvPr/>
            </p:nvGrpSpPr>
            <p:grpSpPr>
              <a:xfrm>
                <a:off x="1295280" y="3809880"/>
                <a:ext cx="1600200" cy="685800"/>
                <a:chOff x="1295280" y="3809880"/>
                <a:chExt cx="1600200" cy="685800"/>
              </a:xfrm>
            </p:grpSpPr>
            <p:sp>
              <p:nvSpPr>
                <p:cNvPr id="76" name="AutoShape 29"/>
                <p:cNvSpPr/>
                <p:nvPr/>
              </p:nvSpPr>
              <p:spPr>
                <a:xfrm>
                  <a:off x="1295280" y="3809880"/>
                  <a:ext cx="762120" cy="685800"/>
                </a:xfrm>
                <a:prstGeom prst="hexagon">
                  <a:avLst>
                    <a:gd name="adj" fmla="val 27782"/>
                    <a:gd name="vf" fmla="val 11547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30"/>
                <p:cNvSpPr/>
                <p:nvPr/>
              </p:nvSpPr>
              <p:spPr>
                <a:xfrm>
                  <a:off x="1447920" y="3922560"/>
                  <a:ext cx="457200" cy="4572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Text Box 31"/>
                <p:cNvSpPr/>
                <p:nvPr/>
              </p:nvSpPr>
              <p:spPr>
                <a:xfrm>
                  <a:off x="2198520" y="3924000"/>
                  <a:ext cx="696960" cy="47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200" spc="-1" strike="noStrike">
                      <a:solidFill>
                        <a:srgbClr val="000000"/>
                      </a:solidFill>
                      <a:latin typeface="Times New Roman"/>
                    </a:rPr>
                    <a:t>NH</a:t>
                  </a:r>
                  <a:r>
                    <a:rPr b="0" lang="en-GB" sz="2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Line 26"/>
            <p:cNvSpPr/>
            <p:nvPr/>
          </p:nvSpPr>
          <p:spPr>
            <a:xfrm>
              <a:off x="2054160" y="4159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43"/>
          <p:cNvSpPr/>
          <p:nvPr/>
        </p:nvSpPr>
        <p:spPr>
          <a:xfrm>
            <a:off x="9144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phenyl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4"/>
          <p:cNvSpPr/>
          <p:nvPr/>
        </p:nvSpPr>
        <p:spPr>
          <a:xfrm>
            <a:off x="4419720" y="4800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benzenediazon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oupling"/>
          <p:cNvPicPr/>
          <p:nvPr/>
        </p:nvPicPr>
        <p:blipFill>
          <a:blip r:embed="rId1"/>
          <a:stretch/>
        </p:blipFill>
        <p:spPr>
          <a:xfrm>
            <a:off x="0" y="2125800"/>
            <a:ext cx="5062680" cy="212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imes New Roman"/>
              </a:rPr>
              <a:t>Diazo coupling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iazonium salt reacts with another compound containing a benzene ring called a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 acts as an electrophile - reacts with benzene ring of coupling a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oured precipitate of azo compound immediately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ant use as d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Coupling with phen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phenol gives a yellow orange azo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nzenediazonium salt and alkaline naphthalen-2-ol gives a red azo comp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diazonium"/>
          <p:cNvPicPr/>
          <p:nvPr/>
        </p:nvPicPr>
        <p:blipFill>
          <a:blip r:embed="rId1"/>
          <a:stretch/>
        </p:blipFill>
        <p:spPr>
          <a:xfrm>
            <a:off x="457200" y="3060720"/>
            <a:ext cx="822960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red azo"/>
          <p:cNvPicPr/>
          <p:nvPr/>
        </p:nvPicPr>
        <p:blipFill>
          <a:blip r:embed="rId2"/>
          <a:stretch/>
        </p:blipFill>
        <p:spPr>
          <a:xfrm>
            <a:off x="685800" y="4267080"/>
            <a:ext cx="7848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</a:rPr>
              <a:t>Coupling with am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azonium salts couple with arylam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diazonium salt and phenylamine gives a yellow azo comp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different diazonium salts and coupling agents to make different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o compounds are stable so dyes do not f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yellow azo"/>
          <p:cNvPicPr/>
          <p:nvPr/>
        </p:nvPicPr>
        <p:blipFill>
          <a:blip r:embed="rId1"/>
          <a:stretch/>
        </p:blipFill>
        <p:spPr>
          <a:xfrm>
            <a:off x="380880" y="4419720"/>
            <a:ext cx="85629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20:46:38Z</dcterms:created>
  <dc:creator>M Tyrrell</dc:creator>
  <dc:description/>
  <dc:language>en-US</dc:language>
  <cp:lastModifiedBy>LEGION</cp:lastModifiedBy>
  <dcterms:modified xsi:type="dcterms:W3CDTF">2015-09-04T09:50:56Z</dcterms:modified>
  <cp:revision>17</cp:revision>
  <dc:subject/>
  <dc:title>Azo Compounds</dc:title>
</cp:coreProperties>
</file>