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8B52-4688-4620-BCC8-96CEFADE43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osion and 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osion and 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ring away of the earth’s surface by natural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on: erosion by chemical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break down certain rocks like limestone or ch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water creates cracks and crev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nd picks up smaller particles of rock (pebbles and sa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it landforms and take pieces of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riction causes the break up of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GLACIER?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ts and other chemicals in the water erode coastal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problem for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rain remove topsoil an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the soil infertile and it breaks up leaving don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PROBL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TEPS ARE YOU GOING TO TAKE TO REPAIR THE DONG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MPROVED PLANTING TECHNIQUES ARE YOU GOING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PROBLE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417-CB6B-4C24-AD10-5CC33E8A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3D1-B426-47F9-A2D6-3E26CE0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F14-4CBB-4A1C-8429-3153CAD8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0E9-B0D2-436E-A779-41AD2092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087CA-8D00-4751-8891-23528B4D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2482D-5F5F-45F4-AB24-FC529671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B4224-6859-4699-9484-D37041CC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C4A9D-19CC-4484-B586-34C0C1A3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0D9F6-FC5F-4077-AF15-25453A31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6E597-6A58-44E3-AB07-3BC036D3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AC8F3-D639-4ACA-9E03-EAAC9136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1A4-4B05-4F2B-8100-BF39802D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7F224-73CD-4971-8A65-54906BB3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A4C1C-F166-4EEB-BDAA-38A198EC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9CC50-67AC-4EA2-B463-0DB0B1E2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0859F-FAB0-4572-A543-ABDDC012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EB9AB-B83F-44EC-89C7-42158932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B34-F959-48B9-893E-402BE36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A14-E499-4F1E-8004-1B44AFC1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F78-B8F3-400A-BEF5-7CEDEEEC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548-F201-4D9D-9493-D8966209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FCD-BCEF-4644-B5E6-21D71F5A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57F-6016-4726-9595-D2AEE10B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34A-672D-4CF3-8C4C-365A6044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8828-DAB5-43DA-8B87-1D442BE6600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AE56-1277-4E74-AD73-F60329EAFA7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e3e3ff"/>
                </a:solidFill>
                <a:latin typeface="Arial"/>
              </a:rPr>
              <a:t>Erosion and Weather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320840"/>
                <a:gridCol w="1380960"/>
                <a:gridCol w="1381320"/>
                <a:gridCol w="1382760"/>
                <a:gridCol w="1380960"/>
                <a:gridCol w="13827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ric for t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s to combat probl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outli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steps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outline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y good step by step outline with relevant points and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air Donga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technique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technique vague explanation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technique and vagu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technique,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evant techniques and clear explanation of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proved faming metho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effort ma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and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methods and good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lent methods and explanatio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e3e3ff"/>
                </a:solidFill>
                <a:latin typeface="Arial"/>
              </a:rPr>
              <a:t>What is erosion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erosion2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ypes of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Photo: Waterfall and turquoise water on Baffin Island"/>
          <p:cNvPicPr/>
          <p:nvPr/>
        </p:nvPicPr>
        <p:blipFill>
          <a:blip r:embed="rId1"/>
          <a:stretch/>
        </p:blipFill>
        <p:spPr>
          <a:xfrm>
            <a:off x="4643280" y="1628640"/>
            <a:ext cx="3997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nm_Vermilion_080326_ssh"/>
          <p:cNvPicPr/>
          <p:nvPr/>
        </p:nvPicPr>
        <p:blipFill>
          <a:blip r:embed="rId1"/>
          <a:stretch/>
        </p:blipFill>
        <p:spPr>
          <a:xfrm>
            <a:off x="108000" y="189000"/>
            <a:ext cx="3263760" cy="252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scn2150"/>
          <p:cNvPicPr/>
          <p:nvPr/>
        </p:nvPicPr>
        <p:blipFill>
          <a:blip r:embed="rId2"/>
          <a:stretch/>
        </p:blipFill>
        <p:spPr>
          <a:xfrm>
            <a:off x="179280" y="299736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ol_wind_erosion_BGR_big"/>
          <p:cNvPicPr/>
          <p:nvPr/>
        </p:nvPicPr>
        <p:blipFill>
          <a:blip r:embed="rId3"/>
          <a:stretch/>
        </p:blipFill>
        <p:spPr>
          <a:xfrm>
            <a:off x="3780000" y="364500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Glacier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mage024"/>
          <p:cNvPicPr/>
          <p:nvPr/>
        </p:nvPicPr>
        <p:blipFill>
          <a:blip r:embed="rId1"/>
          <a:stretch/>
        </p:blipFill>
        <p:spPr>
          <a:xfrm>
            <a:off x="4500720" y="1484280"/>
            <a:ext cx="4392360" cy="31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uldrowGlacier(2)"/>
          <p:cNvPicPr/>
          <p:nvPr/>
        </p:nvPicPr>
        <p:blipFill>
          <a:blip r:embed="rId2"/>
          <a:stretch/>
        </p:blipFill>
        <p:spPr>
          <a:xfrm>
            <a:off x="324000" y="4149720"/>
            <a:ext cx="3382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ea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erodedbeach"/>
          <p:cNvPicPr/>
          <p:nvPr/>
        </p:nvPicPr>
        <p:blipFill>
          <a:blip r:embed="rId1"/>
          <a:stretch/>
        </p:blipFill>
        <p:spPr>
          <a:xfrm>
            <a:off x="250920" y="11970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iarritz-stone-bridge"/>
          <p:cNvPicPr/>
          <p:nvPr/>
        </p:nvPicPr>
        <p:blipFill>
          <a:blip r:embed="rId2"/>
          <a:stretch/>
        </p:blipFill>
        <p:spPr>
          <a:xfrm>
            <a:off x="5796000" y="4149720"/>
            <a:ext cx="320508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fg_mustang_3"/>
          <p:cNvPicPr/>
          <p:nvPr/>
        </p:nvPicPr>
        <p:blipFill>
          <a:blip r:embed="rId3"/>
          <a:stretch/>
        </p:blipFill>
        <p:spPr>
          <a:xfrm>
            <a:off x="324000" y="4017960"/>
            <a:ext cx="4787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sierra_madre_gully"/>
          <p:cNvPicPr/>
          <p:nvPr/>
        </p:nvPicPr>
        <p:blipFill>
          <a:blip r:embed="rId1"/>
          <a:stretch/>
        </p:blipFill>
        <p:spPr>
          <a:xfrm>
            <a:off x="250920" y="335772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ig07"/>
          <p:cNvPicPr/>
          <p:nvPr/>
        </p:nvPicPr>
        <p:blipFill>
          <a:blip r:embed="rId2"/>
          <a:stretch/>
        </p:blipFill>
        <p:spPr>
          <a:xfrm>
            <a:off x="5003640" y="19162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 u="sng">
                <a:solidFill>
                  <a:srgbClr val="ffffff"/>
                </a:solidFill>
                <a:uFillTx/>
                <a:latin typeface="Arial"/>
              </a:rPr>
              <a:t>YOUR PROBLEM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allet_Cove_017"/>
          <p:cNvPicPr/>
          <p:nvPr/>
        </p:nvPicPr>
        <p:blipFill>
          <a:blip r:embed="rId1"/>
          <a:stretch/>
        </p:blipFill>
        <p:spPr>
          <a:xfrm>
            <a:off x="3276720" y="256536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53:14Z</dcterms:created>
  <dc:creator>hendersonb</dc:creator>
  <dc:description/>
  <dc:language>en-US</dc:language>
  <cp:lastModifiedBy>RomaK</cp:lastModifiedBy>
  <dcterms:modified xsi:type="dcterms:W3CDTF">2015-09-04T09:42:17Z</dcterms:modified>
  <cp:revision>8</cp:revision>
  <dc:subject/>
  <dc:title>Erosion and Weathering</dc:title>
</cp:coreProperties>
</file>