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2612-7244-4838-B97F-14133C1195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osion and 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osion and 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ring away of the earth’s surface by natural proce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on: erosion by chemical 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break down certain rocks like limestone or ch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water creates cracks and crev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nd picks up smaller particles of rock (pebbles and sa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it landforms and take pieces of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riction causes the break up of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GLACIER?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ts and other chemicals in the water erode coastal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problem for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rain remove topsoil an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the soil infertile and it breaks up leaving don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PROBL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TEPS ARE YOU GOING TO TAKE TO REPAIR THE DONG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MPROVED PLANTING TECHNIQUES ARE YOU GOING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PROBLE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DBB-DC6E-49F3-A1F6-04F8DDC5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636-A194-4919-8879-F992D826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D06-D05D-4067-B69F-E617B9FB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F88-4345-475B-94F8-B49D9CDE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C2F7D-D427-4396-86EE-44FE08F0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02026-242F-4421-B532-7A9D597E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8BC60-90BA-49E5-967F-FE183632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2C0F2-A187-4CF1-98BE-BD3A1392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A43C2-20A6-40F8-AF19-E3DB8E08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885F4-59E8-4593-9049-42CBA56C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AC8E4-5923-4CE2-8F20-B27BF109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368-55F1-4CDD-B697-444ABA5E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149F2-00B4-41EF-BFF3-59FCE7D9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A509F-3F3A-4C42-88B0-C1CA7E4D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40393-AFE2-4277-999E-D43A297A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E94D7-8E4C-45CA-9865-8826048D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DA9D6-1665-4CAA-8085-673E37DA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7F3-EFA0-4DDD-98AC-6CF61C9E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580-2877-4722-9012-F74CDB98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D50-E06E-48E5-9918-298DF61D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44E-DB05-471C-9813-BA36A6A1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E51-6224-4AE6-B58B-0801193E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418-FBB8-44A0-8178-11AF572B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F58-3C73-41AF-A7F5-51714267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9958-99C0-4BAA-B8AB-96E1EA3E230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51E6-411F-4898-B92E-313C4556251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5400" spc="-1" strike="noStrike">
                <a:solidFill>
                  <a:srgbClr val="e3e3ff"/>
                </a:solidFill>
                <a:latin typeface="Arial"/>
              </a:rPr>
              <a:t>Erosion and Weatherin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320840"/>
                <a:gridCol w="1380960"/>
                <a:gridCol w="1381320"/>
                <a:gridCol w="1382760"/>
                <a:gridCol w="1380960"/>
                <a:gridCol w="13827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bric for t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ps to combat probl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outli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steps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outline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y good step by step outline with relevant points and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air Donga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technique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technique vague explanation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technique and vagu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technique,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evant techniques and clear explanation of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proved faming metho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effort ma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and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methods and good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lent methods and explanatio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e3e3ff"/>
                </a:solidFill>
                <a:latin typeface="Arial"/>
              </a:rPr>
              <a:t>What is erosion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erosion2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ypes of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Photo: Waterfall and turquoise water on Baffin Island"/>
          <p:cNvPicPr/>
          <p:nvPr/>
        </p:nvPicPr>
        <p:blipFill>
          <a:blip r:embed="rId1"/>
          <a:stretch/>
        </p:blipFill>
        <p:spPr>
          <a:xfrm>
            <a:off x="4643280" y="1628640"/>
            <a:ext cx="39974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nm_Vermilion_080326_ssh"/>
          <p:cNvPicPr/>
          <p:nvPr/>
        </p:nvPicPr>
        <p:blipFill>
          <a:blip r:embed="rId1"/>
          <a:stretch/>
        </p:blipFill>
        <p:spPr>
          <a:xfrm>
            <a:off x="108000" y="189000"/>
            <a:ext cx="3263760" cy="2525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dscn2150"/>
          <p:cNvPicPr/>
          <p:nvPr/>
        </p:nvPicPr>
        <p:blipFill>
          <a:blip r:embed="rId2"/>
          <a:stretch/>
        </p:blipFill>
        <p:spPr>
          <a:xfrm>
            <a:off x="179280" y="299736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sol_wind_erosion_BGR_big"/>
          <p:cNvPicPr/>
          <p:nvPr/>
        </p:nvPicPr>
        <p:blipFill>
          <a:blip r:embed="rId3"/>
          <a:stretch/>
        </p:blipFill>
        <p:spPr>
          <a:xfrm>
            <a:off x="3780000" y="3645000"/>
            <a:ext cx="45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Glacier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image024"/>
          <p:cNvPicPr/>
          <p:nvPr/>
        </p:nvPicPr>
        <p:blipFill>
          <a:blip r:embed="rId1"/>
          <a:stretch/>
        </p:blipFill>
        <p:spPr>
          <a:xfrm>
            <a:off x="4500720" y="1484280"/>
            <a:ext cx="4392360" cy="31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uldrowGlacier(2)"/>
          <p:cNvPicPr/>
          <p:nvPr/>
        </p:nvPicPr>
        <p:blipFill>
          <a:blip r:embed="rId2"/>
          <a:stretch/>
        </p:blipFill>
        <p:spPr>
          <a:xfrm>
            <a:off x="324000" y="4149720"/>
            <a:ext cx="3382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ea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erodedbeach"/>
          <p:cNvPicPr/>
          <p:nvPr/>
        </p:nvPicPr>
        <p:blipFill>
          <a:blip r:embed="rId1"/>
          <a:stretch/>
        </p:blipFill>
        <p:spPr>
          <a:xfrm>
            <a:off x="250920" y="11970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iarritz-stone-bridge"/>
          <p:cNvPicPr/>
          <p:nvPr/>
        </p:nvPicPr>
        <p:blipFill>
          <a:blip r:embed="rId2"/>
          <a:stretch/>
        </p:blipFill>
        <p:spPr>
          <a:xfrm>
            <a:off x="5796000" y="4149720"/>
            <a:ext cx="3205080" cy="240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fg_mustang_3"/>
          <p:cNvPicPr/>
          <p:nvPr/>
        </p:nvPicPr>
        <p:blipFill>
          <a:blip r:embed="rId3"/>
          <a:stretch/>
        </p:blipFill>
        <p:spPr>
          <a:xfrm>
            <a:off x="324000" y="4017960"/>
            <a:ext cx="4787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oil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sierra_madre_gully"/>
          <p:cNvPicPr/>
          <p:nvPr/>
        </p:nvPicPr>
        <p:blipFill>
          <a:blip r:embed="rId1"/>
          <a:stretch/>
        </p:blipFill>
        <p:spPr>
          <a:xfrm>
            <a:off x="250920" y="335772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fig07"/>
          <p:cNvPicPr/>
          <p:nvPr/>
        </p:nvPicPr>
        <p:blipFill>
          <a:blip r:embed="rId2"/>
          <a:stretch/>
        </p:blipFill>
        <p:spPr>
          <a:xfrm>
            <a:off x="5003640" y="19162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 u="sng">
                <a:solidFill>
                  <a:srgbClr val="ffffff"/>
                </a:solidFill>
                <a:uFillTx/>
                <a:latin typeface="Arial"/>
              </a:rPr>
              <a:t>YOUR PROBLEM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allet_Cove_017"/>
          <p:cNvPicPr/>
          <p:nvPr/>
        </p:nvPicPr>
        <p:blipFill>
          <a:blip r:embed="rId1"/>
          <a:stretch/>
        </p:blipFill>
        <p:spPr>
          <a:xfrm>
            <a:off x="3276720" y="2565360"/>
            <a:ext cx="2808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53:14Z</dcterms:created>
  <dc:creator>hendersonb</dc:creator>
  <dc:description/>
  <dc:language>en-US</dc:language>
  <cp:lastModifiedBy>RomaK</cp:lastModifiedBy>
  <dcterms:modified xsi:type="dcterms:W3CDTF">2015-09-04T09:42:17Z</dcterms:modified>
  <cp:revision>8</cp:revision>
  <dc:subject/>
  <dc:title>Erosion and Weathering</dc:title>
</cp:coreProperties>
</file>