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772E-B092-4B68-BFC6-46CA205CBE9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300 M.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out a natural Greenhouse Effect, earth would be froz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oes continue to erupt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10% CO2, abrupt warming be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canic Eruptions - Sudden output of CO2 (warming) or particulates (coolin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, Haze, CO2 May Alter Clim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3A8-9241-44BC-85B1-3B808FA4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A6F-CAB6-45FA-90B7-F3986259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6BFD-A1F1-485B-975B-65D4BC3F4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F575-C617-4E95-884F-70130034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A83-67EC-460E-AACC-2EDC012E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1936-D2FB-461B-8343-28A8F9292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BF0E-F5C9-46C0-ADCB-D4D23EBA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844-BB20-42CB-9CA2-78200166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C3F7-38AF-41DD-BF41-A1E95B1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F272-1A1E-4167-878D-0D42125E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111-C38F-4AD8-9875-C19E594D8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C7E8-A324-4824-B353-2FB3F107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6AC33-97E3-4936-A35E-D1FBAC1E00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eistocene 3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mian 250-22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ovician 450 M.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ambri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0-650 M.y. (Snowball Eart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300 M.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reenhouse Ef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out 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natur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Greenhouse Effect, earth would be froz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% due to Water V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ntributors: carbon dioxide, methane, nitrous ox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Greenhouse Effect is a good t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l Sag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 we are accelerating it with unknown final consequ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 has almost as much carbon dioxide as V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add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is removed from the air to make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cehouse” and “Greenhouse” epis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-building favors c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lift exposes rocks to we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silicates (plagioclase, amphiboles, pyroxenes) are chemically weath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cium is carried to the sea where organisms bind it into carbonate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ion of carbonates removes carbon dioxide from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of carbonates returns carbon dioxide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Carbonate-Silicate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te tectonics carries some carbonates into the ear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at liberates carbon diox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dioxide returns to the atmosp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ycle does not require life but does require liquid w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ween 900 and 600 m.y. ago, Earth froze completely (or almost) about four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freezing alternated with extremely rapid sea-level rise and global wa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on all continents, even at low latitu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acial deposits immediately succeeded by thick deposits of carbonate r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nowball Ea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le reason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nter early su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logical cha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ice co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athering and erosion shut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lcanoes continue to erupt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10% C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brupt warming beg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from –50 C to +50 C in 10,000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ications for lif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Causes Ice Ag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in Earth (End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ate-Silicate Cyc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olcanic Eruptions - Sudden output of CO</a:t>
            </a:r>
            <a:r>
              <a:rPr b="0" lang="en-US" sz="2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warming) or particulates (cool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untain Building - Changes in atmospheric circul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ent-Ocean configur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side Earth (Exogeni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Sun (faint early sun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tions in Earth Orbit (Milankovitch Cycl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e We Headed For Another Ice 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ting &amp; Cooling in Historic Ti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oke, Haze, C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y Alter Clim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n't Really K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warming due to fossil fuels may be catastrophic in many ways, but will probably not much affect these longer-term cycles. We will have run out of fossil fuels long before the duration of a typical intergla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380880" y="228600"/>
          <a:ext cx="8458200" cy="6267600"/>
        </p:xfrm>
        <a:graphic>
          <a:graphicData uri="http://schemas.openxmlformats.org/drawingml/2006/table">
            <a:tbl>
              <a:tblPr/>
              <a:tblGrid>
                <a:gridCol w="1828800"/>
                <a:gridCol w="1752840"/>
                <a:gridCol w="1447560"/>
                <a:gridCol w="1737000"/>
                <a:gridCol w="1692000"/>
              </a:tblGrid>
              <a:tr h="38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(1000 Yea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 Amer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rthern Euro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and-Rus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-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glacia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iscons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u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stu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7-1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gam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zn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-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llinoi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rthe/Saa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aco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-2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rmo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et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lste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omir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-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ns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n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roslav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-3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on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om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khv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-4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"Nebraskan 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un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ap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0-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a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-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ybour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-5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gli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5-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u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-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bout 20 Glacial Adv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 (2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ginning of Pleistoce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 (4 M.Y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warf forests still in Antarct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 M.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Glaciation in Antarctic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Last 800,000 ye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3" descr="O18Record800Ka"/>
          <p:cNvPicPr/>
          <p:nvPr/>
        </p:nvPicPr>
        <p:blipFill>
          <a:blip r:embed="rId1"/>
          <a:stretch/>
        </p:blipFill>
        <p:spPr>
          <a:xfrm>
            <a:off x="685800" y="1981080"/>
            <a:ext cx="7924680" cy="23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2666880" cy="289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ginning of the Ice 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3" descr="DeepSeaRecord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65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lankovich Cy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l Summers More Important Than Cold Win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lt of Ax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of Orbi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c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’t be the whole story-have operated throughout earth hi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xis Ti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4953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Axis Tilt: 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xis Tilt: Cold winters but hot summers. Favors Intergla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Milankovich0"/>
          <p:cNvPicPr/>
          <p:nvPr/>
        </p:nvPicPr>
        <p:blipFill>
          <a:blip r:embed="rId1"/>
          <a:stretch/>
        </p:blipFill>
        <p:spPr>
          <a:xfrm>
            <a:off x="1523880" y="1447920"/>
            <a:ext cx="6286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84872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xis Tilt and the Incredible Shrinking Tr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’s Axis Tilt is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4.2 degrees 9,500 years a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3.4 degrees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2.6 degrees 10,200 years from n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opics are shrin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4.7 m/year = 4 cm/day = 1.7 mm/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e zones gain 1550 sq km/y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80 at the expense of tr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70 at the expense of Arctic and Antarc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381024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cession:  26,000 year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recessAxis"/>
          <p:cNvPicPr/>
          <p:nvPr/>
        </p:nvPicPr>
        <p:blipFill>
          <a:blip r:embed="rId1"/>
          <a:stretch/>
        </p:blipFill>
        <p:spPr>
          <a:xfrm>
            <a:off x="4191120" y="1219320"/>
            <a:ext cx="441936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hape of Orbit + Preces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4038480"/>
            <a:ext cx="80773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Peri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d winters but hot summers. Favors Interglaci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at Aphelion (Eccentric Orbi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ar-circular Orb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d winters but cool summers. Favors Ice 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Milankovich1"/>
          <p:cNvPicPr/>
          <p:nvPr/>
        </p:nvPicPr>
        <p:blipFill>
          <a:blip r:embed="rId1"/>
          <a:stretch/>
        </p:blipFill>
        <p:spPr>
          <a:xfrm>
            <a:off x="1447920" y="1143000"/>
            <a:ext cx="6286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8T21:10:32Z</dcterms:created>
  <dc:creator>Steven Dutch</dc:creator>
  <dc:description/>
  <dc:language>en-US</dc:language>
  <cp:lastModifiedBy>RomaK</cp:lastModifiedBy>
  <dcterms:modified xsi:type="dcterms:W3CDTF">2015-09-04T09:43:17Z</dcterms:modified>
  <cp:revision>14</cp:revision>
  <dc:subject/>
  <dc:title>Glaciers </dc:title>
</cp:coreProperties>
</file>