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6.png" ContentType="image/png"/>
  <Override PartName="/ppt/media/image15.gif" ContentType="image/gif"/>
  <Override PartName="/ppt/media/image2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3BF7-DB00-40CC-9E17-ACD1FF3B09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F446-8711-43EF-814D-61308BB560C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00FF-8627-4F8A-B260-FA6B027135C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 Hori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at which no light can e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1BA1-7026-4550-8DF1-1B2C9FD5016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runken star too small to be measured but with indefinite 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6161-8CBB-4D72-A7DE-2F286E00CB07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E71D-B30E-4B14-8C4E-55C7DC6671F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8216-BE41-4C3A-A9D1-B5530359E32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ssembly of stars and nebula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1735-9F29-45DF-8BC6-E03F13B3BE4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62FB-3B15-41AC-8C32-C2BE03A66D9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ilky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disk with 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7868-10A6-4D45-8D00-1BE1629E52C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062F-64F7-40F2-81A3-106FA9FF4B8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B123-4C47-49B9-B082-7CCD7E45BEE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lip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l sha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type of galaxy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B373-EB5E-4AB3-AA08-208F9F02341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814C-1112-45CC-ADC6-1E12D064F02D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ittle gas and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dim and difficult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A901-576A-4E1A-9185-B8BBDD771F6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5DEA-D010-4CD5-BA41-B434DC8CC9C6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i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center with 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and easy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6000-CE78-4D04-B49B-F8DEAFD9423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arge amounts of gas and dust – always producing new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EC7B-5841-456E-8E20-36C97F015297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6713-F3A7-4CE4-8DBC-0C5BEC75A9E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111D-CE9D-4CF4-9063-CF086267231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re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pecific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arge amounts of gas and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E510-1810-4D85-B35D-166FA2730FA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nd faint therefore hard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E490-72E3-499A-B9B4-2FE9D61A5CCD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FD2B-2190-4B1A-8DB8-BDCBF78D19C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s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B418-5B98-42BD-BA82-B28CB162839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2087-7C58-4EF7-BFD5-FE4417671672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s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, powerful source of energy thought to be cores of distant spiral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9633-1F60-49D9-A293-49E66159C60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mit radio waves and brigh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E653-293B-43E6-9028-300666F3F1E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8E02-9305-4DF5-BBB5-C84FC61D7C9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nse gravitational field left when a giant star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3891-C060-44E9-84CA-96298CC4DE6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1225-D8A5-4AD2-9073-074A8EDFBD6D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a black hole because not even light can e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9A1D-AF99-4573-B2FA-140CD26E59D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3806-629A-4889-AEC3-FB3B41A6494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DD5E-500A-4691-85AC-6962DFCEF1E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oton Sphe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 edge where light bends but is still escap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DAB-DFFF-4C71-8018-B887CACB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525-DF28-401B-B52A-C4B1B730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86E-91B2-41F3-B76D-B6014EA2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70F-1586-4670-AD28-F85AC908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5A64-EE77-4DCC-A9B1-4355E794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E348-0694-4B95-8C68-956E60D1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FCDB-1941-4795-BCE8-4965ABD0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E025-DF87-47D1-AE11-782769D7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167B-D11C-46CA-BDFC-8A1DD0AE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C4BD-ECEA-4E39-AC78-C03F079B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7C2D-162B-4CAB-A0D9-ADA32F82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5B0-9132-470F-8BE8-42DEE5C1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E7D2-FA08-474C-85A4-8BA2D82C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65CE-01B7-484D-A4BC-90D20626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0E56-C756-46D2-B58D-895A6AEA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0D24-A8F1-4897-8827-AE6BD072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8B08-069E-4998-B8B1-24B80EF6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C737-7CC4-4CD3-B475-3ABB644B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E255-53B0-46AC-A320-ED82EA78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009-1F61-4FAF-98CE-636A9A0E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D47-C928-4D41-B707-12E9CCE0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541-4030-46F7-B1EA-04581464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8102-889C-4CD6-A86F-39845473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C32-CE16-43E6-9838-D212E4B6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FAAF-7D20-4DCD-B6B1-2CBC35599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9684-F2DC-4EC9-850A-7A136AAEFA0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Black</a:t>
            </a:r>
            <a:br>
              <a:rPr sz="8800"/>
            </a:b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 Hole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038400" y="18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5" name="Picture 8" descr="A Black Hole"/>
          <p:cNvPicPr/>
          <p:nvPr/>
        </p:nvPicPr>
        <p:blipFill>
          <a:blip r:embed="rId1"/>
          <a:stretch/>
        </p:blipFill>
        <p:spPr>
          <a:xfrm>
            <a:off x="5943600" y="304920"/>
            <a:ext cx="2895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Event Horizon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point at which no light can esc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Singularit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shrunken star too small to be measured but with indefinite density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027" descr="StaticBlackHole"/>
          <p:cNvPicPr/>
          <p:nvPr/>
        </p:nvPicPr>
        <p:blipFill>
          <a:blip r:embed="rId1"/>
          <a:stretch/>
        </p:blipFill>
        <p:spPr>
          <a:xfrm>
            <a:off x="1143000" y="304920"/>
            <a:ext cx="64008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Galaxie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3" name="Picture 4" descr="j0300519"/>
          <p:cNvPicPr/>
          <p:nvPr/>
        </p:nvPicPr>
        <p:blipFill>
          <a:blip r:embed="rId1"/>
          <a:stretch/>
        </p:blipFill>
        <p:spPr>
          <a:xfrm>
            <a:off x="3200400" y="3505320"/>
            <a:ext cx="29718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Galax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A large assembly of stars and nebulae 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oup of Galax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7" name="Picture 1028" descr="Virgo Cluster"/>
          <p:cNvPicPr/>
          <p:nvPr/>
        </p:nvPicPr>
        <p:blipFill>
          <a:blip r:embed="rId1"/>
          <a:stretch/>
        </p:blipFill>
        <p:spPr>
          <a:xfrm>
            <a:off x="1905120" y="1219320"/>
            <a:ext cx="5333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The Milky Wa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Our galaxy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Flat disk with spiral arm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The Milky Way"/>
          <p:cNvPicPr/>
          <p:nvPr/>
        </p:nvPicPr>
        <p:blipFill>
          <a:blip r:embed="rId1"/>
          <a:stretch/>
        </p:blipFill>
        <p:spPr>
          <a:xfrm>
            <a:off x="1295280" y="0"/>
            <a:ext cx="67820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Three Types of Galaxies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2" name="Picture 5" descr="Copy of j0234677(t)"/>
          <p:cNvPicPr/>
          <p:nvPr/>
        </p:nvPicPr>
        <p:blipFill>
          <a:blip r:embed="rId1"/>
          <a:stretch/>
        </p:blipFill>
        <p:spPr>
          <a:xfrm>
            <a:off x="3429000" y="3657600"/>
            <a:ext cx="243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Elliptical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Oval shaped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Most common type of galaxy found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artist concept of a black hole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ittle gas and dus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Most are dim and difficult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Centaurus A"/>
          <p:cNvPicPr/>
          <p:nvPr/>
        </p:nvPicPr>
        <p:blipFill>
          <a:blip r:embed="rId1"/>
          <a:stretch/>
        </p:blipFill>
        <p:spPr>
          <a:xfrm>
            <a:off x="762120" y="762120"/>
            <a:ext cx="739116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Spiral 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Dense center with spiral arm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Bright and easy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arge amounts of gas and dust – always producing new star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26"/>
          <p:cNvSpPr/>
          <p:nvPr/>
        </p:nvSpPr>
        <p:spPr>
          <a:xfrm>
            <a:off x="2949480" y="21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3" name="Picture 1028" descr="M100"/>
          <p:cNvPicPr/>
          <p:nvPr/>
        </p:nvPicPr>
        <p:blipFill>
          <a:blip r:embed="rId1"/>
          <a:stretch/>
        </p:blipFill>
        <p:spPr>
          <a:xfrm>
            <a:off x="1143000" y="304920"/>
            <a:ext cx="63244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029" descr="A typical spiral galaxy"/>
          <p:cNvPicPr/>
          <p:nvPr/>
        </p:nvPicPr>
        <p:blipFill>
          <a:blip r:embed="rId1"/>
          <a:stretch/>
        </p:blipFill>
        <p:spPr>
          <a:xfrm>
            <a:off x="533520" y="838080"/>
            <a:ext cx="8001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Irregular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No specific sh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arge amounts of gas and dus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Small and faint therefore hard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27" descr="An irregular galaxy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Quasar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See Explanation.  Clicking on the picture will download&#13; the largest version available.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Quasars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Small, powerful source of energy thought to be cores of distant spiral galaxie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y emit radio waves and bright ligh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376360" y="23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7" name="Picture 4" descr="Quasar at the heart of a galaxy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Black Holes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intense gravitational field left when a giant star collapse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Diagram of Cygnus X-1 system"/>
          <p:cNvPicPr/>
          <p:nvPr/>
        </p:nvPicPr>
        <p:blipFill>
          <a:blip r:embed="rId1"/>
          <a:stretch/>
        </p:blipFill>
        <p:spPr>
          <a:xfrm>
            <a:off x="914400" y="685800"/>
            <a:ext cx="693432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It is called a black hole because not even light can esc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027" descr="blackhole_illustration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blackhole.mpg" descr=""/>
          <p:cNvPicPr/>
          <p:nvPr/>
        </p:nvPicPr>
        <p:blipFill>
          <a:blip r:embed="rId1"/>
          <a:stretch/>
        </p:blipFill>
        <p:spPr>
          <a:xfrm>
            <a:off x="1219320" y="206280"/>
            <a:ext cx="632448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ahoma"/>
              </a:rPr>
              <a:t>Photon Sphere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outer edge where light bends but is still escapabl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1:01:15Z</dcterms:created>
  <dc:creator>Daniel LeClere</dc:creator>
  <dc:description/>
  <dc:language>en-US</dc:language>
  <cp:lastModifiedBy>RomaK</cp:lastModifiedBy>
  <dcterms:modified xsi:type="dcterms:W3CDTF">2015-07-31T22:36:58Z</dcterms:modified>
  <cp:revision>9</cp:revision>
  <dc:subject/>
  <dc:title>Black  Holes</dc:title>
</cp:coreProperties>
</file>