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8.gif" ContentType="image/gif"/>
  <Override PartName="/ppt/media/image23.png" ContentType="image/png"/>
  <Override PartName="/ppt/media/image16.png" ContentType="image/png"/>
  <Override PartName="/ppt/media/image15.gif" ContentType="image/gif"/>
  <Override PartName="/ppt/media/image2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6F9F-3EE1-4A26-90D5-B727BF8E768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33F0-7A65-451C-A7E5-76B94D92B0BF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7BD7-3475-4F25-9420-7A491842D906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ent Horiz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int at which no light can esc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46ECC-C3B1-4C53-B3C9-F1021196A203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ngula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runken star too small to be measured but with indefinite d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3B66-FD41-4ED7-A402-6EB3574172D0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70BB-8A92-41EB-9FDC-056DA63E62DD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84D2-3018-4EB6-8E1B-DAD903C96040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arge assembly of stars and nebula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DA4B-8D60-41E3-B1D9-E1DB7F023A7E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 of Galax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EF3D-FE8E-4E41-B2B6-B718CBDCA665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ilky 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gala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t disk with spiral a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2E9F-C701-4095-A272-B5945B90BD7B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51E9-C74B-4FFA-9297-0E65CEA40F58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Types of Galax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75A5A-5C44-4FCA-AAEF-2F36CC4200DA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lip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l shap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common type of galaxy f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A0BEF-3E32-4895-BF97-25E3441CF3EC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D8B9-057E-42CD-BEBB-8EE736E53EC0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little gas and d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are dim and difficult to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4ADF8-FF23-464B-897C-881104047979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A36D-C48F-49A4-B8F5-B70FB2CA86EB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ir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e center with spiral a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 and easy to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E52E-D9F7-4BC8-8F78-6970463E45A5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large amounts of gas and dust – always producing new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B14C-DB31-4C19-8F6B-BD5780C3B914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E4180-5DB3-4B3A-B4A0-DF4169F19DE4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2DD82-9AD8-4E52-8DCC-FAE693169BE6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rreg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specific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s large amounts of gas and du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3CDAE-CB9B-475D-8547-63C727D4F1C2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and faint therefore hard to s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EE6A-B523-4A1A-A145-5F62C90F8947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BB77-4CD5-41D7-A6E3-7A99F059ED6C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s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6D9C-1057-456F-B6FF-EF68575087EB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314E-89C6-46DC-AD80-8F07645B2C37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asa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, powerful source of energy thought to be cores of distant spiral galax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790E-5D50-4824-8374-83689FA5398E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emit radio waves and bright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924E-F011-4E81-A2DB-CA4FE1802553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BE7D9-B40B-4BE7-A37C-B6F61FA2CE14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lack Ho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tense gravitational field left when a giant star collap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44F0-F50A-4ADB-BC37-644DEC42E074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D3BC-7C9B-45B6-B34C-27B443A1CC47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called a black hole because not even light can esc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B90D-4191-4C2A-8B5F-0D3D6CD73A1F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7A51-B794-43F4-AC74-42243260E494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8ACC-E3CF-49A7-AC9D-31D328399AA9}" type="slidenum">
              <a:rPr b="0" lang="en-GB" sz="12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hoton Sphe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uter edge where light bends but is still escap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F0CB-A083-415E-92AC-C84EC772C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5407-DF5F-4972-BA31-DF0CF745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1F46-B797-457F-B033-2C61200D9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4295-CF1F-4CAF-9D20-521551887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78BCA-466B-4F69-986E-C9B65C13E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AC4D-B0FB-4687-98FB-107ABF09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BCA28-E218-4CDD-A7B5-93576C35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EA1B-9CAB-4F40-9A51-369F5118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B90CB-3EB6-4500-8B7C-1CBB61EE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C7E0-36EC-4A53-8056-056D823C9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65040-2AC4-4A88-8814-B5478BC4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992E-43CE-44F2-8623-47F19F62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474F-0709-4F5F-9724-2487BD64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ED7D-3618-42EE-84B5-4EC6D955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D673-E476-4EA3-977D-125E7BCD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83E4-449D-439B-9408-6AB379BC3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6DB4-B304-429A-87E7-2ACE0EFA8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5C0A-7063-4845-9B54-90C090A9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AF29-7DE3-403A-AFA0-06FB4E3F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4939-C0CD-4A1D-9211-0CCDCDD0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DE26-E03D-472F-AD2F-130619A7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DDC3-6798-4D31-9B9C-34CAF7FE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A23A-0D49-4BFE-9C2E-0DCBC596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8F75-3B72-4840-9FAF-279C0AD0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7826-5BFE-4536-918D-8DD63727BC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EE52-ACF8-4AAB-B69F-6BB63197C6E6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2193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0066"/>
                </a:solidFill>
                <a:latin typeface="Tahoma"/>
              </a:rPr>
              <a:t>Black</a:t>
            </a:r>
            <a:br>
              <a:rPr sz="8800"/>
            </a:br>
            <a:r>
              <a:rPr b="0" lang="en-US" sz="8800" spc="-1" strike="noStrike">
                <a:solidFill>
                  <a:srgbClr val="660066"/>
                </a:solidFill>
                <a:latin typeface="Tahoma"/>
              </a:rPr>
              <a:t> Holes</a:t>
            </a:r>
            <a:endParaRPr b="0" lang="en-US" sz="8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038400" y="184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45" name="Picture 8" descr="A Black Hole"/>
          <p:cNvPicPr/>
          <p:nvPr/>
        </p:nvPicPr>
        <p:blipFill>
          <a:blip r:embed="rId1"/>
          <a:stretch/>
        </p:blipFill>
        <p:spPr>
          <a:xfrm>
            <a:off x="5943600" y="304920"/>
            <a:ext cx="2895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Tahoma"/>
              </a:rPr>
              <a:t>Event Horizon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The point at which no light can escape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Tahoma"/>
              </a:rPr>
              <a:t>Singularity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The shrunken star too small to be measured but with indefinite density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027" descr="StaticBlackHole"/>
          <p:cNvPicPr/>
          <p:nvPr/>
        </p:nvPicPr>
        <p:blipFill>
          <a:blip r:embed="rId1"/>
          <a:stretch/>
        </p:blipFill>
        <p:spPr>
          <a:xfrm>
            <a:off x="1143000" y="304920"/>
            <a:ext cx="6400800" cy="63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0066"/>
                </a:solidFill>
                <a:latin typeface="Tahoma"/>
              </a:rPr>
              <a:t>Galaxies</a:t>
            </a:r>
            <a:endParaRPr b="0" lang="en-US" sz="8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63" name="Picture 4" descr="j0300519"/>
          <p:cNvPicPr/>
          <p:nvPr/>
        </p:nvPicPr>
        <p:blipFill>
          <a:blip r:embed="rId1"/>
          <a:stretch/>
        </p:blipFill>
        <p:spPr>
          <a:xfrm>
            <a:off x="3200400" y="3505320"/>
            <a:ext cx="29718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Tahoma"/>
              </a:rPr>
              <a:t>Galaxy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A large assembly of stars and nebulae 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roup of Galaxi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67" name="Picture 1028" descr="Virgo Cluster"/>
          <p:cNvPicPr/>
          <p:nvPr/>
        </p:nvPicPr>
        <p:blipFill>
          <a:blip r:embed="rId1"/>
          <a:stretch/>
        </p:blipFill>
        <p:spPr>
          <a:xfrm>
            <a:off x="1905120" y="1219320"/>
            <a:ext cx="53337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Tahoma"/>
              </a:rPr>
              <a:t>The Milky Way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Our galaxy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Flat disk with spiral arms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The Milky Way"/>
          <p:cNvPicPr/>
          <p:nvPr/>
        </p:nvPicPr>
        <p:blipFill>
          <a:blip r:embed="rId1"/>
          <a:stretch/>
        </p:blipFill>
        <p:spPr>
          <a:xfrm>
            <a:off x="1295280" y="0"/>
            <a:ext cx="678204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Tahoma"/>
              </a:rPr>
              <a:t>Three Types of Galaxies</a:t>
            </a:r>
            <a:endParaRPr b="0" lang="en-US" sz="6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72" name="Picture 5" descr="Copy of j0234677(t)"/>
          <p:cNvPicPr/>
          <p:nvPr/>
        </p:nvPicPr>
        <p:blipFill>
          <a:blip r:embed="rId1"/>
          <a:stretch/>
        </p:blipFill>
        <p:spPr>
          <a:xfrm>
            <a:off x="3429000" y="3657600"/>
            <a:ext cx="2438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66"/>
                </a:solidFill>
                <a:latin typeface="Tahoma"/>
              </a:rPr>
              <a:t>Elliptical</a:t>
            </a:r>
            <a:endParaRPr b="0" lang="en-US" sz="6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Oval shaped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Most common type of galaxy found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" descr="artist concept of a black hole"/>
          <p:cNvPicPr/>
          <p:nvPr/>
        </p:nvPicPr>
        <p:blipFill>
          <a:blip r:embed="rId1"/>
          <a:stretch/>
        </p:blipFill>
        <p:spPr>
          <a:xfrm>
            <a:off x="914400" y="990720"/>
            <a:ext cx="746748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Contains little gas and dust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Most are dim and difficult to see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Centaurus A"/>
          <p:cNvPicPr/>
          <p:nvPr/>
        </p:nvPicPr>
        <p:blipFill>
          <a:blip r:embed="rId1"/>
          <a:stretch/>
        </p:blipFill>
        <p:spPr>
          <a:xfrm>
            <a:off x="762120" y="762120"/>
            <a:ext cx="7391160" cy="56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Tahoma"/>
              </a:rPr>
              <a:t>Spiral 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Dense center with spiral arms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Bright and easy to see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Contains large amounts of gas and dust – always producing new stars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026"/>
          <p:cNvSpPr/>
          <p:nvPr/>
        </p:nvSpPr>
        <p:spPr>
          <a:xfrm>
            <a:off x="2949480" y="216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83" name="Picture 1028" descr="M100"/>
          <p:cNvPicPr/>
          <p:nvPr/>
        </p:nvPicPr>
        <p:blipFill>
          <a:blip r:embed="rId1"/>
          <a:stretch/>
        </p:blipFill>
        <p:spPr>
          <a:xfrm>
            <a:off x="1143000" y="304920"/>
            <a:ext cx="632448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029" descr="A typical spiral galaxy"/>
          <p:cNvPicPr/>
          <p:nvPr/>
        </p:nvPicPr>
        <p:blipFill>
          <a:blip r:embed="rId1"/>
          <a:stretch/>
        </p:blipFill>
        <p:spPr>
          <a:xfrm>
            <a:off x="533520" y="838080"/>
            <a:ext cx="8001000" cy="58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Tahoma"/>
              </a:rPr>
              <a:t>Irregular</a:t>
            </a:r>
            <a:endParaRPr b="0" lang="en-US" sz="7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No specific shape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Contains large amounts of gas and dust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Small and faint therefore hard to see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1027" descr="An irregular galaxy"/>
          <p:cNvPicPr/>
          <p:nvPr/>
        </p:nvPicPr>
        <p:blipFill>
          <a:blip r:embed="rId1"/>
          <a:stretch/>
        </p:blipFill>
        <p:spPr>
          <a:xfrm>
            <a:off x="838080" y="762120"/>
            <a:ext cx="7467840" cy="55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0066"/>
                </a:solidFill>
                <a:latin typeface="Tahoma"/>
              </a:rPr>
              <a:t>Quasars</a:t>
            </a:r>
            <a:endParaRPr b="0" lang="en-US" sz="8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See Explanation.  Clicking on the picture will download&#13; the largest version available."/>
          <p:cNvPicPr/>
          <p:nvPr/>
        </p:nvPicPr>
        <p:blipFill>
          <a:blip r:embed="rId1"/>
          <a:stretch/>
        </p:blipFill>
        <p:spPr>
          <a:xfrm>
            <a:off x="304920" y="914400"/>
            <a:ext cx="84582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66"/>
                </a:solidFill>
                <a:latin typeface="Tahoma"/>
              </a:rPr>
              <a:t>Quasars</a:t>
            </a:r>
            <a:endParaRPr b="0" lang="en-US" sz="6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Small, powerful source of energy thought to be cores of distant spiral galaxies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They emit radio waves and bright light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2376360" y="23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97" name="Picture 4" descr="Quasar at the heart of a galaxy"/>
          <p:cNvPicPr/>
          <p:nvPr/>
        </p:nvPicPr>
        <p:blipFill>
          <a:blip r:embed="rId1"/>
          <a:stretch/>
        </p:blipFill>
        <p:spPr>
          <a:xfrm>
            <a:off x="304920" y="1066680"/>
            <a:ext cx="8458200" cy="47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0066"/>
                </a:solidFill>
                <a:latin typeface="Tahoma"/>
              </a:rPr>
              <a:t>Black Holes</a:t>
            </a:r>
            <a:endParaRPr b="0" lang="en-US" sz="6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The intense gravitational field left when a giant star collapses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Diagram of Cygnus X-1 system"/>
          <p:cNvPicPr/>
          <p:nvPr/>
        </p:nvPicPr>
        <p:blipFill>
          <a:blip r:embed="rId1"/>
          <a:stretch/>
        </p:blipFill>
        <p:spPr>
          <a:xfrm>
            <a:off x="914400" y="685800"/>
            <a:ext cx="6934320" cy="57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It is called a black hole because not even light can escape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027" descr="blackhole_illustration"/>
          <p:cNvPicPr/>
          <p:nvPr/>
        </p:nvPicPr>
        <p:blipFill>
          <a:blip r:embed="rId1"/>
          <a:stretch/>
        </p:blipFill>
        <p:spPr>
          <a:xfrm>
            <a:off x="533520" y="457200"/>
            <a:ext cx="7924680" cy="61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blackhole.mpg" descr=""/>
          <p:cNvPicPr/>
          <p:nvPr/>
        </p:nvPicPr>
        <p:blipFill>
          <a:blip r:embed="rId1"/>
          <a:stretch/>
        </p:blipFill>
        <p:spPr>
          <a:xfrm>
            <a:off x="1219320" y="206280"/>
            <a:ext cx="6324480" cy="60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0066"/>
                </a:solidFill>
                <a:latin typeface="Tahoma"/>
              </a:rPr>
              <a:t>Photon Sphere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545472"/>
                </a:solidFill>
                <a:latin typeface="Tahoma"/>
              </a:rPr>
              <a:t>The outer edge where light bends but is still escapable</a:t>
            </a:r>
            <a:endParaRPr b="0" lang="en-US" sz="6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01:01:15Z</dcterms:created>
  <dc:creator>Daniel LeClere</dc:creator>
  <dc:description/>
  <dc:language>en-US</dc:language>
  <cp:lastModifiedBy>RomaK</cp:lastModifiedBy>
  <dcterms:modified xsi:type="dcterms:W3CDTF">2015-07-31T22:36:58Z</dcterms:modified>
  <cp:revision>9</cp:revision>
  <dc:subject/>
  <dc:title>Black  Holes</dc:title>
</cp:coreProperties>
</file>