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6.png" ContentType="image/png"/>
  <Override PartName="/ppt/media/image15.gif" ContentType="image/gif"/>
  <Override PartName="/ppt/media/image2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4881-7E7B-40E1-A715-296CBEBBD0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98AD-49A6-454E-B1DE-C0E931B63E90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B701-0B9B-4356-861D-8133E09BF68B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 Hori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at which no light can e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F0B8-01D0-4CD2-BC72-0B785A580C7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u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runken star too small to be measured but with indefinite 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4BDE-373F-44F7-BD83-8183F0EDB28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B0BD-3C7D-4330-88A9-AAD54F1CD80F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6C6C-2C5F-419E-9AED-E73BC6AE4096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ssembly of stars and nebula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AB97-F93E-47F8-B157-BF3CFCA1416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E5EB-CFBC-4F67-A3F2-44FF1C43EB8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ilky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 disk with 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5843-F752-4FD4-A092-23172CD571F1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2DB7-D0E5-4E3E-8BFD-FD4B30EC83D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7866-CFD6-4171-8B54-C34DB77DD1D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lip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l sha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type of galaxy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243B-C213-4FB7-902C-413F12D52AEC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A89C-E797-4CE9-B00C-1D7A270E3333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ittle gas and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dim and difficult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A158-F7FA-4492-B03C-A4B7593143C2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6FDA-8613-4D6E-8E11-B18BF708BDF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i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center with 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and easy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E96A-0F50-4115-B1D7-B89D04390C61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arge amounts of gas and dust – always producing new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9C53-DF75-499F-8EEF-16873145AC96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4628-2D28-4E34-8F95-8819E5E8AF4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9CD8-D819-4737-A0E5-82ABE5F0137B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re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pecific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arge amounts of gas and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EFD9-D5A2-4B8D-AB29-BE21EB8C303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nd faint therefore hard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64CD-4F4B-46D1-90F9-FD6CD75AA7B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F9E6-938F-47D5-B564-DD85D0AB65FC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s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6DE6-00B4-4C04-90B4-08B2A1E04632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74F3-36A4-444B-8A02-BD11E6D53C3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s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, powerful source of energy thought to be cores of distant spiral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35AB-206A-4553-88D9-E98FC5D5E5A0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mit radio waves and bright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02B6-4BB3-4E56-9948-712AF2F59E1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56B8-3672-475A-9678-9713202868A3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nse gravitational field left when a giant star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A54F-BEFE-496F-8964-2CAF49700B3C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85C5-9167-426D-8DCC-FF059471FF71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a black hole because not even light can e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3C13-F69E-4603-97B0-2368E85961F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DEF5-A6F8-4884-827A-B3BCFD9981B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EFD8-E89B-41DF-BFD9-D85C2A30FE7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oton Sphe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 edge where light bends but is still escap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27FE-28D8-49DA-8C61-90E6472E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DD9-5F67-48B3-BE3D-D2A82E69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7F4C-306F-4172-AF4E-2E40C47B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692-16FB-4052-BBD7-C7DEB301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5B46-0450-4094-830B-83F619C3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02CC-4D12-425C-BBA1-8A4CDD4C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632C-52A0-4CDD-B5A4-27C48EF3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2AA6-7CFE-41B5-8C17-13B54EF9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4E74-B2C6-445A-91EE-8679B06F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7274-48E1-499D-9B59-57FF26DD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F5E0-F278-42D1-8D5F-D5AB930A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02E-4618-4C3F-B614-7E120E32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AE8C-2319-42AC-8437-BC511570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4A35-BD5D-456D-998F-BAE3FED2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C07C-B1D7-4C69-BD23-8DD81A07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6CA9-BE32-49CC-9F0F-1508EF23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5AC8-6076-4783-8B1C-98B32B96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2D47-F312-4DA3-85DA-C885F397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F17D-0031-4CE0-B44F-93E5E3F3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8EB7-34CB-4D0A-94E8-703F40D7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B21B-C684-40F7-A81F-2432E1E2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4F5-3439-48BA-902D-E3C5A83B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30C-F2D1-4D7B-9483-6C172090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64C-011E-4D6A-846E-A770AB4E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60F8-2566-4E80-A025-E8602541C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A241-9F02-4447-AD80-2D51A2E8EC4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Black</a:t>
            </a:r>
            <a:br>
              <a:rPr sz="8800"/>
            </a:b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 Hole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038400" y="18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5" name="Picture 8" descr="A Black Hole"/>
          <p:cNvPicPr/>
          <p:nvPr/>
        </p:nvPicPr>
        <p:blipFill>
          <a:blip r:embed="rId1"/>
          <a:stretch/>
        </p:blipFill>
        <p:spPr>
          <a:xfrm>
            <a:off x="5943600" y="304920"/>
            <a:ext cx="2895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Event Horizon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point at which no light can esc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Singularit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shrunken star too small to be measured but with indefinite density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027" descr="StaticBlackHole"/>
          <p:cNvPicPr/>
          <p:nvPr/>
        </p:nvPicPr>
        <p:blipFill>
          <a:blip r:embed="rId1"/>
          <a:stretch/>
        </p:blipFill>
        <p:spPr>
          <a:xfrm>
            <a:off x="1143000" y="304920"/>
            <a:ext cx="640080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Galaxie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3" name="Picture 4" descr="j0300519"/>
          <p:cNvPicPr/>
          <p:nvPr/>
        </p:nvPicPr>
        <p:blipFill>
          <a:blip r:embed="rId1"/>
          <a:stretch/>
        </p:blipFill>
        <p:spPr>
          <a:xfrm>
            <a:off x="3200400" y="3505320"/>
            <a:ext cx="29718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Galax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A large assembly of stars and nebulae 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oup of Galax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7" name="Picture 1028" descr="Virgo Cluster"/>
          <p:cNvPicPr/>
          <p:nvPr/>
        </p:nvPicPr>
        <p:blipFill>
          <a:blip r:embed="rId1"/>
          <a:stretch/>
        </p:blipFill>
        <p:spPr>
          <a:xfrm>
            <a:off x="1905120" y="1219320"/>
            <a:ext cx="5333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The Milky Wa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Our galaxy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Flat disk with spiral arm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The Milky Way"/>
          <p:cNvPicPr/>
          <p:nvPr/>
        </p:nvPicPr>
        <p:blipFill>
          <a:blip r:embed="rId1"/>
          <a:stretch/>
        </p:blipFill>
        <p:spPr>
          <a:xfrm>
            <a:off x="1295280" y="0"/>
            <a:ext cx="67820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Three Types of Galaxies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2" name="Picture 5" descr="Copy of j0234677(t)"/>
          <p:cNvPicPr/>
          <p:nvPr/>
        </p:nvPicPr>
        <p:blipFill>
          <a:blip r:embed="rId1"/>
          <a:stretch/>
        </p:blipFill>
        <p:spPr>
          <a:xfrm>
            <a:off x="3429000" y="3657600"/>
            <a:ext cx="243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Elliptical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Oval shaped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Most common type of galaxy found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artist concept of a black hole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ittle gas and dus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Most are dim and difficult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Centaurus A"/>
          <p:cNvPicPr/>
          <p:nvPr/>
        </p:nvPicPr>
        <p:blipFill>
          <a:blip r:embed="rId1"/>
          <a:stretch/>
        </p:blipFill>
        <p:spPr>
          <a:xfrm>
            <a:off x="762120" y="762120"/>
            <a:ext cx="739116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Spiral 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Dense center with spiral arm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Bright and easy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arge amounts of gas and dust – always producing new star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26"/>
          <p:cNvSpPr/>
          <p:nvPr/>
        </p:nvSpPr>
        <p:spPr>
          <a:xfrm>
            <a:off x="2949480" y="21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3" name="Picture 1028" descr="M100"/>
          <p:cNvPicPr/>
          <p:nvPr/>
        </p:nvPicPr>
        <p:blipFill>
          <a:blip r:embed="rId1"/>
          <a:stretch/>
        </p:blipFill>
        <p:spPr>
          <a:xfrm>
            <a:off x="1143000" y="304920"/>
            <a:ext cx="63244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029" descr="A typical spiral galaxy"/>
          <p:cNvPicPr/>
          <p:nvPr/>
        </p:nvPicPr>
        <p:blipFill>
          <a:blip r:embed="rId1"/>
          <a:stretch/>
        </p:blipFill>
        <p:spPr>
          <a:xfrm>
            <a:off x="533520" y="838080"/>
            <a:ext cx="80010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Irregular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No specific sh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arge amounts of gas and dus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Small and faint therefore hard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027" descr="An irregular galaxy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Quasar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See Explanation.  Clicking on the picture will download&#13; the largest version available."/>
          <p:cNvPicPr/>
          <p:nvPr/>
        </p:nvPicPr>
        <p:blipFill>
          <a:blip r:embed="rId1"/>
          <a:stretch/>
        </p:blipFill>
        <p:spPr>
          <a:xfrm>
            <a:off x="304920" y="914400"/>
            <a:ext cx="84582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Quasars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Small, powerful source of energy thought to be cores of distant spiral galaxie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y emit radio waves and bright ligh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376360" y="23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7" name="Picture 4" descr="Quasar at the heart of a galaxy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Black Holes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intense gravitational field left when a giant star collapse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Diagram of Cygnus X-1 system"/>
          <p:cNvPicPr/>
          <p:nvPr/>
        </p:nvPicPr>
        <p:blipFill>
          <a:blip r:embed="rId1"/>
          <a:stretch/>
        </p:blipFill>
        <p:spPr>
          <a:xfrm>
            <a:off x="914400" y="685800"/>
            <a:ext cx="693432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It is called a black hole because not even light can esc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027" descr="blackhole_illustration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blackhole.mpg" descr=""/>
          <p:cNvPicPr/>
          <p:nvPr/>
        </p:nvPicPr>
        <p:blipFill>
          <a:blip r:embed="rId1"/>
          <a:stretch/>
        </p:blipFill>
        <p:spPr>
          <a:xfrm>
            <a:off x="1219320" y="206280"/>
            <a:ext cx="632448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ahoma"/>
              </a:rPr>
              <a:t>Photon Sphere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outer edge where light bends but is still escapabl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01:01:15Z</dcterms:created>
  <dc:creator>Daniel LeClere</dc:creator>
  <dc:description/>
  <dc:language>en-US</dc:language>
  <cp:lastModifiedBy>RomaK</cp:lastModifiedBy>
  <dcterms:modified xsi:type="dcterms:W3CDTF">2015-07-31T22:36:58Z</dcterms:modified>
  <cp:revision>9</cp:revision>
  <dc:subject/>
  <dc:title>Black  Holes</dc:title>
</cp:coreProperties>
</file>