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CDF2-AD03-4B00-BDA0-182E30CF22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840-C563-4EF8-8F4C-6748D50D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66D-BA13-4CF4-A377-446B79A9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FC8-4982-4B88-9A1C-A249215E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122-29A4-43E6-BB5E-E2B8A064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62B4-23F3-4CC0-8067-737CBA9C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E1B5-C435-485F-96F0-ED43D48E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D40A-6C1D-4BFE-8DDF-6DFD5B55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2899-446B-4321-A035-B4329F22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60A1-8CC8-4007-AB1B-D37D06CE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1969-F07F-4BFF-93F2-316806CB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1130-A5AB-4240-9225-01B624B6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B47-1921-4586-8D89-67BE3798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F1EC-E555-46E8-995B-54A3E80D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08FC-67EA-4E8E-95F0-FC272488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2B4E-DC4C-47B7-A1F8-9A464D9D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A910-6FFC-4FCB-B8F1-3E900672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CA4F-A6A3-4F66-9CE1-89787A0C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F9F-CF92-4C7C-A4C2-A884108E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CCF-64DC-446A-A870-D0B41F97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32D-6317-43CD-9F35-CC03913D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45B-1C7C-4346-8679-608440B4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92C-9917-4CC3-A6D1-68E14552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748-140A-4C4F-8C37-8EFECAD8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E6F-F245-41BC-ABBD-7D698BFF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E49A-8789-4284-8374-863CCB33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8C77-E5D4-4F15-824B-2BD07FD02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lgebraic Solving Metho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ing Chemical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Balance This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3048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3)2 + Cr(MnO4)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2O3+ MnO2 + Pb3O4 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9372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= 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0948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ive Each Compound a Var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A is the amount of Pb on the left side of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3E is the amount on the lef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A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itute in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1=3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/3=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x1=F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 or B/2=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 or B=D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B=3(B/2)+3(2B)+4(1/3)+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2800" y="1219320"/>
            <a:ext cx="8936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Oxygen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049120"/>
            <a:ext cx="82249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: 8B=3B/2+4B+4/3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lowest common multiple of 2 and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each side by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6x] 8B=(3B/2)+(4B+4/3)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9B+24B+8+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33B+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B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ify Your Fr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(B/2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44/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2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(2/1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1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GCD and multiply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Now You Have A Finished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itute each value into the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4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2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44 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22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88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5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90 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2:22:10Z</dcterms:created>
  <dc:creator>Samantha Madden</dc:creator>
  <dc:description/>
  <dc:language>en-US</dc:language>
  <cp:lastModifiedBy>LEGION</cp:lastModifiedBy>
  <dcterms:modified xsi:type="dcterms:W3CDTF">2015-09-04T09:52:55Z</dcterms:modified>
  <cp:revision>11</cp:revision>
  <dc:subject/>
  <dc:title>Algebraic Solving Method</dc:title>
</cp:coreProperties>
</file>