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89D66-5AAE-4E75-A2B9-144FBF97120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gebraic Solving Metho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lancing Chemical Equ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Solving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Chemical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Balance This Equ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Pb(N3)2 + Cr(MnO4)2  Cr2O3+ MnO2 + Pb3O4 + 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alance This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b(N3)2 + Cr(MnO4)2  Cr2O3+ MnO2 + Pb3O4 +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b(N3)2 + Cr(MnO4)2  Cr2O3+ MnO2 + Pb3O4 + 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t Pb(N3)2 = 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t Cr(MnO4)2 = 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t Cr2O3= 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t MnO2= 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t Pb3O4= 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t NO= 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ive Each Compound a Variab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b(N3)2 + Cr(MnO4)2  Cr2O3+ MnO2 + Pb3O4 +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Pb(N3)2 =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Cr(MnO4)2 =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Cr2O3=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MnO2=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Pb3O4= 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NO= 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 Each Compound a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ve For Each of the Variab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b(N3)2+Cr(MnO4)2Cr2O3+MnO2+Pb3O4+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t A=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b: A=3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* A is the amount of Pb on the left side of the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equ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*3E is the amount on the left si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 For Each of the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b(N3)2+Cr(MnO4)2Cr2O3+MnO2+Pb3O4+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A=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b: A=3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A is the amount of Pb on the left side of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3E is the amount on the lef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Solve For Each of the Variab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A=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b: A=3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N: 6A=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Cr: B=2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Mn: 2B=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O: 8B=3C+2D+4E+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Substitute in 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b: 1=3E  1/3=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N: 6x1=F  6=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Cr: B=2C or B/2=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Mn: 2B=D or B=D/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O: 8B=3C+2D+4E+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8B=3(B/2)+3(2B)+4(1/3)+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b(N3)2+Cr(MnO4)2Cr2O3+MnO2+Pb3O4+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lve For Each of the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=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b: A=3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: 6A=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r: B=2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n: 2B=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: 8B=3C+2D+4E+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bstitute in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b: 1=3E  1/3=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: 6x1=F  6=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r: B=2C or B/2=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n: 2B=D or B=D/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: 8B=3C+2D+4E+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B=3(B/2)+3(2B)+4(1/3)+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b(N3)2+Cr(MnO4)2Cr2O3+MnO2+Pb3O4+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ve for Oxyge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: 8B=3B/2+4B+4/3+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nd a lowest common multiple of 2 and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ultiply each side by 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[6x] 8B=(3B/2)+(4B+4/3)+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8B=9B+24B+8+3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8B=33B+4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5B=4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 for Oxyg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: 8B=3B/2+4B+4/3+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west common multiple of 2 and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each side by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6x] 8B=(3B/2)+(4B+4/3)+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8B=9B+24B+8+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8B=33B+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B=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mplify Your Frac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=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=44/1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=(B/2)x(44/15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=44/3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=2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=(2/1)x(44/15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=88/1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=1/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=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nd a GCD and multiply eac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=1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=4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=2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=8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=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=9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 Your Fr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=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=44/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=(B/2)x(44/1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=44/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=2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=(2/1)x(44/1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=88/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=1/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=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GCD and multiply ea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=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=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=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=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=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=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w You Have A Finished Equ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bstitute each value into the equ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=15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=8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=44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=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=22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=90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5Pb(N3)2 +44 Cr(MnO4)2  22Cr2O3+ 88MnO2 + 5Pb3O4 +90 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You Have A Finished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itute each value into the 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=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=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=4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=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=2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=9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Pb(N3)2 +44 Cr(MnO4)2  22Cr2O3+ 88MnO2 + 5Pb3O4 +90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5825-532B-4C9C-8227-C10792DFB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E8FE-B71B-46BB-883B-44A2AE78B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781A-440F-482E-BC07-75B761018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DDE4-8A54-4233-978E-92B7F21BA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9700E-DBEA-46CD-8C57-89D4DD94D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DF349-6AD6-41E1-8C69-4DEEC2BD9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8CDFE-0EA6-4326-AB93-3EBBEB349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F35F3-D724-46ED-A5F1-FC2D08D23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F3224-7DC7-4C86-9A54-D56382AD7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09218-28A3-49E0-A536-9AD2FEEE7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27E5F-40BD-4B56-9E09-BEC57DD69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0527-9E17-4F75-B43F-C1C1F6335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357AF-4CF2-42E7-8765-23B4A938E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8A44A-8CAC-453B-A382-3542488B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84495-F712-4FBE-A546-F94E83098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5D0DD-D3D7-48A9-B8A8-423A2ED6F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01B5C-DF16-49D9-AF6F-25FDB97B7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C92C-264F-4538-8934-EB0A5AD81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9423-5CB9-4862-9AD2-D9F5B00F6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168F-02DC-48EB-89FA-A691E2937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2F68-E1EF-4137-97B2-6D0FC3CD9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E0AE-6B4F-433D-B315-17A0E1B9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78E4-B44F-4095-978A-D8FC14D4C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3B02-1FFA-4C14-B048-D55605C9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50B57-3E36-4F9C-BD41-9D2D5FD6AB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AC5E5-8207-43AC-808E-5D3B83FAC1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7e7ff"/>
                </a:solidFill>
                <a:latin typeface="Arial"/>
              </a:rPr>
              <a:t>Algebraic Solving Method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ancing Chemical Equ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Balance This Equation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0" y="30481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b(N3)2 + Cr(MnO4)2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r2O3+ MnO2 + Pb3O4 + 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-360" y="1218960"/>
            <a:ext cx="9372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b(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 Cr(M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r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 M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 Pb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4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 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Pb(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Cr(M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Cr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M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Pb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NO= 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609480" y="22860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Give Each Compound a Variab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olve For Each of the Variabl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b(N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+Cr(Mn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r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+Mn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+Pb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+N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A=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b: A=3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* A is the amount of Pb on the left side of th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eq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*3E is the amount on the left s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olve For Each of the Variabl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8102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=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b: A=3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: 6A=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: B=2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n: 2B=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: 8B=3C+2D+4E+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495680" y="1905120"/>
            <a:ext cx="42674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stitute in 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b: 1=3E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1/3=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: 6x1=F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6=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: B=2C or B/2=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n: 2B=D or B=D/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: 8B=3C+2D+4E+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B=3(B/2)+3(2B)+4(1/3)+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82800" y="1219320"/>
            <a:ext cx="89366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b(N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+Cr(Mn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+Mn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+Pb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+N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olve for Oxygen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2049120"/>
            <a:ext cx="822492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: 8B=3B/2+4B+4/3+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d a lowest common multiple of 2 and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y each side by 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[6x] 8B=(3B/2)+(4B+4/3)+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8B=9B+24B+8+3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8B=33B+4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5B=4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implify Your Frac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=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=44/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=(B/2)x(44/1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=44/3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=2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=(2/1)x(44/1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=88/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=1/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=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d a GCD and multiply ea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=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=4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=2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=8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=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=9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Now You Have A Finished Equation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stitute each value into the equ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=1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=8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=4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=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=22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=9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5Pb(N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+44 Cr(Mn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22Cr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+ 88Mn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+ 5Pb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4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+90 N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7T02:22:10Z</dcterms:created>
  <dc:creator>Samantha Madden</dc:creator>
  <dc:description/>
  <dc:language>en-US</dc:language>
  <cp:lastModifiedBy>LEGION</cp:lastModifiedBy>
  <dcterms:modified xsi:type="dcterms:W3CDTF">2015-09-04T09:52:55Z</dcterms:modified>
  <cp:revision>11</cp:revision>
  <dc:subject/>
  <dc:title>Algebraic Solving Method</dc:title>
</cp:coreProperties>
</file>