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8.png" ContentType="image/png"/>
  <Override PartName="/ppt/media/image11.png" ContentType="image/png"/>
  <Override PartName="/ppt/media/image7.jpeg" ContentType="image/jpeg"/>
  <Override PartName="/ppt/media/image6.png" ContentType="image/pn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7.png" ContentType="image/pn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C9DD-B003-4393-B1B0-89E5B66E7CE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f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atures of the Earth’s surface and how they are formed and chang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andfo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eatures of the Earth’s surface and how they are formed and chang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ch formed by water erosion -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each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each formed by water erosion - oce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y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yons formed by water erosion –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by wind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ny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nyons formed by water erosion – ri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R by wind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if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Cliff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s formed by wind de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ser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serts formed by wind depos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sas and Platea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sas and plateaus formed by wind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esas and Platea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esas and plateaus formed by wind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ntains formed by earthquakes and pushing up of cr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untains formed by earthquakes and pushing up of cru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land formed by deposition of rivers/floodwa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ew land formed by deposition of rivers/floodwat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 that shape the Earth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canoes and Earthquak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vers and 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ods and Mud sl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 and water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th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e and Glaci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orces that shape the Earth’s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olcanoes and Earthquak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ivers and R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loods and Mud sli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ind and water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athe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ce and Glaci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pos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8638-261B-4D7B-BD40-A48903586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30DB-CC68-4CE5-8A84-1EC9CE87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A4EA-FBAC-4A55-BB39-41F283109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6DB5-6061-454C-B0B6-0592229D1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D41B-4E8F-4C99-ACFF-D393DA485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310A-09D2-4E9A-B258-183FF589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0011-353E-47AA-8DF4-79407809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ED30-26D9-49E2-A6BD-2C694FAF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AD4B-A8EE-443C-B88C-523F6A59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222E-0AD9-411F-9E73-39CD88E6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A398-6231-40AD-B765-753BF6A9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0217-CE88-42AE-9A42-2C4FF1A1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A1B0-F6D2-4997-92D6-5BD46421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2DB0-7870-46E7-94FE-882F7615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3D4A-8039-462E-959B-CE4F79C8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96EC-BC49-4483-8640-917F2C908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7AA8-044C-4328-AA76-849CC6520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DDC2-559F-409D-8330-16987594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7A8E-F388-4EA7-A6EE-2CFD64B5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FA04-B44E-49B4-B6C2-181285DD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2AB4-07EB-4515-86D9-9AE356C6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23B4-A0E5-4FA8-B312-90F8257D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B81C-ABA9-43AB-9866-1889E9F0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A451-2689-49EE-A5D6-F9BD9669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1AC1-5BBA-4998-AC07-C35140D59F7F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800A-EBBB-4685-A5B6-28FCFFDCD70A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229600" cy="2401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eatures of the Earth’s surface and how they are formed and chang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92" name="Content Placeholder 3" descr="Beach.gif"/>
          <p:cNvPicPr/>
          <p:nvPr/>
        </p:nvPicPr>
        <p:blipFill>
          <a:blip r:embed="rId2"/>
          <a:stretch/>
        </p:blipFill>
        <p:spPr>
          <a:xfrm>
            <a:off x="685800" y="1523880"/>
            <a:ext cx="4419720" cy="16002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2374200" y="3244680"/>
            <a:ext cx="43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Beach formed by water erosion - oce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12" descr="beach 2.jpg"/>
          <p:cNvPicPr/>
          <p:nvPr/>
        </p:nvPicPr>
        <p:blipFill>
          <a:blip r:embed="rId3"/>
          <a:stretch/>
        </p:blipFill>
        <p:spPr>
          <a:xfrm>
            <a:off x="2971800" y="3809880"/>
            <a:ext cx="4876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96" name="Content Placeholder 5" descr="canyon 2.jpg"/>
          <p:cNvPicPr/>
          <p:nvPr/>
        </p:nvPicPr>
        <p:blipFill>
          <a:blip r:embed="rId2"/>
          <a:stretch/>
        </p:blipFill>
        <p:spPr>
          <a:xfrm>
            <a:off x="990720" y="441972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anyon.gif"/>
          <p:cNvPicPr/>
          <p:nvPr/>
        </p:nvPicPr>
        <p:blipFill>
          <a:blip r:embed="rId3"/>
          <a:stretch/>
        </p:blipFill>
        <p:spPr>
          <a:xfrm>
            <a:off x="2895480" y="1600200"/>
            <a:ext cx="3200400" cy="16765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2362320" y="3429000"/>
            <a:ext cx="438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Canyons formed by water erosion – 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OR by wind ero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7" descr="canyon 4.jpg"/>
          <p:cNvPicPr/>
          <p:nvPr/>
        </p:nvPicPr>
        <p:blipFill>
          <a:blip r:embed="rId4"/>
          <a:stretch/>
        </p:blipFill>
        <p:spPr>
          <a:xfrm>
            <a:off x="5257800" y="4267080"/>
            <a:ext cx="29462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2" name="Picture 3" descr="fjord.gif"/>
          <p:cNvPicPr/>
          <p:nvPr/>
        </p:nvPicPr>
        <p:blipFill>
          <a:blip r:embed="rId2"/>
          <a:stretch/>
        </p:blipFill>
        <p:spPr>
          <a:xfrm>
            <a:off x="2819520" y="2417760"/>
            <a:ext cx="335268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04" name="Content Placeholder 5" descr="desert 2.jpg"/>
          <p:cNvPicPr/>
          <p:nvPr/>
        </p:nvPicPr>
        <p:blipFill>
          <a:blip r:embed="rId2"/>
          <a:stretch/>
        </p:blipFill>
        <p:spPr>
          <a:xfrm>
            <a:off x="5181480" y="4114800"/>
            <a:ext cx="2286000" cy="2057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Desert.gif"/>
          <p:cNvPicPr/>
          <p:nvPr/>
        </p:nvPicPr>
        <p:blipFill>
          <a:blip r:embed="rId3"/>
          <a:stretch/>
        </p:blipFill>
        <p:spPr>
          <a:xfrm>
            <a:off x="609480" y="1752480"/>
            <a:ext cx="2590920" cy="16765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"/>
          <p:cNvSpPr/>
          <p:nvPr/>
        </p:nvSpPr>
        <p:spPr>
          <a:xfrm>
            <a:off x="4023720" y="3244680"/>
            <a:ext cx="39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Deserts formed by wind depos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08" name="Content Placeholder 5" descr="canyon 3.jpg"/>
          <p:cNvPicPr/>
          <p:nvPr/>
        </p:nvPicPr>
        <p:blipFill>
          <a:blip r:embed="rId2"/>
          <a:stretch/>
        </p:blipFill>
        <p:spPr>
          <a:xfrm>
            <a:off x="1295280" y="388620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Mesa.gif"/>
          <p:cNvPicPr/>
          <p:nvPr/>
        </p:nvPicPr>
        <p:blipFill>
          <a:blip r:embed="rId3"/>
          <a:stretch/>
        </p:blipFill>
        <p:spPr>
          <a:xfrm>
            <a:off x="5715000" y="1828800"/>
            <a:ext cx="2747880" cy="2124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533520" y="2514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Mesas and plateaus formed by wind ero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12" name="Content Placeholder 5" descr="mountain 1.jpg"/>
          <p:cNvPicPr/>
          <p:nvPr/>
        </p:nvPicPr>
        <p:blipFill>
          <a:blip r:embed="rId1"/>
          <a:stretch/>
        </p:blipFill>
        <p:spPr>
          <a:xfrm>
            <a:off x="4267080" y="1905120"/>
            <a:ext cx="2362320" cy="1447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Mountain.gif"/>
          <p:cNvPicPr/>
          <p:nvPr/>
        </p:nvPicPr>
        <p:blipFill>
          <a:blip r:embed="rId2"/>
          <a:stretch/>
        </p:blipFill>
        <p:spPr>
          <a:xfrm>
            <a:off x="609480" y="1752480"/>
            <a:ext cx="1981440" cy="21718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4"/>
          <p:cNvSpPr/>
          <p:nvPr/>
        </p:nvSpPr>
        <p:spPr>
          <a:xfrm>
            <a:off x="3124080" y="3505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Mountains formed by earthquakes and pushing up of cr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6" descr="mountain 2.jpg"/>
          <p:cNvPicPr/>
          <p:nvPr/>
        </p:nvPicPr>
        <p:blipFill>
          <a:blip r:embed="rId3"/>
          <a:stretch/>
        </p:blipFill>
        <p:spPr>
          <a:xfrm>
            <a:off x="2057400" y="45720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mountain 3.jpg"/>
          <p:cNvPicPr/>
          <p:nvPr/>
        </p:nvPicPr>
        <p:blipFill>
          <a:blip r:embed="rId4"/>
          <a:stretch/>
        </p:blipFill>
        <p:spPr>
          <a:xfrm>
            <a:off x="6248520" y="4114800"/>
            <a:ext cx="19047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18" name="Content Placeholder 3" descr="delta 1.jpg"/>
          <p:cNvPicPr/>
          <p:nvPr/>
        </p:nvPicPr>
        <p:blipFill>
          <a:blip r:embed="rId1"/>
          <a:stretch/>
        </p:blipFill>
        <p:spPr>
          <a:xfrm>
            <a:off x="609480" y="1647720"/>
            <a:ext cx="2286000" cy="1457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delta 2.jpg"/>
          <p:cNvPicPr/>
          <p:nvPr/>
        </p:nvPicPr>
        <p:blipFill>
          <a:blip r:embed="rId2"/>
          <a:stretch/>
        </p:blipFill>
        <p:spPr>
          <a:xfrm>
            <a:off x="6019920" y="3048120"/>
            <a:ext cx="2328840" cy="1542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delta 3.jpg"/>
          <p:cNvPicPr/>
          <p:nvPr/>
        </p:nvPicPr>
        <p:blipFill>
          <a:blip r:embed="rId3"/>
          <a:stretch/>
        </p:blipFill>
        <p:spPr>
          <a:xfrm>
            <a:off x="1828800" y="4255920"/>
            <a:ext cx="2514600" cy="19638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1828800" y="33526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New land formed by deposition of rivers/floodwa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itle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olcanoes and Earthquak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ivers and Ra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loods and Mud slid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ind and water eros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eather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ce and Glacie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posi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4:17:26Z</dcterms:created>
  <dc:creator>Ector County ISD Employee</dc:creator>
  <dc:description/>
  <dc:language>en-US</dc:language>
  <cp:lastModifiedBy>RomaK</cp:lastModifiedBy>
  <dcterms:modified xsi:type="dcterms:W3CDTF">2015-09-04T09:43:29Z</dcterms:modified>
  <cp:revision>9</cp:revision>
  <dc:subject/>
  <dc:title>Landforms</dc:title>
</cp:coreProperties>
</file>