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7550-FD76-45E2-BB1F-8EB6033FAE5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f the Earth’s surface and how they are formed and chan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atures of the Earth’s surface and how they are formed and 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ch formed by water erosion -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a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ach formed by water erosion - 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y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yons formed by water erosion –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by win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ny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nyons formed by water erosion – ri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R by win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f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liff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s formed by wind de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er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erts formed by wind de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as and Plate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as and plateaus formed by win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sas and Platea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sas and plateaus formed by win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ntains formed by earthquakes and pushing up of c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untains formed by earthquakes and pushing up of cr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land formed by deposition of rivers/floodwa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w land formed by deposition of rivers/floodwat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 that shape the Earth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canoes and Earthqua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s an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ods and Mud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and water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 and Glaci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rces that shape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olcanoes and Earthquak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vers and R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loods and Mud sli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nd and water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ath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ce and Glaci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2071-4BBD-4B7C-A19B-24E818A7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B305-12B9-4455-9F82-3F652D6D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401B-A241-4B9C-BD5B-532A7E7E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188-960C-4A3F-A385-EADB6E35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E515-CFF6-4DD5-B5E8-316ADE7E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3FD2-0CCF-44B5-984E-C43FD762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3F02-3444-442F-BD1B-91FE6456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6338-4D57-4631-BAF2-1ADB4084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E49C-6F7D-4264-B241-6F1CC2D7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BC87-433A-4F73-A693-626879C6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2B1D-D5A7-494C-9730-50662AEF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F37-0A6B-477D-B20D-C45E887E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50C6-FE9A-4682-8A70-65CF7BB9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67ED-6298-4833-9CDD-B7125F20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126E-E295-4E16-9EB0-1FB52DCB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F928-A317-4E07-BA9D-7645AE46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F2BD-479D-4BDA-AEBF-82D7B89B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755-FB1A-480C-91DE-312CA947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5FC-3F0A-4802-AECE-D7BA0179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291-05EB-4055-A972-ED11D7FC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286-2A09-4666-97AD-758E169A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E88-863F-455F-8B23-264CB50E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1A4-C7D3-4D0D-B762-A237A4C8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77E-55D9-4457-B619-B8BBF233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3CF3-F9B1-4523-8B77-AC3AEF34635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0826-9B05-448D-8D21-9C40D93C4B1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1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eatures of the Earth’s surface and how they are formed and chang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3" descr="Beach.gif"/>
          <p:cNvPicPr/>
          <p:nvPr/>
        </p:nvPicPr>
        <p:blipFill>
          <a:blip r:embed="rId2"/>
          <a:stretch/>
        </p:blipFill>
        <p:spPr>
          <a:xfrm>
            <a:off x="685800" y="1523880"/>
            <a:ext cx="4419720" cy="1600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2374200" y="3244680"/>
            <a:ext cx="43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Beach formed by water erosion - oc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2" descr="beach 2.jpg"/>
          <p:cNvPicPr/>
          <p:nvPr/>
        </p:nvPicPr>
        <p:blipFill>
          <a:blip r:embed="rId3"/>
          <a:stretch/>
        </p:blipFill>
        <p:spPr>
          <a:xfrm>
            <a:off x="2971800" y="3809880"/>
            <a:ext cx="4876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5" descr="canyon 2.jpg"/>
          <p:cNvPicPr/>
          <p:nvPr/>
        </p:nvPicPr>
        <p:blipFill>
          <a:blip r:embed="rId2"/>
          <a:stretch/>
        </p:blipFill>
        <p:spPr>
          <a:xfrm>
            <a:off x="990720" y="44197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anyon.gif"/>
          <p:cNvPicPr/>
          <p:nvPr/>
        </p:nvPicPr>
        <p:blipFill>
          <a:blip r:embed="rId3"/>
          <a:stretch/>
        </p:blipFill>
        <p:spPr>
          <a:xfrm>
            <a:off x="2895480" y="16002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2362320" y="3429000"/>
            <a:ext cx="438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Canyons formed by water erosion – 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OR by wind er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7" descr="canyon 4.jpg"/>
          <p:cNvPicPr/>
          <p:nvPr/>
        </p:nvPicPr>
        <p:blipFill>
          <a:blip r:embed="rId4"/>
          <a:stretch/>
        </p:blipFill>
        <p:spPr>
          <a:xfrm>
            <a:off x="5257800" y="4267080"/>
            <a:ext cx="29462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3" descr="fjord.gif"/>
          <p:cNvPicPr/>
          <p:nvPr/>
        </p:nvPicPr>
        <p:blipFill>
          <a:blip r:embed="rId2"/>
          <a:stretch/>
        </p:blipFill>
        <p:spPr>
          <a:xfrm>
            <a:off x="2819520" y="2417760"/>
            <a:ext cx="335268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5" descr="desert 2.jpg"/>
          <p:cNvPicPr/>
          <p:nvPr/>
        </p:nvPicPr>
        <p:blipFill>
          <a:blip r:embed="rId2"/>
          <a:stretch/>
        </p:blipFill>
        <p:spPr>
          <a:xfrm>
            <a:off x="5181480" y="41148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Desert.gif"/>
          <p:cNvPicPr/>
          <p:nvPr/>
        </p:nvPicPr>
        <p:blipFill>
          <a:blip r:embed="rId3"/>
          <a:stretch/>
        </p:blipFill>
        <p:spPr>
          <a:xfrm>
            <a:off x="609480" y="17524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4023720" y="3244680"/>
            <a:ext cx="39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Deserts formed by wind de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5" descr="canyon 3.jpg"/>
          <p:cNvPicPr/>
          <p:nvPr/>
        </p:nvPicPr>
        <p:blipFill>
          <a:blip r:embed="rId2"/>
          <a:stretch/>
        </p:blipFill>
        <p:spPr>
          <a:xfrm>
            <a:off x="1295280" y="388620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Mesa.gif"/>
          <p:cNvPicPr/>
          <p:nvPr/>
        </p:nvPicPr>
        <p:blipFill>
          <a:blip r:embed="rId3"/>
          <a:stretch/>
        </p:blipFill>
        <p:spPr>
          <a:xfrm>
            <a:off x="5715000" y="1828800"/>
            <a:ext cx="2747880" cy="2124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533520" y="2514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Mesas and plateaus formed by wind er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2" name="Content Placeholder 5" descr="mountain 1.jpg"/>
          <p:cNvPicPr/>
          <p:nvPr/>
        </p:nvPicPr>
        <p:blipFill>
          <a:blip r:embed="rId1"/>
          <a:stretch/>
        </p:blipFill>
        <p:spPr>
          <a:xfrm>
            <a:off x="4267080" y="1905120"/>
            <a:ext cx="2362320" cy="144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Mountain.gif"/>
          <p:cNvPicPr/>
          <p:nvPr/>
        </p:nvPicPr>
        <p:blipFill>
          <a:blip r:embed="rId2"/>
          <a:stretch/>
        </p:blipFill>
        <p:spPr>
          <a:xfrm>
            <a:off x="609480" y="1752480"/>
            <a:ext cx="1981440" cy="2171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3124080" y="3505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Mountains formed by earthquakes and pushing up of cr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mountain 2.jpg"/>
          <p:cNvPicPr/>
          <p:nvPr/>
        </p:nvPicPr>
        <p:blipFill>
          <a:blip r:embed="rId3"/>
          <a:stretch/>
        </p:blipFill>
        <p:spPr>
          <a:xfrm>
            <a:off x="2057400" y="45720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ountain 3.jpg"/>
          <p:cNvPicPr/>
          <p:nvPr/>
        </p:nvPicPr>
        <p:blipFill>
          <a:blip r:embed="rId4"/>
          <a:stretch/>
        </p:blipFill>
        <p:spPr>
          <a:xfrm>
            <a:off x="6248520" y="411480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8" name="Content Placeholder 3" descr="delta 1.jpg"/>
          <p:cNvPicPr/>
          <p:nvPr/>
        </p:nvPicPr>
        <p:blipFill>
          <a:blip r:embed="rId1"/>
          <a:stretch/>
        </p:blipFill>
        <p:spPr>
          <a:xfrm>
            <a:off x="609480" y="1647720"/>
            <a:ext cx="2286000" cy="145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elta 2.jpg"/>
          <p:cNvPicPr/>
          <p:nvPr/>
        </p:nvPicPr>
        <p:blipFill>
          <a:blip r:embed="rId2"/>
          <a:stretch/>
        </p:blipFill>
        <p:spPr>
          <a:xfrm>
            <a:off x="6019920" y="3048120"/>
            <a:ext cx="2328840" cy="154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elta 3.jpg"/>
          <p:cNvPicPr/>
          <p:nvPr/>
        </p:nvPicPr>
        <p:blipFill>
          <a:blip r:embed="rId3"/>
          <a:stretch/>
        </p:blipFill>
        <p:spPr>
          <a:xfrm>
            <a:off x="1828800" y="4255920"/>
            <a:ext cx="2514600" cy="1963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828800" y="3352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New land formed by deposition of rivers/floodwa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olcanoes and Earthquak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ivers and R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loods and Mud slid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nd and water eros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ather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ce and Glaci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pos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4:17:26Z</dcterms:created>
  <dc:creator>Ector County ISD Employee</dc:creator>
  <dc:description/>
  <dc:language>en-US</dc:language>
  <cp:lastModifiedBy>RomaK</cp:lastModifiedBy>
  <dcterms:modified xsi:type="dcterms:W3CDTF">2015-09-04T09:43:29Z</dcterms:modified>
  <cp:revision>9</cp:revision>
  <dc:subject/>
  <dc:title>Landforms</dc:title>
</cp:coreProperties>
</file>