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1A53-4E67-4460-A58F-DE73DCEC2E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eatures of the Earth’s surface and how they are formed and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ach formed by water erosion - 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nyons formed by water erosion – 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R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iff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erts formed by wind 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sas and plateaus formed by win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ountains formed by earthquakes and pushing up of c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w land formed by deposition of rivers/floodwat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ces that shap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lcanoes and Earthquak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vers and 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loods and Mud sl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nd and wat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ce and Glaci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16A-5B3B-4523-B571-74B6D8B5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755-5CD3-472D-BF95-1FF90602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FBB-E480-49D4-857A-ADC27CB7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9525-F6AD-4019-8670-FA38D68F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6B30-7471-4F78-AD9F-17FB0C1A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C89F-7A9A-4EA0-A2D1-7B641E36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D294-B0E1-4C13-94EA-F1E9F1F9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9754-84C5-4857-8E5E-AED4187D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92B2-21F4-49D8-9804-02D9D994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2999-E419-46F6-AEDF-13E69C90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F48D-2B7C-459D-8A0D-5D36BF6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4B0-7806-4465-8C7A-0294647F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C717-3174-40AE-8C65-C9E538AF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8815-E2BE-4DF4-9C27-CE36E069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6CEA-48CD-4548-A716-6D7B4AF7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5BB5-9896-4CB1-8BAA-D39B76C5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7B9A-57A5-4C48-A2EE-B999FA32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237-A9BA-4B61-BFE4-040B2F0F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F27-EF87-472E-AEB6-875FCD1D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9CE-9C1F-4B53-BA4C-B6624F9D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044-D33F-40CF-A443-880271E4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0BA-8AF7-4ABA-A72C-12930E8C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5EA-5876-4FF2-8A5E-8420F0F5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321-8B0B-4AEB-B5A0-A021C73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1209-A87A-4025-BE2C-507A5897DD7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CE96-3242-493F-A7EB-50F66078C05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eatures of the Earth’s surface and how they are formed and chang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Beach.gif"/>
          <p:cNvPicPr/>
          <p:nvPr/>
        </p:nvPicPr>
        <p:blipFill>
          <a:blip r:embed="rId2"/>
          <a:stretch/>
        </p:blipFill>
        <p:spPr>
          <a:xfrm>
            <a:off x="685800" y="1523880"/>
            <a:ext cx="4419720" cy="1600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2374200" y="324468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Beach formed by water erosion - oc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2" descr="beach 2.jpg"/>
          <p:cNvPicPr/>
          <p:nvPr/>
        </p:nvPicPr>
        <p:blipFill>
          <a:blip r:embed="rId3"/>
          <a:stretch/>
        </p:blipFill>
        <p:spPr>
          <a:xfrm>
            <a:off x="2971800" y="3809880"/>
            <a:ext cx="487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5" descr="canyon 2.jpg"/>
          <p:cNvPicPr/>
          <p:nvPr/>
        </p:nvPicPr>
        <p:blipFill>
          <a:blip r:embed="rId2"/>
          <a:stretch/>
        </p:blipFill>
        <p:spPr>
          <a:xfrm>
            <a:off x="9907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anyon.gif"/>
          <p:cNvPicPr/>
          <p:nvPr/>
        </p:nvPicPr>
        <p:blipFill>
          <a:blip r:embed="rId3"/>
          <a:stretch/>
        </p:blipFill>
        <p:spPr>
          <a:xfrm>
            <a:off x="2895480" y="16002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2362320" y="3429000"/>
            <a:ext cx="438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Canyons formed by water erosion – 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OR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canyon 4.jpg"/>
          <p:cNvPicPr/>
          <p:nvPr/>
        </p:nvPicPr>
        <p:blipFill>
          <a:blip r:embed="rId4"/>
          <a:stretch/>
        </p:blipFill>
        <p:spPr>
          <a:xfrm>
            <a:off x="5257800" y="4267080"/>
            <a:ext cx="29462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3" descr="fjord.gif"/>
          <p:cNvPicPr/>
          <p:nvPr/>
        </p:nvPicPr>
        <p:blipFill>
          <a:blip r:embed="rId2"/>
          <a:stretch/>
        </p:blipFill>
        <p:spPr>
          <a:xfrm>
            <a:off x="2819520" y="2417760"/>
            <a:ext cx="33526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5" descr="desert 2.jpg"/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Desert.gif"/>
          <p:cNvPicPr/>
          <p:nvPr/>
        </p:nvPicPr>
        <p:blipFill>
          <a:blip r:embed="rId3"/>
          <a:stretch/>
        </p:blipFill>
        <p:spPr>
          <a:xfrm>
            <a:off x="609480" y="17524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4023720" y="324468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Deserts formed by wind depos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5" descr="canyon 3.jpg"/>
          <p:cNvPicPr/>
          <p:nvPr/>
        </p:nvPicPr>
        <p:blipFill>
          <a:blip r:embed="rId2"/>
          <a:stretch/>
        </p:blipFill>
        <p:spPr>
          <a:xfrm>
            <a:off x="1295280" y="38862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esa.gif"/>
          <p:cNvPicPr/>
          <p:nvPr/>
        </p:nvPicPr>
        <p:blipFill>
          <a:blip r:embed="rId3"/>
          <a:stretch/>
        </p:blipFill>
        <p:spPr>
          <a:xfrm>
            <a:off x="5715000" y="1828800"/>
            <a:ext cx="2747880" cy="212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53352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esas and plateaus formed by wind ero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2" name="Content Placeholder 5" descr="mountain 1.jpg"/>
          <p:cNvPicPr/>
          <p:nvPr/>
        </p:nvPicPr>
        <p:blipFill>
          <a:blip r:embed="rId1"/>
          <a:stretch/>
        </p:blipFill>
        <p:spPr>
          <a:xfrm>
            <a:off x="4267080" y="1905120"/>
            <a:ext cx="236232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ountain.gif"/>
          <p:cNvPicPr/>
          <p:nvPr/>
        </p:nvPicPr>
        <p:blipFill>
          <a:blip r:embed="rId2"/>
          <a:stretch/>
        </p:blipFill>
        <p:spPr>
          <a:xfrm>
            <a:off x="609480" y="1752480"/>
            <a:ext cx="1981440" cy="2171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312408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Mountains formed by earthquakes and pushing up of cr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ountain 2.jpg"/>
          <p:cNvPicPr/>
          <p:nvPr/>
        </p:nvPicPr>
        <p:blipFill>
          <a:blip r:embed="rId3"/>
          <a:stretch/>
        </p:blipFill>
        <p:spPr>
          <a:xfrm>
            <a:off x="20574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untain 3.jpg"/>
          <p:cNvPicPr/>
          <p:nvPr/>
        </p:nvPicPr>
        <p:blipFill>
          <a:blip r:embed="rId4"/>
          <a:stretch/>
        </p:blipFill>
        <p:spPr>
          <a:xfrm>
            <a:off x="6248520" y="41148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8" name="Content Placeholder 3" descr="delta 1.jpg"/>
          <p:cNvPicPr/>
          <p:nvPr/>
        </p:nvPicPr>
        <p:blipFill>
          <a:blip r:embed="rId1"/>
          <a:stretch/>
        </p:blipFill>
        <p:spPr>
          <a:xfrm>
            <a:off x="609480" y="1647720"/>
            <a:ext cx="228600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lta 2.jpg"/>
          <p:cNvPicPr/>
          <p:nvPr/>
        </p:nvPicPr>
        <p:blipFill>
          <a:blip r:embed="rId2"/>
          <a:stretch/>
        </p:blipFill>
        <p:spPr>
          <a:xfrm>
            <a:off x="6019920" y="3048120"/>
            <a:ext cx="2328840" cy="15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elta 3.jpg"/>
          <p:cNvPicPr/>
          <p:nvPr/>
        </p:nvPicPr>
        <p:blipFill>
          <a:blip r:embed="rId3"/>
          <a:stretch/>
        </p:blipFill>
        <p:spPr>
          <a:xfrm>
            <a:off x="1828800" y="4255920"/>
            <a:ext cx="2514600" cy="196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828800" y="3352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"/>
              </a:rPr>
              <a:t>New land formed by deposition of rivers/floodwa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olcanoes and Earthquak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ivers and R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oods and Mud slid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nd and water ero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the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ce and Glaci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pos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4:17:26Z</dcterms:created>
  <dc:creator>Ector County ISD Employee</dc:creator>
  <dc:description/>
  <dc:language>en-US</dc:language>
  <cp:lastModifiedBy>RomaK</cp:lastModifiedBy>
  <dcterms:modified xsi:type="dcterms:W3CDTF">2015-09-04T09:43:29Z</dcterms:modified>
  <cp:revision>9</cp:revision>
  <dc:subject/>
  <dc:title>Landforms</dc:title>
</cp:coreProperties>
</file>