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8.png" ContentType="image/png"/>
  <Override PartName="/ppt/media/image11.png" ContentType="image/png"/>
  <Override PartName="/ppt/media/image7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7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6C5B-34B2-4808-B700-67D1ABACD27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atures of the Earth’s surface and how they are formed and chang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andf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eatures of the Earth’s surface and how they are formed and chang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ch formed by water erosion -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each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each formed by water erosion - oce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y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yons formed by water erosion –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by wind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ny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nyons formed by water erosion – ri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R by wind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if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Cliff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s formed by wind de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ser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serts formed by wind depos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sas and Platea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sas and plateaus formed by wind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sas and Platea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sas and plateaus formed by wind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ntains formed by earthquakes and pushing up of cr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untains formed by earthquakes and pushing up of cru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land formed by deposition of rivers/floodwa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ew land formed by deposition of rivers/floodwat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 that shape the Earth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canoes and Earthquak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vers and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ods and Mud sl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 and water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th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e and Glaci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orces that shape the Earth’s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olcanoes and Earthquak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ivers and R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loods and Mud sli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ind and water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athe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ce and Glaci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pos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F836-0621-418F-8E31-189DEEAF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1FB3-E2AD-4769-986D-BBFDF356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BFC6-E812-4FBD-8865-900BB0AA0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3908-894C-42EE-B4A2-6EF72556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BEB8-C585-43C9-BF66-87610DA0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6B94-93FA-4028-B805-49EDC972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D2DB-F60F-4A4F-99EA-2D65EC5C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CE0B-4797-49E4-A4C7-6774C64E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21EB-69FA-4CB9-9B8C-D95CC92C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903D-4E71-400B-97FB-5395CD73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F528-1C47-4064-A6ED-BB7805EE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3632-3312-4E42-9A8F-79F307AB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65B8-A826-493D-BA01-6204DEFF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7952-D1A1-45F1-8F63-071BDB8A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FE4D-E619-4CE2-BADB-6EB92613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4A6C-C7B3-495E-AC8D-15300B61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25D7-9742-4778-941A-B1DB9265C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2D45-4C24-4724-847B-A8F069A1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3889-1A73-43D9-B97F-FD7D8789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DD92-F5CB-4C0F-AC63-1796EF6A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CF73-D558-4F73-B290-09037419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C17C-2EC2-41A6-9ED1-692E4FC7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2F94-F2CE-4700-AE84-B26E9531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BEFA-FD05-471A-845F-97F70752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E18C-CD7B-4DF7-804D-683F9BFA30F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8FE9-3F60-4076-A21E-0B85C712437C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2401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eatures of the Earth’s surface and how they are formed and chang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92" name="Content Placeholder 3" descr="Beach.gif"/>
          <p:cNvPicPr/>
          <p:nvPr/>
        </p:nvPicPr>
        <p:blipFill>
          <a:blip r:embed="rId2"/>
          <a:stretch/>
        </p:blipFill>
        <p:spPr>
          <a:xfrm>
            <a:off x="685800" y="1523880"/>
            <a:ext cx="4419720" cy="16002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2374200" y="3244680"/>
            <a:ext cx="43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Beach formed by water erosion - oce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12" descr="beach 2.jpg"/>
          <p:cNvPicPr/>
          <p:nvPr/>
        </p:nvPicPr>
        <p:blipFill>
          <a:blip r:embed="rId3"/>
          <a:stretch/>
        </p:blipFill>
        <p:spPr>
          <a:xfrm>
            <a:off x="2971800" y="3809880"/>
            <a:ext cx="4876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96" name="Content Placeholder 5" descr="canyon 2.jpg"/>
          <p:cNvPicPr/>
          <p:nvPr/>
        </p:nvPicPr>
        <p:blipFill>
          <a:blip r:embed="rId2"/>
          <a:stretch/>
        </p:blipFill>
        <p:spPr>
          <a:xfrm>
            <a:off x="990720" y="441972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anyon.gif"/>
          <p:cNvPicPr/>
          <p:nvPr/>
        </p:nvPicPr>
        <p:blipFill>
          <a:blip r:embed="rId3"/>
          <a:stretch/>
        </p:blipFill>
        <p:spPr>
          <a:xfrm>
            <a:off x="2895480" y="1600200"/>
            <a:ext cx="3200400" cy="16765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2362320" y="3429000"/>
            <a:ext cx="438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Canyons formed by water erosion – 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OR by wind ero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7" descr="canyon 4.jpg"/>
          <p:cNvPicPr/>
          <p:nvPr/>
        </p:nvPicPr>
        <p:blipFill>
          <a:blip r:embed="rId4"/>
          <a:stretch/>
        </p:blipFill>
        <p:spPr>
          <a:xfrm>
            <a:off x="5257800" y="4267080"/>
            <a:ext cx="29462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2" name="Picture 3" descr="fjord.gif"/>
          <p:cNvPicPr/>
          <p:nvPr/>
        </p:nvPicPr>
        <p:blipFill>
          <a:blip r:embed="rId2"/>
          <a:stretch/>
        </p:blipFill>
        <p:spPr>
          <a:xfrm>
            <a:off x="2819520" y="2417760"/>
            <a:ext cx="335268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4" name="Content Placeholder 5" descr="desert 2.jpg"/>
          <p:cNvPicPr/>
          <p:nvPr/>
        </p:nvPicPr>
        <p:blipFill>
          <a:blip r:embed="rId2"/>
          <a:stretch/>
        </p:blipFill>
        <p:spPr>
          <a:xfrm>
            <a:off x="5181480" y="4114800"/>
            <a:ext cx="2286000" cy="2057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Desert.gif"/>
          <p:cNvPicPr/>
          <p:nvPr/>
        </p:nvPicPr>
        <p:blipFill>
          <a:blip r:embed="rId3"/>
          <a:stretch/>
        </p:blipFill>
        <p:spPr>
          <a:xfrm>
            <a:off x="609480" y="1752480"/>
            <a:ext cx="2590920" cy="16765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4023720" y="3244680"/>
            <a:ext cx="39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Deserts formed by wind depos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8" name="Content Placeholder 5" descr="canyon 3.jpg"/>
          <p:cNvPicPr/>
          <p:nvPr/>
        </p:nvPicPr>
        <p:blipFill>
          <a:blip r:embed="rId2"/>
          <a:stretch/>
        </p:blipFill>
        <p:spPr>
          <a:xfrm>
            <a:off x="1295280" y="388620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Mesa.gif"/>
          <p:cNvPicPr/>
          <p:nvPr/>
        </p:nvPicPr>
        <p:blipFill>
          <a:blip r:embed="rId3"/>
          <a:stretch/>
        </p:blipFill>
        <p:spPr>
          <a:xfrm>
            <a:off x="5715000" y="1828800"/>
            <a:ext cx="2747880" cy="2124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533520" y="2514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Mesas and plateaus formed by wind ero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12" name="Content Placeholder 5" descr="mountain 1.jpg"/>
          <p:cNvPicPr/>
          <p:nvPr/>
        </p:nvPicPr>
        <p:blipFill>
          <a:blip r:embed="rId1"/>
          <a:stretch/>
        </p:blipFill>
        <p:spPr>
          <a:xfrm>
            <a:off x="4267080" y="1905120"/>
            <a:ext cx="2362320" cy="1447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Mountain.gif"/>
          <p:cNvPicPr/>
          <p:nvPr/>
        </p:nvPicPr>
        <p:blipFill>
          <a:blip r:embed="rId2"/>
          <a:stretch/>
        </p:blipFill>
        <p:spPr>
          <a:xfrm>
            <a:off x="609480" y="1752480"/>
            <a:ext cx="1981440" cy="21718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"/>
          <p:cNvSpPr/>
          <p:nvPr/>
        </p:nvSpPr>
        <p:spPr>
          <a:xfrm>
            <a:off x="3124080" y="3505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Mountains formed by earthquakes and pushing up of cr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6" descr="mountain 2.jpg"/>
          <p:cNvPicPr/>
          <p:nvPr/>
        </p:nvPicPr>
        <p:blipFill>
          <a:blip r:embed="rId3"/>
          <a:stretch/>
        </p:blipFill>
        <p:spPr>
          <a:xfrm>
            <a:off x="2057400" y="45720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mountain 3.jpg"/>
          <p:cNvPicPr/>
          <p:nvPr/>
        </p:nvPicPr>
        <p:blipFill>
          <a:blip r:embed="rId4"/>
          <a:stretch/>
        </p:blipFill>
        <p:spPr>
          <a:xfrm>
            <a:off x="6248520" y="4114800"/>
            <a:ext cx="19047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18" name="Content Placeholder 3" descr="delta 1.jpg"/>
          <p:cNvPicPr/>
          <p:nvPr/>
        </p:nvPicPr>
        <p:blipFill>
          <a:blip r:embed="rId1"/>
          <a:stretch/>
        </p:blipFill>
        <p:spPr>
          <a:xfrm>
            <a:off x="609480" y="1647720"/>
            <a:ext cx="2286000" cy="1457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delta 2.jpg"/>
          <p:cNvPicPr/>
          <p:nvPr/>
        </p:nvPicPr>
        <p:blipFill>
          <a:blip r:embed="rId2"/>
          <a:stretch/>
        </p:blipFill>
        <p:spPr>
          <a:xfrm>
            <a:off x="6019920" y="3048120"/>
            <a:ext cx="2328840" cy="1542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delta 3.jpg"/>
          <p:cNvPicPr/>
          <p:nvPr/>
        </p:nvPicPr>
        <p:blipFill>
          <a:blip r:embed="rId3"/>
          <a:stretch/>
        </p:blipFill>
        <p:spPr>
          <a:xfrm>
            <a:off x="1828800" y="4255920"/>
            <a:ext cx="2514600" cy="19638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1828800" y="33526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New land formed by deposition of rivers/floodwa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olcanoes and Earthquak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ivers and Ra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loods and Mud slid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ind and water eros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eather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ce and Glaci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posi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4:17:26Z</dcterms:created>
  <dc:creator>Ector County ISD Employee</dc:creator>
  <dc:description/>
  <dc:language>en-US</dc:language>
  <cp:lastModifiedBy>RomaK</cp:lastModifiedBy>
  <dcterms:modified xsi:type="dcterms:W3CDTF">2015-09-04T09:43:29Z</dcterms:modified>
  <cp:revision>9</cp:revision>
  <dc:subject/>
  <dc:title>Landforms</dc:title>
</cp:coreProperties>
</file>