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C264-4253-42CF-8A89-CBFEC249DD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89F-8DD0-4326-9F2B-07C14889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88E-0851-42C2-9976-C314E407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491-6841-4CC8-BBDD-0CDBCA19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AB7-7A03-44D4-85F5-905A504B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518C-1D4E-401E-96C9-BC24BAE3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2EBB-8A0B-42C7-B225-EF6B43BC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DE95-E28E-4239-B6DE-54A861C9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51B7-B921-4200-9C2D-D1BBAC46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79A5-9546-4607-9324-4B59323F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F678-3AEF-40B2-9368-7F67A496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4980-8AB3-44DA-8202-B77B9BB7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17B-007D-40E5-899D-0B828ACC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DE52-3692-4533-AE3B-05A667A1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6CA5-8CE9-46EF-99C6-B75C8BE9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0BDD-9373-4399-8184-76D6277C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C86D-6AE8-46FD-9BE8-FE58A237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A81F-2F03-4565-974D-2513FCBA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1A6D-756C-4A06-88B1-0C5A176C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45F-D61A-4E48-A84D-085780FC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503-4030-43F6-9697-45CFC147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E4E-39FB-4497-BD0C-41E14426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6C0-07C7-4E9C-A87D-50D516AD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FD5-567A-480E-93E4-F550E31D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EE6-7EE6-4560-A38C-D3E5557B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BD1C-1E4A-4F45-8DD2-C08BE5C292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4A8F-80E2-4298-AB51-9487C5AF8B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app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trea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rection a streams is flowing is shown on a topographic map by the way a contour line crosses the stre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ams are shown as a blue line on ma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ntour lines cross a stream it looks like an upside down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oint in the V poi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. It opens in the                         direction the water is flow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187244"/>
          <p:cNvPicPr/>
          <p:nvPr/>
        </p:nvPicPr>
        <p:blipFill>
          <a:blip r:embed="rId1"/>
          <a:stretch/>
        </p:blipFill>
        <p:spPr>
          <a:xfrm>
            <a:off x="4876920" y="38862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topo-example"/>
          <p:cNvPicPr/>
          <p:nvPr/>
        </p:nvPicPr>
        <p:blipFill>
          <a:blip r:embed="rId2"/>
          <a:stretch/>
        </p:blipFill>
        <p:spPr>
          <a:xfrm>
            <a:off x="5334120" y="4676760"/>
            <a:ext cx="3429000" cy="218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mage_f_stream"/>
          <p:cNvPicPr/>
          <p:nvPr/>
        </p:nvPicPr>
        <p:blipFill>
          <a:blip r:embed="rId3"/>
          <a:stretch/>
        </p:blipFill>
        <p:spPr>
          <a:xfrm>
            <a:off x="6162840" y="762120"/>
            <a:ext cx="2981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Depression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ion contours show areas of lower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n like contour lines with marks on the insi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hure marks- tick marks on inside of closed cir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cont_3"/>
          <p:cNvPicPr/>
          <p:nvPr/>
        </p:nvPicPr>
        <p:blipFill>
          <a:blip r:embed="rId1"/>
          <a:stretch/>
        </p:blipFill>
        <p:spPr>
          <a:xfrm>
            <a:off x="3276720" y="513396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epression1"/>
          <p:cNvPicPr/>
          <p:nvPr/>
        </p:nvPicPr>
        <p:blipFill>
          <a:blip r:embed="rId2"/>
          <a:stretch/>
        </p:blipFill>
        <p:spPr>
          <a:xfrm>
            <a:off x="5772240" y="1143000"/>
            <a:ext cx="3371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Hil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s are represented on a topographic map by a series of concentric contour lines in a rough circ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illmap"/>
          <p:cNvPicPr/>
          <p:nvPr/>
        </p:nvPicPr>
        <p:blipFill>
          <a:blip r:embed="rId1"/>
          <a:stretch/>
        </p:blipFill>
        <p:spPr>
          <a:xfrm>
            <a:off x="3048120" y="1828800"/>
            <a:ext cx="4149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lop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ly spaced contour lines represent steep slo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ly spaced contour lines represent gentle slo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a0133"/>
          <p:cNvPicPr/>
          <p:nvPr/>
        </p:nvPicPr>
        <p:blipFill>
          <a:blip r:embed="rId1"/>
          <a:stretch/>
        </p:blipFill>
        <p:spPr>
          <a:xfrm>
            <a:off x="3124080" y="2514600"/>
            <a:ext cx="3916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Benchmark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enchmark is a place where exact elevation is know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by a B.M. on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BM 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benchmark"/>
          <p:cNvPicPr/>
          <p:nvPr/>
        </p:nvPicPr>
        <p:blipFill>
          <a:blip r:embed="rId1"/>
          <a:stretch/>
        </p:blipFill>
        <p:spPr>
          <a:xfrm>
            <a:off x="914400" y="3954600"/>
            <a:ext cx="335268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benchmark_image"/>
          <p:cNvPicPr/>
          <p:nvPr/>
        </p:nvPicPr>
        <p:blipFill>
          <a:blip r:embed="rId2"/>
          <a:stretch/>
        </p:blipFill>
        <p:spPr>
          <a:xfrm>
            <a:off x="5334120" y="2819520"/>
            <a:ext cx="38098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lo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lors on a topographic map are symbolic of different map featur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ue = 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= fore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wn = contour li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= cultural features (buildings, place names, boundary lines, roads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= principal roa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nk = urban are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943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scale indicates your distance along the ground, or the amount of ground covered by the m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GS- United States Geologic Surv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io- 1:24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unit on the map is equal to 24,000 units of the same size on the grou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:1 inch on the map = 24000 inches on Eart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 after converting 1 inch = 2000f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r scale-indicated by a line or bar with distances marked in miles, feet, or kilomet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image39"/>
          <p:cNvPicPr/>
          <p:nvPr/>
        </p:nvPicPr>
        <p:blipFill>
          <a:blip r:embed="rId1"/>
          <a:stretch/>
        </p:blipFill>
        <p:spPr>
          <a:xfrm>
            <a:off x="5791320" y="5610240"/>
            <a:ext cx="33526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4" descr="scaler"/>
          <p:cNvPicPr/>
          <p:nvPr/>
        </p:nvPicPr>
        <p:blipFill>
          <a:blip r:embed="rId1"/>
          <a:stretch/>
        </p:blipFill>
        <p:spPr>
          <a:xfrm>
            <a:off x="1981080" y="1236600"/>
            <a:ext cx="63248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Profil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opographic profile is a cross-sectional view along a line drawn through a portion of a topographic map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like taking a slice out of a portion of the Earth and looking at it from the si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mapsshow_topo1"/>
          <p:cNvPicPr/>
          <p:nvPr/>
        </p:nvPicPr>
        <p:blipFill>
          <a:blip r:embed="rId1"/>
          <a:stretch/>
        </p:blipFill>
        <p:spPr>
          <a:xfrm>
            <a:off x="6114960" y="3638520"/>
            <a:ext cx="3029040" cy="321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tic"/>
          <p:cNvPicPr/>
          <p:nvPr/>
        </p:nvPicPr>
        <p:blipFill>
          <a:blip r:embed="rId2"/>
          <a:stretch/>
        </p:blipFill>
        <p:spPr>
          <a:xfrm>
            <a:off x="228600" y="3581280"/>
            <a:ext cx="275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Reading_Contour_Lines_and_Mapmaking_from_Models_256k.asx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map?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representation of something (Earth, stars, solar system, a building, etc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cc_map"/>
          <p:cNvPicPr/>
          <p:nvPr/>
        </p:nvPicPr>
        <p:blipFill>
          <a:blip r:embed="rId1"/>
          <a:stretch/>
        </p:blipFill>
        <p:spPr>
          <a:xfrm>
            <a:off x="5533920" y="685800"/>
            <a:ext cx="3610080" cy="513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onstellation2"/>
          <p:cNvPicPr/>
          <p:nvPr/>
        </p:nvPicPr>
        <p:blipFill>
          <a:blip r:embed="rId2"/>
          <a:stretch/>
        </p:blipFill>
        <p:spPr>
          <a:xfrm>
            <a:off x="228600" y="388620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national_forecast"/>
          <p:cNvPicPr/>
          <p:nvPr/>
        </p:nvPicPr>
        <p:blipFill>
          <a:blip r:embed="rId3"/>
          <a:stretch/>
        </p:blipFill>
        <p:spPr>
          <a:xfrm>
            <a:off x="2286000" y="4175280"/>
            <a:ext cx="3352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s of Map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etermine where you are go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ct as a model of Earth’s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locate various pl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how the distribution of various features or types of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North and South of the Equ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parallel to each other running west to ea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2" descr="601latitude"/>
          <p:cNvPicPr/>
          <p:nvPr/>
        </p:nvPicPr>
        <p:blipFill>
          <a:blip r:embed="rId1"/>
          <a:stretch/>
        </p:blipFill>
        <p:spPr>
          <a:xfrm>
            <a:off x="5181480" y="3200400"/>
            <a:ext cx="361656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atitude2"/>
          <p:cNvPicPr/>
          <p:nvPr/>
        </p:nvPicPr>
        <p:blipFill>
          <a:blip r:embed="rId2"/>
          <a:stretch/>
        </p:blipFill>
        <p:spPr>
          <a:xfrm>
            <a:off x="304920" y="3641760"/>
            <a:ext cx="46479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East or West of the prime merid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running North and Sout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longitude_lines"/>
          <p:cNvPicPr/>
          <p:nvPr/>
        </p:nvPicPr>
        <p:blipFill>
          <a:blip r:embed="rId1"/>
          <a:stretch/>
        </p:blipFill>
        <p:spPr>
          <a:xfrm>
            <a:off x="2666880" y="3352680"/>
            <a:ext cx="2519640" cy="322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longitude"/>
          <p:cNvPicPr/>
          <p:nvPr/>
        </p:nvPicPr>
        <p:blipFill>
          <a:blip r:embed="rId2"/>
          <a:stretch/>
        </p:blipFill>
        <p:spPr>
          <a:xfrm>
            <a:off x="6248520" y="2209680"/>
            <a:ext cx="28018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p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y of the 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s relief using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- highs and lows of Earth’s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 can be calcu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 the difference between the highest point and the low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Mountain peak 20 m. lake 10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m- 10m=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elief of this area is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ntour Lines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s on topographic ma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 points of equal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thing connected to that line has the same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ion- the distance something is above sea level. Sea level= 0m or 0f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conpackb"/>
          <p:cNvPicPr/>
          <p:nvPr/>
        </p:nvPicPr>
        <p:blipFill>
          <a:blip r:embed="rId1"/>
          <a:stretch/>
        </p:blipFill>
        <p:spPr>
          <a:xfrm>
            <a:off x="1523880" y="4038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topographic-map"/>
          <p:cNvPicPr/>
          <p:nvPr/>
        </p:nvPicPr>
        <p:blipFill>
          <a:blip r:embed="rId2"/>
          <a:stretch/>
        </p:blipFill>
        <p:spPr>
          <a:xfrm>
            <a:off x="5410080" y="3870360"/>
            <a:ext cx="3733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 Contour Interva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our interval- gives the difference in elevation between 2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indicator of he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on maps as C.I.= 10f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count contour li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ontour_interval"/>
          <p:cNvPicPr/>
          <p:nvPr/>
        </p:nvPicPr>
        <p:blipFill>
          <a:blip r:embed="rId1"/>
          <a:stretch/>
        </p:blipFill>
        <p:spPr>
          <a:xfrm>
            <a:off x="5791320" y="3657600"/>
            <a:ext cx="3352680" cy="181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figure11"/>
          <p:cNvPicPr/>
          <p:nvPr/>
        </p:nvPicPr>
        <p:blipFill>
          <a:blip r:embed="rId2"/>
          <a:stretch/>
        </p:blipFill>
        <p:spPr>
          <a:xfrm>
            <a:off x="0" y="4203720"/>
            <a:ext cx="4267080" cy="2654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426708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.I.= 1000f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95880" y="5486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it will look on a ma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Index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index contour is a contour line that is accentuated in thickness and is labeled with the appropriate measure of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x contours occur every fifth contour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the map user read elevations on a ma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index2"/>
          <p:cNvPicPr/>
          <p:nvPr/>
        </p:nvPicPr>
        <p:blipFill>
          <a:blip r:embed="rId1"/>
          <a:stretch/>
        </p:blipFill>
        <p:spPr>
          <a:xfrm>
            <a:off x="457200" y="3411360"/>
            <a:ext cx="3809880" cy="3160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ndex"/>
          <p:cNvPicPr/>
          <p:nvPr/>
        </p:nvPicPr>
        <p:blipFill>
          <a:blip r:embed="rId2"/>
          <a:stretch/>
        </p:blipFill>
        <p:spPr>
          <a:xfrm>
            <a:off x="5867280" y="3276720"/>
            <a:ext cx="3276720" cy="3024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4343400" y="6248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 arrows indicate location of index contou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09:35Z</dcterms:created>
  <dc:creator>SCS</dc:creator>
  <dc:description/>
  <dc:language>en-US</dc:language>
  <cp:lastModifiedBy>RomaK</cp:lastModifiedBy>
  <dcterms:modified xsi:type="dcterms:W3CDTF">2015-09-04T09:43:49Z</dcterms:modified>
  <cp:revision>24</cp:revision>
  <dc:subject/>
  <dc:title>Mapping</dc:title>
</cp:coreProperties>
</file>