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5.png" ContentType="image/png"/>
  <Override PartName="/ppt/media/image3.jpeg" ContentType="image/jpeg"/>
  <Override PartName="/ppt/media/image24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30400" y="690120"/>
            <a:ext cx="4597200" cy="344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CE2B7-084E-4D82-83C4-2BD4477008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pp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Stream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irection a streams is flowing is shown on a topographic map by the way a contour line crosses the strea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eams are shown as a blue line on map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contour lines cross a stream it looks like an upside down V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oint in the V point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pstream. It opens in the                         direction the water is flowing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Str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rection a streams is flowing is shown on a topographic map by the way a contour line crosses the stre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ams are shown as a blue line on ma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contour lines cross a stream it looks like an upside down 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int in the V poi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stream. It opens in the                         direction the water is flow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Depression Contou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pression contours show areas of lower eleva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awn like contour lines with marks on the insid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chure marks- tick marks on inside of closed circl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Depression Cont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 contours show areas of lower elev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n like contour lines with marks on the ins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chure marks- tick marks on inside of closed cir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Hi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lls are represented on a topographic map by a series of concentric contour lines in a rough circl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H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lls are represented on a topographic map by a series of concentric contour lines in a rough circ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Slop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osely spaced contour lines represent steep slop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dely spaced contour lines represent gentle slop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Sl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ly spaced contour lines represent steep slo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ely spaced contour lines represent gentle slop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Benchmark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benchmark is a place where exact elevation is know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own by a B.M. on ma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: BM 6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Benchma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enchmark is a place where exact elevation is know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n by a B.M. on 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BM 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Col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olors on a topographic map are symbolic of different map featur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lue = water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en = forest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own = contour line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lack = cultural features (buildings, place names, boundary lines, roads, etc.)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 = principal road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nk = urban area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rple = revisions to an older map, compiled from aerial photos. If an area has become urbanized, this may be shown as purple shading on the new, revised map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Col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lors on a topographic map are symbolic of different map featu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 =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= fore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wn = contour l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= cultural features (buildings, place names, boundary lines, roads, etc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= principal roa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k = urban are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le = revisions to an older map, compiled from aerial photos. If an area has become urbanized, this may be shown as purple shading on the new, revised ma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Map Sca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p scale indicates your distance along the ground, or the amount of ground covered by the map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GS- United States Geologic Surve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tio- 1:2400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e unit on the map is equal to 24,000 units of the same size on the groun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:1 inch on the map = 24000 inches on Earth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 after converting 1 inch = 2000f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r scale-indicated by a line or bar with distances marked in miles, feet, or kilometer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Map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 scale indicates your distance along the ground, or the amount of ground covered by the m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GS- United States Geologic Surv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- 1:24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unit on the map is equal to 24,000 units of the same size on the g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1 inch on the map = 24000 inches on Ear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after converting 1 inch = 2000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 scale-indicated by a line or bar with distances marked in miles, feet, or kilomet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Map Sca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Map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Profi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topographic profile is a cross-sectional view along a line drawn through a portion of a topographic map.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like taking a slice out of a portion of the Earth and looking at it from the sid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Pro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opographic profile is a cross-sectional view along a line drawn through a portion of a topographic map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like taking a slice out of a portion of the Earth and looking at it from the s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a map?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a representation of something (Earth, stars, solar system, a building, etc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map?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 representation of something (Earth, stars, solar system, a building, etc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s of Map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determine where you are going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act as a model of Earth’s surfa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d to locate various plac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show the distribution of various features or types of material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Map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etermine where you are go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ct as a model of Earth’s surf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o locate various pl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how the distribution of various features or types of mater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ick Review of Latitude and Longitu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titu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asured in degrees North and South of the Equato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s drawn parallel to each other running west to eas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Review of Latitude and Long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d in degrees North and South of the Equ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s drawn parallel to each other running west to ea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ick Review of Latitude and Longitud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ngitu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asured in degrees East or West of the prime meridia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s drawn running North and South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Review of Latitude and Longitu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d in degrees East or West of the prime meridi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s drawn running North and Sou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pograph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lay of the lan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ows relief using contour lin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lief- highs and lows of Earth’s surfa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lief can be calcul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e the difference between the highest point and the lowes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: Mountain peak 20 m. lake 10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m- 10m= 10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lief of this area is 10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y of the 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relief using contour li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ef- highs and lows of Earth’s surf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ef can be calcul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the difference between the highest point and the low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Mountain peak 20 m. lake 1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m- 10m= 1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lief of this area is 1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Contour Line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s on topographic map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nect points of equal eleva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thing connected to that line has the same eleva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vation- the distance something is above sea level. Sea level= 0m or 0f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Contour 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s on topographic ma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 points of equal elev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thing connected to that line has the same elev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vation- the distance something is above sea level. Sea level= 0m or 0f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 Contour Interva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our interval- gives the difference in elevation between 2 contour lin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other indicator of heigh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own on maps as C.I.= 10f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d to count contour lin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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.I.= 1000f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it will look on a ma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 Contour Interv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our interval- gives the difference in elevation between 2 contour li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indicator of he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n on maps as C.I.= 10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o count contour li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I.= 1000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t will look on a 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Index Contou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index contour is a contour line that is accentuated in thickness and is labeled with the appropriate measure of eleva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dex contours occur every fifth contour lin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lp the map user read elevations on a map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 arrows indicate location of index contour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Index Cont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ndex contour is a contour line that is accentuated in thickness and is labeled with the appropriate measure of elev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x contours occur every fifth contour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the map user read elevations on a ma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arrows indicate location of index contou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B9F6-93D8-44C1-A151-4EDEBB66D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33D3-A987-4D74-BD79-5A7038892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5535-BDB9-43DF-BC26-0F6FBF2B6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0061-76C8-426C-94E8-558C77F17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22BCF-9A5E-4B36-80FB-CA07C0B6C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3BC36-4506-4D65-93B3-19EF5FDCE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3D82F-BC99-4F42-B7E0-2526FDC9D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A2EA5-EADE-4F7A-A54A-50D399A07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3A7A4-6322-40A4-A599-7FE5496A6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8F68A-5299-42FE-B962-AFFC17AC5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F1075-7115-4AC1-869B-37DFBD33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56AF-1468-4F74-A757-CC51519B5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CC9E2-C2D4-4F9C-BFBC-36026520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0200E-E53B-465F-9820-4466314F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1F456-B3F3-4FEE-A20D-CBC9BA98E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BB894-3441-4A0B-BF45-8BD09CA49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988AF-1D90-4C26-8315-7BF7A47DA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6C03-63B1-4E10-A494-7E09A73A2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326A-CE77-468A-AB4B-2554AD2AB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DF21-542D-40FD-B4A8-55B59783D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22CF-EC80-4AE3-B76F-F7597D823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F3B6-9094-4E43-921E-7989618B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3A1A-71FF-4ABF-82F7-98976DBD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1F06-1577-496F-9DDA-9DCF7B44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6AEE6-5CE4-4FC6-A6AD-6B743947F39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582D3-7449-45AC-A741-83CE947ED05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Mapping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Stream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05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direction a streams is flowing is shown on a topographic map by the way a contour line crosses the strea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reams are shown as a blue line on map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n contour lines cross a stream it looks like an upside down V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point in the V point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pstream. It opens in the                         direction the water is flow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5" descr="187244"/>
          <p:cNvPicPr/>
          <p:nvPr/>
        </p:nvPicPr>
        <p:blipFill>
          <a:blip r:embed="rId1"/>
          <a:stretch/>
        </p:blipFill>
        <p:spPr>
          <a:xfrm>
            <a:off x="4876920" y="38862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topo-example"/>
          <p:cNvPicPr/>
          <p:nvPr/>
        </p:nvPicPr>
        <p:blipFill>
          <a:blip r:embed="rId2"/>
          <a:stretch/>
        </p:blipFill>
        <p:spPr>
          <a:xfrm>
            <a:off x="5334120" y="4676760"/>
            <a:ext cx="3429000" cy="21812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image_f_stream"/>
          <p:cNvPicPr/>
          <p:nvPr/>
        </p:nvPicPr>
        <p:blipFill>
          <a:blip r:embed="rId3"/>
          <a:stretch/>
        </p:blipFill>
        <p:spPr>
          <a:xfrm>
            <a:off x="6162840" y="762120"/>
            <a:ext cx="2981160" cy="39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Depression Contour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876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pression contours show areas of lower elev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rawn like contour lines with marks on the insid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chure marks- tick marks on inside of closed circ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5" descr="cont_3"/>
          <p:cNvPicPr/>
          <p:nvPr/>
        </p:nvPicPr>
        <p:blipFill>
          <a:blip r:embed="rId1"/>
          <a:stretch/>
        </p:blipFill>
        <p:spPr>
          <a:xfrm>
            <a:off x="3276720" y="5133960"/>
            <a:ext cx="2381040" cy="1724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depression1"/>
          <p:cNvPicPr/>
          <p:nvPr/>
        </p:nvPicPr>
        <p:blipFill>
          <a:blip r:embed="rId2"/>
          <a:stretch/>
        </p:blipFill>
        <p:spPr>
          <a:xfrm>
            <a:off x="5772240" y="1143000"/>
            <a:ext cx="33717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Hill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lls are represented on a topographic map by a series of concentric contour lines in a rough circl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5" descr="hillmap"/>
          <p:cNvPicPr/>
          <p:nvPr/>
        </p:nvPicPr>
        <p:blipFill>
          <a:blip r:embed="rId1"/>
          <a:stretch/>
        </p:blipFill>
        <p:spPr>
          <a:xfrm>
            <a:off x="3048120" y="1828800"/>
            <a:ext cx="414972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Slop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osely spaced contour lines represent steep slop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ely spaced contour lines represent gentle slop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5" descr="a0133"/>
          <p:cNvPicPr/>
          <p:nvPr/>
        </p:nvPicPr>
        <p:blipFill>
          <a:blip r:embed="rId1"/>
          <a:stretch/>
        </p:blipFill>
        <p:spPr>
          <a:xfrm>
            <a:off x="3124080" y="2514600"/>
            <a:ext cx="39164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Benchmark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benchmark is a place where exact elevation is know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own by a B.M. on ma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: BM 6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5" descr="benchmark"/>
          <p:cNvPicPr/>
          <p:nvPr/>
        </p:nvPicPr>
        <p:blipFill>
          <a:blip r:embed="rId1"/>
          <a:stretch/>
        </p:blipFill>
        <p:spPr>
          <a:xfrm>
            <a:off x="914400" y="3954600"/>
            <a:ext cx="3352680" cy="2141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benchmark_image"/>
          <p:cNvPicPr/>
          <p:nvPr/>
        </p:nvPicPr>
        <p:blipFill>
          <a:blip r:embed="rId2"/>
          <a:stretch/>
        </p:blipFill>
        <p:spPr>
          <a:xfrm>
            <a:off x="5334120" y="2819520"/>
            <a:ext cx="3809880" cy="38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Color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olors on a topographic map are symbolic of different map featur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lue = wate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een = fores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rown = contour lin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lack = cultural features (buildings, place names, boundary lines, roads, etc.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d = principal road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ink = urban area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urple = revisions to an older map, compiled from aerial photos. If an area has become urbanized, this may be shown as purple shading on the new, revised map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Map Sca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943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p scale indicates your distance along the ground, or the amount of ground covered by the ma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GS- United States Geologic Surv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atio- 1:240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e unit on the map is equal to 24,000 units of the same size on the groun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:1 inch on the map = 24000 inches on Earth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r after converting 1 inch = 2000ft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r scale-indicated by a line or bar with distances marked in miles, feet, or kilometer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9" descr="image39"/>
          <p:cNvPicPr/>
          <p:nvPr/>
        </p:nvPicPr>
        <p:blipFill>
          <a:blip r:embed="rId1"/>
          <a:stretch/>
        </p:blipFill>
        <p:spPr>
          <a:xfrm>
            <a:off x="5791320" y="5610240"/>
            <a:ext cx="335268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Map Sca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4" name="Picture 4" descr="scaler"/>
          <p:cNvPicPr/>
          <p:nvPr/>
        </p:nvPicPr>
        <p:blipFill>
          <a:blip r:embed="rId1"/>
          <a:stretch/>
        </p:blipFill>
        <p:spPr>
          <a:xfrm>
            <a:off x="1981080" y="1236600"/>
            <a:ext cx="632484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Profil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topographic profile is a cross-sectional view along a line drawn through a portion of a topographic map.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is like taking a slice out of a portion of the Earth and looking at it from the sid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5" descr="mapsshow_topo1"/>
          <p:cNvPicPr/>
          <p:nvPr/>
        </p:nvPicPr>
        <p:blipFill>
          <a:blip r:embed="rId1"/>
          <a:stretch/>
        </p:blipFill>
        <p:spPr>
          <a:xfrm>
            <a:off x="6114960" y="3638520"/>
            <a:ext cx="3029040" cy="3219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tic"/>
          <p:cNvPicPr/>
          <p:nvPr/>
        </p:nvPicPr>
        <p:blipFill>
          <a:blip r:embed="rId2"/>
          <a:stretch/>
        </p:blipFill>
        <p:spPr>
          <a:xfrm>
            <a:off x="228600" y="3581280"/>
            <a:ext cx="27525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0" name="Reading_Contour_Lines_and_Mapmaking_from_Models_256k.asx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at is a map?  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is a representation of something (Earth, stars, solar system, a building, etc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5" descr="cc_map"/>
          <p:cNvPicPr/>
          <p:nvPr/>
        </p:nvPicPr>
        <p:blipFill>
          <a:blip r:embed="rId1"/>
          <a:stretch/>
        </p:blipFill>
        <p:spPr>
          <a:xfrm>
            <a:off x="5533920" y="685800"/>
            <a:ext cx="3610080" cy="5133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constellation2"/>
          <p:cNvPicPr/>
          <p:nvPr/>
        </p:nvPicPr>
        <p:blipFill>
          <a:blip r:embed="rId2"/>
          <a:stretch/>
        </p:blipFill>
        <p:spPr>
          <a:xfrm>
            <a:off x="228600" y="3886200"/>
            <a:ext cx="2297160" cy="2971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national_forecast"/>
          <p:cNvPicPr/>
          <p:nvPr/>
        </p:nvPicPr>
        <p:blipFill>
          <a:blip r:embed="rId3"/>
          <a:stretch/>
        </p:blipFill>
        <p:spPr>
          <a:xfrm>
            <a:off x="2286000" y="4175280"/>
            <a:ext cx="335268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Uses of Maps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determine where you are go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act as a model of Earth’s surfa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d to locate various pla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show the distribution of various features or types of materia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Quick Review of Latitude and Longitud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titu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ed in degrees North and South of the Equato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nes drawn parallel to each other running west to eas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12" descr="601latitude"/>
          <p:cNvPicPr/>
          <p:nvPr/>
        </p:nvPicPr>
        <p:blipFill>
          <a:blip r:embed="rId1"/>
          <a:stretch/>
        </p:blipFill>
        <p:spPr>
          <a:xfrm>
            <a:off x="5181480" y="3200400"/>
            <a:ext cx="3616560" cy="3657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latitude2"/>
          <p:cNvPicPr/>
          <p:nvPr/>
        </p:nvPicPr>
        <p:blipFill>
          <a:blip r:embed="rId2"/>
          <a:stretch/>
        </p:blipFill>
        <p:spPr>
          <a:xfrm>
            <a:off x="304920" y="3641760"/>
            <a:ext cx="464796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Quick Review of Latitude and Longitude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6248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ngitu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ed in degrees East or West of the prime meridi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nes drawn running North and South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7" descr="longitude_lines"/>
          <p:cNvPicPr/>
          <p:nvPr/>
        </p:nvPicPr>
        <p:blipFill>
          <a:blip r:embed="rId1"/>
          <a:stretch/>
        </p:blipFill>
        <p:spPr>
          <a:xfrm>
            <a:off x="2666880" y="3352680"/>
            <a:ext cx="2519640" cy="3229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longitude"/>
          <p:cNvPicPr/>
          <p:nvPr/>
        </p:nvPicPr>
        <p:blipFill>
          <a:blip r:embed="rId2"/>
          <a:stretch/>
        </p:blipFill>
        <p:spPr>
          <a:xfrm>
            <a:off x="6248520" y="2209680"/>
            <a:ext cx="2801880" cy="43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opograph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lay of the la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ows relief using contour lin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lief- highs and lows of Earth’s surfa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lief can be calcula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ke the difference between the highest point and the lowes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: Mountain peak 20 m. lake 10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0m- 10m= 10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relief of this area is 10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Contour Lines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nes on topographic map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nect points of equal elev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erything connected to that line has the same elev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vation- the distance something is above sea level. Sea level= 0m or 0f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5" descr="conpackb"/>
          <p:cNvPicPr/>
          <p:nvPr/>
        </p:nvPicPr>
        <p:blipFill>
          <a:blip r:embed="rId1"/>
          <a:stretch/>
        </p:blipFill>
        <p:spPr>
          <a:xfrm>
            <a:off x="1523880" y="403848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topographic-map"/>
          <p:cNvPicPr/>
          <p:nvPr/>
        </p:nvPicPr>
        <p:blipFill>
          <a:blip r:embed="rId2"/>
          <a:stretch/>
        </p:blipFill>
        <p:spPr>
          <a:xfrm>
            <a:off x="5410080" y="3870360"/>
            <a:ext cx="373392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 Contour Interval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our interval- gives the difference in elevation between 2 contour lin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other indicator of heigh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own on maps as C.I.= 10f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d to count contour lin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5" descr="contour_interval"/>
          <p:cNvPicPr/>
          <p:nvPr/>
        </p:nvPicPr>
        <p:blipFill>
          <a:blip r:embed="rId1"/>
          <a:stretch/>
        </p:blipFill>
        <p:spPr>
          <a:xfrm>
            <a:off x="5791320" y="3657600"/>
            <a:ext cx="3352680" cy="1811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figure11"/>
          <p:cNvPicPr/>
          <p:nvPr/>
        </p:nvPicPr>
        <p:blipFill>
          <a:blip r:embed="rId2"/>
          <a:stretch/>
        </p:blipFill>
        <p:spPr>
          <a:xfrm>
            <a:off x="0" y="4203720"/>
            <a:ext cx="4267080" cy="26542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8"/>
          <p:cNvSpPr/>
          <p:nvPr/>
        </p:nvSpPr>
        <p:spPr>
          <a:xfrm>
            <a:off x="4267080" y="60958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.I.= 1000f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6095880" y="54864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ow it will look on a ma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Index Contour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index contour is a contour line that is accentuated in thickness and is labeled with the appropriate measure of elev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ex contours occur every fifth contour lin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lp the map user read elevations on a map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5" descr="index2"/>
          <p:cNvPicPr/>
          <p:nvPr/>
        </p:nvPicPr>
        <p:blipFill>
          <a:blip r:embed="rId1"/>
          <a:stretch/>
        </p:blipFill>
        <p:spPr>
          <a:xfrm>
            <a:off x="457200" y="3411360"/>
            <a:ext cx="3809880" cy="3160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index"/>
          <p:cNvPicPr/>
          <p:nvPr/>
        </p:nvPicPr>
        <p:blipFill>
          <a:blip r:embed="rId2"/>
          <a:stretch/>
        </p:blipFill>
        <p:spPr>
          <a:xfrm>
            <a:off x="5867280" y="3276720"/>
            <a:ext cx="3276720" cy="3024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8"/>
          <p:cNvSpPr/>
          <p:nvPr/>
        </p:nvSpPr>
        <p:spPr>
          <a:xfrm>
            <a:off x="4343400" y="624852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d arrows indicate location of index contour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15:09:35Z</dcterms:created>
  <dc:creator>SCS</dc:creator>
  <dc:description/>
  <dc:language>en-US</dc:language>
  <cp:lastModifiedBy>RomaK</cp:lastModifiedBy>
  <dcterms:modified xsi:type="dcterms:W3CDTF">2015-09-04T09:43:49Z</dcterms:modified>
  <cp:revision>24</cp:revision>
  <dc:subject/>
  <dc:title>Mapping</dc:title>
</cp:coreProperties>
</file>