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8584-C8B8-459F-9979-60C0A42389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astal Ecosystems: </a:t>
            </a:r>
            <a:br>
              <a:rPr sz="1200"/>
            </a:br>
            <a:r>
              <a:rPr b="0" lang="en-GB" sz="1200" spc="-1" strike="noStrike">
                <a:solidFill>
                  <a:srgbClr val="ffffff"/>
                </a:solidFill>
                <a:latin typeface="Times New Roman"/>
              </a:rPr>
              <a:t>Salt Marshes and Mangrov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rine Bi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Ouida Mei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astal Ecosystems: </a:t>
            </a:r>
            <a:br>
              <a:rPr sz="1200"/>
            </a:br>
            <a:r>
              <a:rPr b="0" lang="en-GB" sz="1200" spc="-1" strike="noStrike">
                <a:solidFill>
                  <a:srgbClr val="000000"/>
                </a:solidFill>
                <a:latin typeface="Times New Roman"/>
              </a:rPr>
              <a:t>Salt Marshes and Mangr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ine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Ouida Me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herbivore in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herbivore in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ly producti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ery stressfu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ap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bilize and extend coastlines, especially those with fluvial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d webs detritus-based; herbivory may be more important than previously thought; “trophic relays” convey biomass to adjacent ecosystem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diversity, high productiv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p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bilize and extend coastlines, especially those with fluvi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webs detritus-based; herbivory may be more important than previously thought; “trophic relays” convey biomass to adjacent eco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diversity, high produ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Salt Marsh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lacoast.gov/news/press/1997-10-27.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tulane.edu/~bfleury/envirobio/saltmarsh.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bonitanews.com/03/10/naples/e1631a.ht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Salt Mar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stal erosion and wetland loss due to channelization and levees along the Mississippi, dams on its tributaries, land settling from groundwater pumping and use, and channels cut through the marsh for offshore drilling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acoast.gov/news/press/1997-10-27.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ulane.edu/~bfleury/envirobio/saltmarsh.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nitanews.com/03/10/naples/e1631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 of salt marsh decline in south Louisiana, http://www.brownmarsh.n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salt marsh decline in south Louisiana, http://www.brownmars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 Florida): subtropical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limited seasonality (moving toward rainy/dry seas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important – can be sheetlike (Everglades) rather than distinctly riverine; alluvial sediment input. High tannins from leaf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and pea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more inundated than salt marshes;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 Florida): subtropical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limited seasonality (moving toward rainy/dry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important – can be sheetlike (Everglades) rather than distinctly riverine; alluvial sediment input. High tannins from leaf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and pea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more inundated than salt marshes;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mangroves, low tide, south Florid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mangroves, low tide, south Flor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hizophora mangle – red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extrudes sal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vicennia germinans – black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neumatophores; extends to coastal Louisiana where it, unusually, coexists w/ Spartin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guncularia racemosa – white mangrov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have viviparous propagu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uch higher diversity in the Indo-Pacific</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hora mangle – red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extrudes s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vicennia germinans – black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neumatophores; extends to coastal Louisiana where it, unusually, coexists w/ Spar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guncularia racemosa – white mang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have viviparous propag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higher diversity in the Indo-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nation and Distribution of mangroves is affected by flooding, salinity, temperature fluctuations (air/soil/water), and soi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nation and Distribution of mangroves is affected by flooding, salinity, temperature fluctuations (air/soil/water), and so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Mangrove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s of red mangroves provide substrate for benthic organisms (algae, sponges, hydroids, tunicates, bryozo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s provide critical protected nursery areas for fishes, crustaceans, and shellfish.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mangrove branches serve as rookeries for many coastal species of bird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rganisms reared in mangrove swamps become food for fish (snook, snapper, tarpon, jack, sheepshead, red drum) oysters, and shrimp.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Mangrov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s of red mangroves provide substrate for benthic organisms (algae, sponges, hydroids, tunicates, bryoz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s provide critical protected nursery areas for fishes, crustaceans, and shell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mangrove branches serve as rookeries for many coastal species of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sms reared in mangrove swamps become food for fish (snook, snapper, tarpon, jack, sheepshead, red drum) oysters, and shrim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rop root communiti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 root comm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at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emperatu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ght,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mplitud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quenc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gree of riverine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lluvial sediments and deposi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urbid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ht,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plit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gree of riverine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uvial sediments and de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bid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tlands Loss: Mangrove Swamp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acres of mangroves in south Florida have been lost to development and to anthropogenic changes in hydrolog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omitant declines in offshore fisheries can be expected and have been se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tlands Loss: Mangrove Sw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cres of mangroves in south Florida have been lost to development and to anthropogenic changes in hydr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ly, many areas of mangroves are being cut for wood or converted to aquaculture or mariculture ponds (e.g., fish, shrimp, prawns for seafood restau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omitant declines in offshore fisheries can be expected and have been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Mangrove swamp in Mexic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grove swamp in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actors Driving Coastal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ock</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n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ical characteristic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earshore curre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proximity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nutrient inpu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thropogenic impac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Driving Coastal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ic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arshor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proxim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trient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thropogenic imp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Recap: Rocky Intertid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Pacific Northwest): high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ld Pacific waters, strong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high amplitude, semi-diurna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hig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 riverine characteristics modified by bay / estua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rocky cliffs, interspersed w/sandy beach</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strong nearshore currents &amp; trans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input via interaction with terrestrial 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Rocky Intertid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Pacific Northwest): high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d Pacific waters, strong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high amplitude, semi-di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 riverine characteristics modified by bay / est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rocky cliffs, interspersed w/sandy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strong nearshore currents &amp;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input via interaction with terrestri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Marsh Ecosyste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ur example (southeastern U.S.: Gulf and Atlantic coasts): moderate latitude, so</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t>
            </a:r>
            <a:r>
              <a:rPr b="0" lang="en-GB" sz="1200" spc="-1" strike="noStrike">
                <a:solidFill>
                  <a:srgbClr val="ffffff"/>
                </a:solidFill>
                <a:latin typeface="Times New Roman"/>
              </a:rPr>
              <a:t>Warm” Atlantic and warmer Gulf and Gulf stream waters, moderated seasonal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idal cycle: low amplitud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ve energy lo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ology: long-term alluvial sediment accumul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ydrology: nearshore currents &amp; transport importa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ontinental edge, nutrient input via runoff, riv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Marsh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example (southeastern U.S.: Gulf and Atlantic coasts): moderate latitud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arm” Atlantic and warmer Gulf and Gulf stream waters, moderated seas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dal cycle: low ampl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ve energy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water input often critical – deltaic riverine input can result in extensive marsh systems, abundant alluvial sediment input. Salt accumulation a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long-term alluvial sediment 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logy: nearshore currents &amp; transpor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nental edge, nutrient input via runoff,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and tidal channels in coastal Georgi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and tidal channels in coastal Geor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lant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partina alterniflora – marsh cordgra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ight depends on riverine or tidal flush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port of dried mats during winter storm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exclude salt from roo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icornia – a succul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alt pa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resher water  and soils / higher ground: other grasses (Spartina patens), rushes (Juncus romerianus), sedg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nt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artina alterniflora – marsh cordgr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ight depends on riverine or tidal flu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rt of dried mats during winter st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de salt from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icornia – a succ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t p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er water  and soils / higher ground: other grasses (Spartina patens), rushes (Juncus romerianus), sed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nation based on topography, inundation of freshwater, fresh/salt fluctuation, tidal flushing, relative stresses, anoxia of soils, latitudinal gradient (e.g., east coast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t marsh replanted after a break in an oil pipel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 marsh replanted after a break in an oil pip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imals of the Salt Marsh Communit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eukensia demissa – dominant musse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ves in sedimen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ysiological variation with tidal cycl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Crassostrea virginica – oys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nse beds in well-flushed tidal channel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ittorina irrorata – salt marsh snails; pulmon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ais haemostoma – oyster dri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Uca pugnax, other Uca spp. – fiddler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Sesarma cinereum - marsh crab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imals of the Salt Mars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ukensia demissa – dominant mus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s in 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siological variation with tid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ssostrea virginica – oy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nse beds in well-flushed tid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orina irrorata – salt marsh snails; pulmo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is haemostoma – oyster dr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ca pugnax, other Uca spp. – fiddler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sarma cinereum - marsh cr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amples are particularly for south Louisiana and coastal Georgia; other species will occur elsewhere, filling slightly modified niches depending upon range, region, and lo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169C8-7ECC-441B-917D-1FEC32D08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9127F-3BD7-4811-97C9-B6B35AC56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B6FE2-C27E-4F68-83DC-6AA50087D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0E777-535D-442C-B388-6D3CA8997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ABC39-8F19-4040-86EB-5918B988FC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F7483-C37A-494A-AC73-51065461D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C41A9-30E7-4426-A033-3D0911E55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97A65-DC85-4762-9763-CE2F39BF6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12175-7CE0-4FE3-9733-C8F4A0A95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1AEBF-4275-4AC6-ADBC-4399DB273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71245-8673-420A-B167-001B2FB79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3A481-51CD-4AD1-ACC9-64077A07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EFC4B-B2B1-4F3F-AFE2-8134AF4FB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25C3A-7AE3-482C-8527-16CEE320A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F760A-B72B-43F2-B94A-D26A2BD99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70E29-7B4E-4DA5-91B2-41F8CB98F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F1721-4860-420D-B6B9-01570434C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D3A41-CE0F-4388-9CB8-4A8B20471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751D8-F5F4-4675-9192-86352A5A4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AF48-FD1A-4354-BE97-D3845D6ED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C5113-1E7B-4D77-899A-7BAA7401A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FFC3-2309-49DB-AB20-BAC509863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6E44B-FF61-4604-BAB6-437DD7893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3CC8-5C8F-43B6-90A0-5081A6B63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613D-1A04-40C8-9862-58FAC7C830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8ED4-560F-43B4-B471-1EB3E2DAE4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www.lacoast.gov/news/press/1997-10-27.htm" TargetMode="External"/><Relationship Id="rId5" Type="http://schemas.openxmlformats.org/officeDocument/2006/relationships/image" Target="../media/image4.png"/><Relationship Id="rId6" Type="http://schemas.openxmlformats.org/officeDocument/2006/relationships/hyperlink" Target="http://www.tulane.edu/~bfleury/envirobio/saltmarsh.html" TargetMode="External"/><Relationship Id="rId7" Type="http://schemas.openxmlformats.org/officeDocument/2006/relationships/image" Target="../media/image4.png"/><Relationship Id="rId8" Type="http://schemas.openxmlformats.org/officeDocument/2006/relationships/hyperlink" Target="http://www.bonitanews.com/03/10/naples/e1631a.htm" TargetMode="External"/><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2080"/>
            <a:ext cx="8229600" cy="14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astal Ecosystems: </a:t>
            </a:r>
            <a:br>
              <a:rPr sz="4800"/>
            </a:br>
            <a:r>
              <a:rPr b="0" lang="en-US" sz="4800" spc="-1" strike="noStrike">
                <a:solidFill>
                  <a:srgbClr val="ffffff"/>
                </a:solidFill>
                <a:latin typeface="Arial"/>
              </a:rPr>
              <a:t>Salt Marshes and Mangroves</a:t>
            </a:r>
            <a:endParaRPr b="0" lang="en-US" sz="4800" spc="-1" strike="noStrike">
              <a:solidFill>
                <a:srgbClr val="ffffff"/>
              </a:solidFill>
              <a:latin typeface="Arial"/>
            </a:endParaRPr>
          </a:p>
        </p:txBody>
      </p:sp>
      <p:sp>
        <p:nvSpPr>
          <p:cNvPr id="170" name="PlaceHolder 2"/>
          <p:cNvSpPr>
            <a:spLocks noGrp="1"/>
          </p:cNvSpPr>
          <p:nvPr>
            <p:ph type="subTitle"/>
          </p:nvPr>
        </p:nvSpPr>
        <p:spPr>
          <a:xfrm>
            <a:off x="457200" y="5181120"/>
            <a:ext cx="4648320" cy="12193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 Biology</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Ouida Mei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8" name="Picture 3" descr="image004"/>
          <p:cNvPicPr/>
          <p:nvPr/>
        </p:nvPicPr>
        <p:blipFill>
          <a:blip r:embed="rId1"/>
          <a:stretch/>
        </p:blipFill>
        <p:spPr>
          <a:xfrm>
            <a:off x="0" y="-533520"/>
            <a:ext cx="9144000" cy="6739200"/>
          </a:xfrm>
          <a:prstGeom prst="rect">
            <a:avLst/>
          </a:prstGeom>
          <a:ln w="0">
            <a:noFill/>
          </a:ln>
        </p:spPr>
      </p:pic>
      <p:sp>
        <p:nvSpPr>
          <p:cNvPr id="189" name="Text Box 4"/>
          <p:cNvSpPr/>
          <p:nvPr/>
        </p:nvSpPr>
        <p:spPr>
          <a:xfrm>
            <a:off x="152280" y="63244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herbivore in the salt marsh commun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Communit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productiv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stressful</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sedimen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ze and extend coastlines, especially those with fluvial inpu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webs detritus-based; herbivory may be more important than previously thought; “trophic relays” convey biomass to adjacent ecosystem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diversity, high produ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lands Loss: Salt Marshes</a:t>
            </a:r>
            <a:endParaRPr b="0" lang="en-US" sz="4400" spc="-1" strike="noStrike">
              <a:solidFill>
                <a:srgbClr val="ffffff"/>
              </a:solidFill>
              <a:latin typeface="Arial"/>
            </a:endParaRPr>
          </a:p>
        </p:txBody>
      </p:sp>
      <p:sp>
        <p:nvSpPr>
          <p:cNvPr id="193" name="PlaceHolder 2"/>
          <p:cNvSpPr>
            <a:spLocks noGrp="1"/>
          </p:cNvSpPr>
          <p:nvPr>
            <p:ph/>
          </p:nvPr>
        </p:nvSpPr>
        <p:spPr>
          <a:xfrm>
            <a:off x="380520" y="1371240"/>
            <a:ext cx="8458200" cy="52578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stal erosion and wetland loss due to channelization and levees along the Mississippi, dams on its tributaries, land settling from groundwater pumping and use, and channels cut through the marsh for offshore drilling platform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s of Louisiana coastal wetland loss for 1978-90 indicate a loss of about 35 square miles a year of freshwater and non-freshwater marshes and forested and scrub-shrub wetlands. From 1978-90, that equalled a 12-year loss of about 420 square miles, an area twice the size of the populated greater New Orleans area.</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4"/>
              </a:rPr>
              <a:t>http://www.lacoast.gov/news/press/1997-10-27.htm</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6"/>
              </a:rPr>
              <a:t>http://www.tulane.edu/~bfleury/envirobio/saltmarsh.html</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6d1ec"/>
                </a:solidFill>
                <a:uFillTx/>
                <a:latin typeface="Arial"/>
                <a:hlinkClick r:id="rId8"/>
              </a:rPr>
              <a:t>http://www.bonitanews.com/03/10/naples/e1631a.ht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Picture 5" descr="00-02-066%20salt%20marsh%20dieback%20die-off(updated)"/>
          <p:cNvPicPr/>
          <p:nvPr/>
        </p:nvPicPr>
        <p:blipFill>
          <a:blip r:embed="rId1"/>
          <a:stretch/>
        </p:blipFill>
        <p:spPr>
          <a:xfrm>
            <a:off x="0" y="0"/>
            <a:ext cx="9220320" cy="6229440"/>
          </a:xfrm>
          <a:prstGeom prst="rect">
            <a:avLst/>
          </a:prstGeom>
          <a:ln w="0">
            <a:noFill/>
          </a:ln>
        </p:spPr>
      </p:pic>
      <p:sp>
        <p:nvSpPr>
          <p:cNvPr id="195" name="Text Box 6"/>
          <p:cNvSpPr/>
          <p:nvPr/>
        </p:nvSpPr>
        <p:spPr>
          <a:xfrm>
            <a:off x="0" y="63849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salt marsh decline in south Louisiana, http://www.brownmarsh.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ngrove Ecosystems</a:t>
            </a:r>
            <a:endParaRPr b="0" lang="en-US" sz="4400" spc="-1" strike="noStrike">
              <a:solidFill>
                <a:srgbClr val="ffffff"/>
              </a:solidFill>
              <a:latin typeface="Arial"/>
            </a:endParaRPr>
          </a:p>
        </p:txBody>
      </p:sp>
      <p:sp>
        <p:nvSpPr>
          <p:cNvPr id="197" name="PlaceHolder 2"/>
          <p:cNvSpPr>
            <a:spLocks noGrp="1"/>
          </p:cNvSpPr>
          <p:nvPr>
            <p:ph/>
          </p:nvPr>
        </p:nvSpPr>
        <p:spPr>
          <a:xfrm>
            <a:off x="380880" y="1295280"/>
            <a:ext cx="8382240" cy="556272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south Florida): subtropical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limited seasonality (moving toward rainy/dry season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important – can be sheetlike (Everglades) rather than distinctly riverine; alluvial sediment input. High tannins from leaf input.</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and pea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more inundated than salt marshes;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8" name="Picture 5" descr="red_mangrove"/>
          <p:cNvPicPr/>
          <p:nvPr/>
        </p:nvPicPr>
        <p:blipFill>
          <a:blip r:embed="rId1"/>
          <a:stretch/>
        </p:blipFill>
        <p:spPr>
          <a:xfrm>
            <a:off x="-76320" y="76320"/>
            <a:ext cx="9144000" cy="5667120"/>
          </a:xfrm>
          <a:prstGeom prst="rect">
            <a:avLst/>
          </a:prstGeom>
          <a:ln w="0">
            <a:noFill/>
          </a:ln>
        </p:spPr>
      </p:pic>
      <p:sp>
        <p:nvSpPr>
          <p:cNvPr id="199" name="Text Box 6"/>
          <p:cNvSpPr/>
          <p:nvPr/>
        </p:nvSpPr>
        <p:spPr>
          <a:xfrm>
            <a:off x="228600" y="60199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mangroves, low tide, south Flor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Mangrove Community</a:t>
            </a:r>
            <a:endParaRPr b="0" lang="en-US" sz="4000" spc="-1" strike="noStrike">
              <a:solidFill>
                <a:srgbClr val="ffffff"/>
              </a:solidFill>
              <a:latin typeface="Arial"/>
            </a:endParaRPr>
          </a:p>
        </p:txBody>
      </p:sp>
      <p:sp>
        <p:nvSpPr>
          <p:cNvPr id="201" name="PlaceHolder 2"/>
          <p:cNvSpPr>
            <a:spLocks noGrp="1"/>
          </p:cNvSpPr>
          <p:nvPr>
            <p:ph/>
          </p:nvPr>
        </p:nvSpPr>
        <p:spPr>
          <a:xfrm>
            <a:off x="456840" y="1599840"/>
            <a:ext cx="8534520" cy="4530600"/>
          </a:xfrm>
          <a:prstGeom prst="rect">
            <a:avLst/>
          </a:prstGeom>
          <a:noFill/>
          <a:ln w="0">
            <a:noFill/>
          </a:ln>
        </p:spPr>
        <p:txBody>
          <a:bodyPr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hizophora mangle</a:t>
            </a:r>
            <a:r>
              <a:rPr b="0" lang="en-US" sz="3200" spc="-1" strike="noStrike">
                <a:solidFill>
                  <a:srgbClr val="ffffff"/>
                </a:solidFill>
                <a:latin typeface="Arial"/>
              </a:rPr>
              <a:t> – red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extrudes salt</a:t>
            </a:r>
            <a:endParaRPr b="0" lang="en-US" sz="28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vicennia germinans</a:t>
            </a:r>
            <a:r>
              <a:rPr b="0" lang="en-US" sz="3200" spc="-1" strike="noStrike">
                <a:solidFill>
                  <a:srgbClr val="ffffff"/>
                </a:solidFill>
                <a:latin typeface="Arial"/>
              </a:rPr>
              <a:t> – black mangrov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atophores; extends to coastal Louisiana where it, unusually, coexists w/ </a:t>
            </a:r>
            <a:r>
              <a:rPr b="0" i="1" lang="en-US" sz="2800" spc="-1" strike="noStrike">
                <a:solidFill>
                  <a:srgbClr val="ffffff"/>
                </a:solidFill>
                <a:latin typeface="Arial"/>
              </a:rPr>
              <a:t>Spartina</a:t>
            </a:r>
            <a:endParaRPr b="0" lang="en-US" sz="28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aguncularia racemosa</a:t>
            </a:r>
            <a:r>
              <a:rPr b="0" lang="en-US" sz="3200" spc="-1" strike="noStrike">
                <a:solidFill>
                  <a:srgbClr val="ffffff"/>
                </a:solidFill>
                <a:latin typeface="Arial"/>
              </a:rPr>
              <a:t> – white mangrove</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have viviparous propagule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h higher diversity in the Indo-Paci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Picture_of_a_Mangrove_1"/>
          <p:cNvPicPr/>
          <p:nvPr/>
        </p:nvPicPr>
        <p:blipFill>
          <a:blip r:embed="rId1"/>
          <a:stretch/>
        </p:blipFill>
        <p:spPr>
          <a:xfrm>
            <a:off x="6172200" y="3191040"/>
            <a:ext cx="2790720" cy="3362040"/>
          </a:xfrm>
          <a:prstGeom prst="rect">
            <a:avLst/>
          </a:prstGeom>
          <a:ln w="0">
            <a:noFill/>
          </a:ln>
        </p:spPr>
      </p:pic>
      <p:pic>
        <p:nvPicPr>
          <p:cNvPr id="203" name="Picture 7" descr="Picture_2"/>
          <p:cNvPicPr/>
          <p:nvPr/>
        </p:nvPicPr>
        <p:blipFill>
          <a:blip r:embed="rId2"/>
          <a:stretch/>
        </p:blipFill>
        <p:spPr>
          <a:xfrm>
            <a:off x="3176640" y="2343240"/>
            <a:ext cx="2790720" cy="2914560"/>
          </a:xfrm>
          <a:prstGeom prst="rect">
            <a:avLst/>
          </a:prstGeom>
          <a:ln w="0">
            <a:noFill/>
          </a:ln>
        </p:spPr>
      </p:pic>
      <p:pic>
        <p:nvPicPr>
          <p:cNvPr id="204" name="Picture 9" descr="Picture_3"/>
          <p:cNvPicPr/>
          <p:nvPr/>
        </p:nvPicPr>
        <p:blipFill>
          <a:blip r:embed="rId3"/>
          <a:stretch/>
        </p:blipFill>
        <p:spPr>
          <a:xfrm>
            <a:off x="228600" y="1276200"/>
            <a:ext cx="2790720" cy="2762280"/>
          </a:xfrm>
          <a:prstGeom prst="rect">
            <a:avLst/>
          </a:prstGeom>
          <a:ln w="0">
            <a:noFill/>
          </a:ln>
        </p:spPr>
      </p:pic>
      <p:sp>
        <p:nvSpPr>
          <p:cNvPr id="205" name="Text Box 10"/>
          <p:cNvSpPr/>
          <p:nvPr/>
        </p:nvSpPr>
        <p:spPr>
          <a:xfrm>
            <a:off x="304920" y="228600"/>
            <a:ext cx="8762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tion and Distribution of mangroves is affected by flooding, salinity, temperature fluctuations (air/soil/water), and s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6091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Mangrove Community</a:t>
            </a:r>
            <a:endParaRPr b="0" lang="en-US" sz="4000" spc="-1" strike="noStrike">
              <a:solidFill>
                <a:srgbClr val="ffffff"/>
              </a:solidFill>
              <a:latin typeface="Arial"/>
            </a:endParaRPr>
          </a:p>
        </p:txBody>
      </p:sp>
      <p:sp>
        <p:nvSpPr>
          <p:cNvPr id="207" name="PlaceHolder 2"/>
          <p:cNvSpPr>
            <a:spLocks noGrp="1"/>
          </p:cNvSpPr>
          <p:nvPr>
            <p:ph/>
          </p:nvPr>
        </p:nvSpPr>
        <p:spPr>
          <a:xfrm>
            <a:off x="456840" y="1793880"/>
            <a:ext cx="8458200" cy="48355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 roots of red mangroves provide substrate for benthic organisms (algae, sponges, hydroids, tunicates, bryozoa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grove swamps provide critical protected nursery areas for fishes, crustaceans, and shellfish.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mangrove branches serve as rookeries for many coastal species of bird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reared in mangrove swamps become food for fish (snook, snapper, tarpon, jack, sheepshead, red drum) oysters, and shri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8" name="Picture 5" descr="mangrove%20oysters,%20BVI%20(M"/>
          <p:cNvPicPr/>
          <p:nvPr/>
        </p:nvPicPr>
        <p:blipFill>
          <a:blip r:embed="rId1"/>
          <a:stretch/>
        </p:blipFill>
        <p:spPr>
          <a:xfrm>
            <a:off x="0" y="0"/>
            <a:ext cx="9144000" cy="6585120"/>
          </a:xfrm>
          <a:prstGeom prst="rect">
            <a:avLst/>
          </a:prstGeom>
          <a:ln w="0">
            <a:noFill/>
          </a:ln>
        </p:spPr>
      </p:pic>
      <p:sp>
        <p:nvSpPr>
          <p:cNvPr id="209" name="Text Box 6"/>
          <p:cNvSpPr/>
          <p:nvPr/>
        </p:nvSpPr>
        <p:spPr>
          <a:xfrm>
            <a:off x="228600" y="6477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 root commun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2"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itud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asonality</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l cycle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litude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cy</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energ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riverine inpu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shwater inpu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uvial sediments and deposi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d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tlands Loss: Mangrove Swamps</a:t>
            </a:r>
            <a:endParaRPr b="0" lang="en-US" sz="4000" spc="-1" strike="noStrike">
              <a:solidFill>
                <a:srgbClr val="ffffff"/>
              </a:solidFill>
              <a:latin typeface="Arial"/>
            </a:endParaRPr>
          </a:p>
        </p:txBody>
      </p:sp>
      <p:sp>
        <p:nvSpPr>
          <p:cNvPr id="211" name="PlaceHolder 2"/>
          <p:cNvSpPr>
            <a:spLocks noGrp="1"/>
          </p:cNvSpPr>
          <p:nvPr>
            <p:ph/>
          </p:nvPr>
        </p:nvSpPr>
        <p:spPr>
          <a:xfrm>
            <a:off x="457200" y="1870200"/>
            <a:ext cx="8229600" cy="4835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cres of mangroves in south Florida have been lost to development and to anthropogenic changes in hydrology.</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ly, many areas of mangroves are being cut for wood or converted to aquaculture or mariculture ponds (</a:t>
            </a:r>
            <a:r>
              <a:rPr b="0" i="1" lang="en-US" sz="3200" spc="-1" strike="noStrike">
                <a:solidFill>
                  <a:srgbClr val="ffffff"/>
                </a:solidFill>
                <a:latin typeface="Arial"/>
              </a:rPr>
              <a:t>e.g</a:t>
            </a:r>
            <a:r>
              <a:rPr b="0" lang="en-US" sz="3200" spc="-1" strike="noStrike">
                <a:solidFill>
                  <a:srgbClr val="ffffff"/>
                </a:solidFill>
                <a:latin typeface="Arial"/>
              </a:rPr>
              <a:t>., fish, shrimp, prawns for seafood restaurants).</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mitant declines in offshore fisheries can be expected and have been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2" name="Picture 3" descr="mangrove-swamp"/>
          <p:cNvPicPr/>
          <p:nvPr/>
        </p:nvPicPr>
        <p:blipFill>
          <a:blip r:embed="rId1"/>
          <a:stretch/>
        </p:blipFill>
        <p:spPr>
          <a:xfrm>
            <a:off x="0" y="0"/>
            <a:ext cx="9144000" cy="5989680"/>
          </a:xfrm>
          <a:prstGeom prst="rect">
            <a:avLst/>
          </a:prstGeom>
          <a:ln w="0">
            <a:noFill/>
          </a:ln>
        </p:spPr>
      </p:pic>
      <p:sp>
        <p:nvSpPr>
          <p:cNvPr id="213" name="Text Box 4"/>
          <p:cNvSpPr/>
          <p:nvPr/>
        </p:nvSpPr>
        <p:spPr>
          <a:xfrm>
            <a:off x="304920" y="62485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grove swamp in Mex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Driving Coastal Ecosystems</a:t>
            </a:r>
            <a:endParaRPr b="0" lang="en-US" sz="4400" spc="-1" strike="noStrike">
              <a:solidFill>
                <a:srgbClr val="ffffff"/>
              </a:solidFill>
              <a:latin typeface="Arial"/>
            </a:endParaRPr>
          </a:p>
        </p:txBody>
      </p:sp>
      <p:sp>
        <p:nvSpPr>
          <p:cNvPr id="174" name="PlaceHolder 2"/>
          <p:cNvSpPr>
            <a:spLocks noGrp="1"/>
          </p:cNvSpPr>
          <p:nvPr>
            <p:ph/>
          </p:nvPr>
        </p:nvSpPr>
        <p:spPr>
          <a:xfrm>
            <a:off x="685800" y="1676160"/>
            <a:ext cx="7772400" cy="4119480"/>
          </a:xfrm>
          <a:prstGeom prst="rect">
            <a:avLst/>
          </a:prstGeom>
          <a:noFill/>
          <a:ln w="0">
            <a:noFill/>
          </a:ln>
        </p:spPr>
        <p:txBody>
          <a:bodyPr anchor="t">
            <a:normAutofit fontScale="96000"/>
          </a:bodyPr>
          <a:p>
            <a:pPr marL="329040" indent="-3290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k</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d</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diment</a:t>
            </a:r>
            <a:endParaRPr b="0" lang="en-US" sz="2400" spc="-1" strike="noStrike">
              <a:solidFill>
                <a:srgbClr val="ffffff"/>
              </a:solidFill>
              <a:latin typeface="Arial"/>
            </a:endParaRPr>
          </a:p>
          <a:p>
            <a:pPr marL="329040" indent="-3290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ogical characteristics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shore currents</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a:t>
            </a:r>
            <a:endParaRPr b="0" lang="en-US" sz="2400" spc="-1" strike="noStrike">
              <a:solidFill>
                <a:srgbClr val="ffffff"/>
              </a:solidFill>
              <a:latin typeface="Arial"/>
            </a:endParaRPr>
          </a:p>
          <a:p>
            <a:pPr marL="329040" indent="-3290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ental proximity </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 inpu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ropogenic impacts</a:t>
            </a:r>
            <a:endParaRPr b="0" lang="en-US" sz="2400" spc="-1" strike="noStrike">
              <a:solidFill>
                <a:srgbClr val="ffffff"/>
              </a:solidFill>
              <a:latin typeface="Arial"/>
            </a:endParaRPr>
          </a:p>
        </p:txBody>
      </p:sp>
      <p:sp>
        <p:nvSpPr>
          <p:cNvPr id="175" name="Text Box 4"/>
          <p:cNvSpPr/>
          <p:nvPr/>
        </p:nvSpPr>
        <p:spPr>
          <a:xfrm>
            <a:off x="7543800" y="13716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ap: Rocky Intertidal</a:t>
            </a:r>
            <a:endParaRPr b="0" lang="en-US" sz="4400" spc="-1" strike="noStrike">
              <a:solidFill>
                <a:srgbClr val="ffffff"/>
              </a:solidFill>
              <a:latin typeface="Arial"/>
            </a:endParaRPr>
          </a:p>
        </p:txBody>
      </p:sp>
      <p:sp>
        <p:nvSpPr>
          <p:cNvPr id="177" name="PlaceHolder 2"/>
          <p:cNvSpPr>
            <a:spLocks noGrp="1"/>
          </p:cNvSpPr>
          <p:nvPr>
            <p:ph/>
          </p:nvPr>
        </p:nvSpPr>
        <p:spPr>
          <a:xfrm>
            <a:off x="533520" y="1828800"/>
            <a:ext cx="8153280" cy="4572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r example (Pacific Northwest): high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ld Pacific waters, strong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high amplitude, semi-diurnal</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high</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 riverine characteristics modified by bay / estuary</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rocky cliffs, interspersed w/sandy beach</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strong nearshore currents &amp; transpor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input via interaction with terrestrial systems</a:t>
            </a: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lt Marsh Ecosystems</a:t>
            </a:r>
            <a:endParaRPr b="0" lang="en-US" sz="4400" spc="-1" strike="noStrike">
              <a:solidFill>
                <a:srgbClr val="ffffff"/>
              </a:solidFill>
              <a:latin typeface="Arial"/>
            </a:endParaRPr>
          </a:p>
        </p:txBody>
      </p:sp>
      <p:sp>
        <p:nvSpPr>
          <p:cNvPr id="179" name="PlaceHolder 2"/>
          <p:cNvSpPr>
            <a:spLocks noGrp="1"/>
          </p:cNvSpPr>
          <p:nvPr>
            <p:ph/>
          </p:nvPr>
        </p:nvSpPr>
        <p:spPr>
          <a:xfrm>
            <a:off x="304920" y="1371240"/>
            <a:ext cx="8610480" cy="5257800"/>
          </a:xfrm>
          <a:prstGeom prst="rect">
            <a:avLst/>
          </a:prstGeom>
          <a:noFill/>
          <a:ln w="0">
            <a:noFill/>
          </a:ln>
        </p:spPr>
        <p:txBody>
          <a:bodyPr anchor="t">
            <a:normAutofit/>
          </a:bodyPr>
          <a:p>
            <a:pPr marL="343080" indent="-343080">
              <a:lnSpc>
                <a:spcPct val="90000"/>
              </a:lnSpc>
              <a:spcBef>
                <a:spcPts val="64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example (southeastern U.S.: Gulf and Atlantic </a:t>
            </a:r>
            <a:r>
              <a:rPr b="0" lang="en-US" sz="2600" spc="-1" strike="noStrike">
                <a:solidFill>
                  <a:srgbClr val="ffffff"/>
                </a:solidFill>
                <a:latin typeface="Arial"/>
              </a:rPr>
              <a:t>coasts): moderate latitude, so</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arm” Atlantic and warmer Gulf and Gulf stream waters, moderated seasonal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dal cycle: low amplitud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 energy low</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shwater input often critical – deltaic riverine input can result in extensive marsh systems, abundant alluvial sediment input. Salt accumulation a challenge.</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logy: long-term alluvial sediment accumulation</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ology: nearshore currents &amp; transport important</a:t>
            </a:r>
            <a:endParaRPr b="0" lang="en-US" sz="2600" spc="-1" strike="noStrike">
              <a:solidFill>
                <a:srgbClr val="ffffff"/>
              </a:solidFill>
              <a:latin typeface="Arial"/>
            </a:endParaRPr>
          </a:p>
          <a:p>
            <a:pPr marL="343080" indent="-343080">
              <a:lnSpc>
                <a:spcPct val="90000"/>
              </a:lnSpc>
              <a:spcBef>
                <a:spcPts val="649"/>
              </a:spcBef>
              <a:buSzPct val="1140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ental edge, nutrient input via runoff, riv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0" name="Picture 3" descr="Aerial view of Georgia salt marsh."/>
          <p:cNvPicPr/>
          <p:nvPr/>
        </p:nvPicPr>
        <p:blipFill>
          <a:blip r:embed="rId1"/>
          <a:stretch/>
        </p:blipFill>
        <p:spPr>
          <a:xfrm>
            <a:off x="0" y="0"/>
            <a:ext cx="9144000" cy="5194440"/>
          </a:xfrm>
          <a:prstGeom prst="rect">
            <a:avLst/>
          </a:prstGeom>
          <a:ln w="0">
            <a:noFill/>
          </a:ln>
        </p:spPr>
      </p:pic>
      <p:sp>
        <p:nvSpPr>
          <p:cNvPr id="181" name="Text Box 4"/>
          <p:cNvSpPr/>
          <p:nvPr/>
        </p:nvSpPr>
        <p:spPr>
          <a:xfrm>
            <a:off x="228600" y="6095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and tidal channels in coastal Georg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of the Salt Marsh Community</a:t>
            </a:r>
            <a:endParaRPr b="0" lang="en-US" sz="4000" spc="-1" strike="noStrike">
              <a:solidFill>
                <a:srgbClr val="ffffff"/>
              </a:solidFill>
              <a:latin typeface="Arial"/>
            </a:endParaRPr>
          </a:p>
        </p:txBody>
      </p:sp>
      <p:sp>
        <p:nvSpPr>
          <p:cNvPr id="183"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partina alterniflora</a:t>
            </a:r>
            <a:r>
              <a:rPr b="0" lang="en-US" sz="2800" spc="-1" strike="noStrike">
                <a:solidFill>
                  <a:srgbClr val="ffffff"/>
                </a:solidFill>
                <a:latin typeface="Arial"/>
              </a:rPr>
              <a:t> – marsh cordgrass</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depends on riverine or tidal flushi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of dried mats during winter storm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salt from roots</a:t>
            </a: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alicornia – </a:t>
            </a:r>
            <a:r>
              <a:rPr b="0" lang="en-US" sz="2800" spc="-1" strike="noStrike">
                <a:solidFill>
                  <a:srgbClr val="ffffff"/>
                </a:solidFill>
                <a:latin typeface="Arial"/>
              </a:rPr>
              <a:t>a succulen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pans</a:t>
            </a:r>
            <a:endParaRPr b="0" lang="en-US" sz="24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er water  and soils / higher ground: other grasses (</a:t>
            </a:r>
            <a:r>
              <a:rPr b="0" i="1" lang="en-US" sz="2800" spc="-1" strike="noStrike">
                <a:solidFill>
                  <a:srgbClr val="ffffff"/>
                </a:solidFill>
                <a:latin typeface="Arial"/>
              </a:rPr>
              <a:t>Spartina patens</a:t>
            </a:r>
            <a:r>
              <a:rPr b="0" lang="en-US" sz="2800" spc="-1" strike="noStrike">
                <a:solidFill>
                  <a:srgbClr val="ffffff"/>
                </a:solidFill>
                <a:latin typeface="Arial"/>
              </a:rPr>
              <a:t>), rushes (</a:t>
            </a:r>
            <a:r>
              <a:rPr b="0" i="1" lang="en-US" sz="2800" spc="-1" strike="noStrike">
                <a:solidFill>
                  <a:srgbClr val="ffffff"/>
                </a:solidFill>
                <a:latin typeface="Arial"/>
              </a:rPr>
              <a:t>Juncus romerianus</a:t>
            </a:r>
            <a:r>
              <a:rPr b="0" lang="en-US" sz="2800" spc="-1" strike="noStrike">
                <a:solidFill>
                  <a:srgbClr val="ffffff"/>
                </a:solidFill>
                <a:latin typeface="Arial"/>
              </a:rPr>
              <a:t>), sedge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ation based on topography, inundation of freshwater, fresh/salt fluctuation, tidal flushing, relative stresses, anoxia of soils, latitudinal gradient (</a:t>
            </a:r>
            <a:r>
              <a:rPr b="0" i="1" lang="en-US" sz="2800" spc="-1" strike="noStrike">
                <a:solidFill>
                  <a:srgbClr val="ffffff"/>
                </a:solidFill>
                <a:latin typeface="Arial"/>
              </a:rPr>
              <a:t>e.g</a:t>
            </a:r>
            <a:r>
              <a:rPr b="0" lang="en-US" sz="2800" spc="-1" strike="noStrike">
                <a:solidFill>
                  <a:srgbClr val="ffffff"/>
                </a:solidFill>
                <a:latin typeface="Arial"/>
              </a:rPr>
              <a:t>., east coast U.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84" name="Picture 3" descr="lbplant2"/>
          <p:cNvPicPr/>
          <p:nvPr/>
        </p:nvPicPr>
        <p:blipFill>
          <a:blip r:embed="rId1"/>
          <a:stretch/>
        </p:blipFill>
        <p:spPr>
          <a:xfrm>
            <a:off x="0" y="0"/>
            <a:ext cx="9144000" cy="5522760"/>
          </a:xfrm>
          <a:prstGeom prst="rect">
            <a:avLst/>
          </a:prstGeom>
          <a:ln w="0">
            <a:noFill/>
          </a:ln>
        </p:spPr>
      </p:pic>
      <p:sp>
        <p:nvSpPr>
          <p:cNvPr id="185" name="Text Box 4"/>
          <p:cNvSpPr/>
          <p:nvPr/>
        </p:nvSpPr>
        <p:spPr>
          <a:xfrm>
            <a:off x="152280" y="62326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t marsh replanted after a break in an oil pipe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of the Salt Marsh Community</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Geukensia demissa – </a:t>
            </a:r>
            <a:r>
              <a:rPr b="0" lang="en-US" sz="2800" spc="-1" strike="noStrike">
                <a:solidFill>
                  <a:srgbClr val="ffffff"/>
                </a:solidFill>
                <a:latin typeface="Arial"/>
              </a:rPr>
              <a:t>dominant musse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s in sedi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 variation with tidal cycles</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assostrea virginica</a:t>
            </a:r>
            <a:r>
              <a:rPr b="0" lang="en-US" sz="2800" spc="-1" strike="noStrike">
                <a:solidFill>
                  <a:srgbClr val="ffffff"/>
                </a:solidFill>
                <a:latin typeface="Arial"/>
              </a:rPr>
              <a:t> – oyst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beds in well-flushed tidal channels</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ttorina irrorata</a:t>
            </a:r>
            <a:r>
              <a:rPr b="0" lang="en-US" sz="2800" spc="-1" strike="noStrike">
                <a:solidFill>
                  <a:srgbClr val="ffffff"/>
                </a:solidFill>
                <a:latin typeface="Arial"/>
              </a:rPr>
              <a:t> – salt marsh snails; pulmonat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ais haemostoma</a:t>
            </a:r>
            <a:r>
              <a:rPr b="0" lang="en-US" sz="2800" spc="-1" strike="noStrike">
                <a:solidFill>
                  <a:srgbClr val="ffffff"/>
                </a:solidFill>
                <a:latin typeface="Arial"/>
              </a:rPr>
              <a:t> – oyster drill</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ca pugnax</a:t>
            </a:r>
            <a:r>
              <a:rPr b="0" lang="en-US" sz="2800" spc="-1" strike="noStrike">
                <a:solidFill>
                  <a:srgbClr val="ffffff"/>
                </a:solidFill>
                <a:latin typeface="Arial"/>
              </a:rPr>
              <a:t>, other </a:t>
            </a:r>
            <a:r>
              <a:rPr b="0" i="1" lang="en-US" sz="2800" spc="-1" strike="noStrike">
                <a:solidFill>
                  <a:srgbClr val="ffffff"/>
                </a:solidFill>
                <a:latin typeface="Arial"/>
              </a:rPr>
              <a:t>Uca</a:t>
            </a:r>
            <a:r>
              <a:rPr b="0" lang="en-US" sz="2800" spc="-1" strike="noStrike">
                <a:solidFill>
                  <a:srgbClr val="ffffff"/>
                </a:solidFill>
                <a:latin typeface="Arial"/>
              </a:rPr>
              <a:t> spp. – fiddler crab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sarma cinereum</a:t>
            </a:r>
            <a:r>
              <a:rPr b="0" lang="en-US" sz="2800" spc="-1" strike="noStrike">
                <a:solidFill>
                  <a:srgbClr val="ffffff"/>
                </a:solidFill>
                <a:latin typeface="Arial"/>
              </a:rPr>
              <a:t> - marsh crabs</a:t>
            </a:r>
            <a:endParaRPr b="0" lang="en-US" sz="2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examples are particularly for south Louisiana and coastal Georgia; other species will occur elsewhere, filling slightly modified niches depending upon range, region, and local condition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8T10:50:54Z</dcterms:created>
  <dc:creator>Ouida W Meier</dc:creator>
  <dc:description/>
  <dc:language>en-US</dc:language>
  <cp:lastModifiedBy>RomaK</cp:lastModifiedBy>
  <dcterms:modified xsi:type="dcterms:W3CDTF">2015-09-04T09:43:59Z</dcterms:modified>
  <cp:revision>19</cp:revision>
  <dc:subject/>
  <dc:title>Coastal Ecosystems:  Salt Marshes and Mangroves</dc:title>
</cp:coreProperties>
</file>