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0065-6CB9-4D37-A980-31C63A3F7B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astal Ecosystems: </a:t>
            </a:r>
            <a:br>
              <a:rPr sz="1200"/>
            </a:br>
            <a:r>
              <a:rPr b="0" lang="en-GB" sz="1200" spc="-1" strike="noStrike">
                <a:solidFill>
                  <a:srgbClr val="ffffff"/>
                </a:solidFill>
                <a:latin typeface="Times New Roman"/>
              </a:rPr>
              <a:t>Salt Marshes and Mangrov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rine Bi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Ouida Mei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astal Ecosystems: </a:t>
            </a:r>
            <a:br>
              <a:rPr sz="1200"/>
            </a:br>
            <a:r>
              <a:rPr b="0" lang="en-GB" sz="1200" spc="-1" strike="noStrike">
                <a:solidFill>
                  <a:srgbClr val="000000"/>
                </a:solidFill>
                <a:latin typeface="Times New Roman"/>
              </a:rPr>
              <a:t>Salt Marshes and Mangr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ine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Ouida Me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herbivore in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erbivore in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ly produc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ery stressfu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p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bilize and extend coastlines, especially those with fluvial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od webs detritus-based; herbivory may be more important than previously thought; “trophic relays” convey biomass to adjacent ecosyste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diversity, high produc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tr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e and extend coastlines, especially those with fluvi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webs detritus-based; herbivory may be more important than previously thought; “trophic relays” convey biomass to adjacent eco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diversity, high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Salt Marsh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lacoast.gov/news/press/1997-10-27.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tulane.edu/~bfleury/envirobio/saltmarsh.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bonitanews.com/03/10/naples/e1631a.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Salt Mar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acoast.gov/news/press/1997-10-27.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ulane.edu/~bfleury/envirobio/saltmars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nitanews.com/03/10/naples/e1631a.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of salt marsh decline in south Louisiana, http://www.brownmarsh.n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alt marsh decline in south Louisiana, http://www.brownmars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 Florida): subtropical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limited seasonality (moving toward rainy/dry seas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important – can be sheetlike (Everglades) rather than distinctly riverine; alluvial sediment input. High tannins from leaf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and pea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more inundated than salt marshes;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 Florida): subtropical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limited seasonality (moving toward rainy/dry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important – can be sheetlike (Everglades) rather than distinctly riverine; alluvial sediment input. High tannins from leaf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and pea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more inundated than salt marshes;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mangroves, low tide, south Florid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mangroves, low tide, south Flo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hizophora mangle – red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extrudes sal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vicennia germinans – black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neumatophores; extends to coastal Louisiana where it, unusually, coexists w/ Sparti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guncularia racemosa – white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have viviparous propagu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uch higher diversity in the Indo-Pacif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hora mangle – red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extrudes 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icennia germinans – black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eumatophores; extends to coastal Louisiana where it, unusually, coexists w/ Spar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guncularia racemosa – white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ave viviparous propag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higher diversity in the Indo-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nation and Distribution of mangroves is affected by flooding, salinity, temperature fluctuations (air/soil/water), and soi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ation and Distribution of mangroves is affected by flooding, salinity, temperature fluctuations (air/soil/water), and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of red mangroves provide substrate for benthic organisms (algae, sponges, hydroids, tunicates, bryozo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s provide critical protected nursery areas for fishes, crustaceans, and shellfish.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mangrove branches serve as rookeries for many coastal species of bir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rganisms reared in mangrove swamps become food for fish (snook, snapper, tarpon, jack, sheepshead, red drum) oysters, and shrim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of red mangroves provide substrate for benthic organisms (algae, sponges, hydroids, tunicates, bryoz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s provide critical protected nursery areas for fishes, crustaceans, and shell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mangrove branches serve as rookeries for many coastal species of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sms reared in mangrove swamps become food for fish (snook, snapper, tarpon, jack, sheepshead, red drum) oysters, and shrim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t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ght,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mplitu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quenc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gree of riverine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lluvial sediments and deposi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urbid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plit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ree of riverin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uvial sediments and de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bi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Mangrove Swamp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acres of mangroves in south Florida have been lost to development and to anthropogenic changes in hydr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omitant declines in offshore fisheries can be expected and have been se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Mangrove Sw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res of mangroves in south Florida have been lost to development and to anthropogenic changes in hydr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omitant declines in offshore fisheries can be expected and have been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 in Mexic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 in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ock</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earshore curr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proximit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utrient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thropogenic impac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arshor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proxim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ent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thropogen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cap: Rocky Intertid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Pacific Northwest): high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ld Pacific waters, strong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high amplitude, semi-diurn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hig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 riverine characteristics modified by bay / estua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rocky cliffs, interspersed w/sandy beac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strong nearshore currents &amp; 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input via interaction with terrestrial 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Rocky Intert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Pacific Northwest): high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d Pacific waters, strong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high amplitude, semi-di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 riverine characteristics modified by bay / est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rocky cliffs, interspersed w/sandy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strong nearshore currents &amp;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input via interaction with terrestri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Marsh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eastern U.S.: Gulf and Atlantic coasts): moderate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moderated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sedimen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Marsh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eastern U.S.: Gulf and Atlantic coasts): moderate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moderated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sedimen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and tidal channels in coastal Georgi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and tidal channels in coastal Geor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partina alterniflora – marsh cordgra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ight depends on riverine or tidal flush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port of dried mats during winter st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clude salt from roo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icornia – a succul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p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er water  and soils / higher ground: other grasses (Spartina patens), rushes (Juncus romerianus), sedg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artina alterniflora – marsh cord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ight depends on riverine or tidal flu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rt of dried mats during winter st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de salt from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icornia – a succ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p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er water  and soils / higher ground: other grasses (Spartina patens), rushes (Juncus romerianus), s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replanted after a break in an oil pipelin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replanted after a break in an oil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ukensia demissa – dominant musse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ves in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ysiological variation with tidal cyc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rassostrea virginica – oys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beds in well-flushed tidal channe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ttorina irrorata – salt marsh snails; pulmon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ais haemostoma – oyster dri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Uca pugnax, other Uca spp. – fiddler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sarma cinereum - marsh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ukensia demissa – dominant mus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s in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ological variation with tid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ssostrea virginica – oy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beds in well-flushed tid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orina irrorata – salt marsh snails; pulmo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is haemostoma – oyster dr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ca pugnax, other Uca spp. – fiddler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arma cinereum - marsh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438C0-818E-44CA-8222-570D6840F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CAF4-8814-4BFA-A113-D9078427D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84828-BBAD-4620-BB7A-82FBCDC3F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08072-2D91-4B01-B3EF-C0314F1AA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E6357-480A-43B6-9A26-801CC9296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C40C8-AA77-40F3-9329-AA55AB803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6DB93-3B01-4F0F-80FF-9507A7910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5FCA3-F821-415E-865C-4583D6BB5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AB61C-DD33-4A99-B5AE-D43A69696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6E6AC-F674-455D-A2C9-E4EA0C8A8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DCD6D-7AF6-4405-AA87-44A20CE5A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BC877-0D0D-461F-B194-8C7415461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C4114-6DDD-4C69-A1F7-C1159E1B6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55BE0-33A2-4B0D-BD80-EAA2D0E29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18BB7-009F-4852-A055-1E9B5DD66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57DCE-1417-44AF-B1FE-B7C2DFB65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8D0BF-E262-4868-855B-7C0E3ED5D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85AFB-CFCB-40D0-B49A-48A547FF5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2C5DE-272D-4237-8CF7-F2EAA0588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6EE8F-1CB7-45DF-9C3F-F5E091A20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C8B07-844B-48A5-B7A5-35C4B1301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81D9-3B60-4D1C-98EC-3047FC8EA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55928-021F-4D65-A24E-35C191950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E002-7F85-4A31-B331-E79CBD3BD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CF5A-EBA0-417D-B3C7-AEF0DF8B62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EC6A-F11F-4E9D-A5D4-FA3D88E94D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www.lacoast.gov/news/press/1997-10-27.htm" TargetMode="External"/><Relationship Id="rId5" Type="http://schemas.openxmlformats.org/officeDocument/2006/relationships/image" Target="../media/image4.png"/><Relationship Id="rId6" Type="http://schemas.openxmlformats.org/officeDocument/2006/relationships/hyperlink" Target="http://www.tulane.edu/~bfleury/envirobio/saltmarsh.html" TargetMode="External"/><Relationship Id="rId7" Type="http://schemas.openxmlformats.org/officeDocument/2006/relationships/image" Target="../media/image4.png"/><Relationship Id="rId8" Type="http://schemas.openxmlformats.org/officeDocument/2006/relationships/hyperlink" Target="http://www.bonitanews.com/03/10/naples/e1631a.htm" TargetMode="External"/><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2080"/>
            <a:ext cx="8229600" cy="14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astal Ecosystems: </a:t>
            </a:r>
            <a:br>
              <a:rPr sz="4800"/>
            </a:br>
            <a:r>
              <a:rPr b="0" lang="en-US" sz="4800" spc="-1" strike="noStrike">
                <a:solidFill>
                  <a:srgbClr val="ffffff"/>
                </a:solidFill>
                <a:latin typeface="Arial"/>
              </a:rPr>
              <a:t>Salt Marshes and Mangroves</a:t>
            </a:r>
            <a:endParaRPr b="0" lang="en-US" sz="4800" spc="-1" strike="noStrike">
              <a:solidFill>
                <a:srgbClr val="ffffff"/>
              </a:solidFill>
              <a:latin typeface="Arial"/>
            </a:endParaRPr>
          </a:p>
        </p:txBody>
      </p:sp>
      <p:sp>
        <p:nvSpPr>
          <p:cNvPr id="170" name="PlaceHolder 2"/>
          <p:cNvSpPr>
            <a:spLocks noGrp="1"/>
          </p:cNvSpPr>
          <p:nvPr>
            <p:ph type="subTitle"/>
          </p:nvPr>
        </p:nvSpPr>
        <p:spPr>
          <a:xfrm>
            <a:off x="457200" y="5181120"/>
            <a:ext cx="4648320" cy="121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 Biolog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Ouida Me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8" name="Picture 3" descr="image004"/>
          <p:cNvPicPr/>
          <p:nvPr/>
        </p:nvPicPr>
        <p:blipFill>
          <a:blip r:embed="rId1"/>
          <a:stretch/>
        </p:blipFill>
        <p:spPr>
          <a:xfrm>
            <a:off x="0" y="-533520"/>
            <a:ext cx="9144000" cy="6739200"/>
          </a:xfrm>
          <a:prstGeom prst="rect">
            <a:avLst/>
          </a:prstGeom>
          <a:ln w="0">
            <a:noFill/>
          </a:ln>
        </p:spPr>
      </p:pic>
      <p:sp>
        <p:nvSpPr>
          <p:cNvPr id="189" name="Text Box 4"/>
          <p:cNvSpPr/>
          <p:nvPr/>
        </p:nvSpPr>
        <p:spPr>
          <a:xfrm>
            <a:off x="152280" y="6324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herbivore in the salt marsh commu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Communit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productiv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tressful</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sedimen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 and extend coastlines, especially those with fluvial inpu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webs detritus-based; herbivory may be more important than previously thought; “trophic relays” convey biomass to adjacent ecosystem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diversity, high produ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lands Loss: Salt Marshes</a:t>
            </a:r>
            <a:endParaRPr b="0" lang="en-US" sz="4400" spc="-1" strike="noStrike">
              <a:solidFill>
                <a:srgbClr val="ffffff"/>
              </a:solidFill>
              <a:latin typeface="Arial"/>
            </a:endParaRPr>
          </a:p>
        </p:txBody>
      </p:sp>
      <p:sp>
        <p:nvSpPr>
          <p:cNvPr id="193" name="PlaceHolder 2"/>
          <p:cNvSpPr>
            <a:spLocks noGrp="1"/>
          </p:cNvSpPr>
          <p:nvPr>
            <p:ph/>
          </p:nvPr>
        </p:nvSpPr>
        <p:spPr>
          <a:xfrm>
            <a:off x="380520" y="1371240"/>
            <a:ext cx="8458200" cy="52578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l erosion and wetland loss due to channelization and levees along the Mississippi, dams on its tributaries, land settling from groundwater pumping and use, and channels cut through the marsh for offshore drilling platfor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4"/>
              </a:rPr>
              <a:t>http://www.lacoast.gov/news/press/1997-10-27.htm</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6"/>
              </a:rPr>
              <a:t>http://www.tulane.edu/~bfleury/envirobio/saltmarsh.html</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8"/>
              </a:rPr>
              <a:t>http://www.bonitanews.com/03/10/naples/e1631a.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Picture 5" descr="00-02-066%20salt%20marsh%20dieback%20die-off(updated)"/>
          <p:cNvPicPr/>
          <p:nvPr/>
        </p:nvPicPr>
        <p:blipFill>
          <a:blip r:embed="rId1"/>
          <a:stretch/>
        </p:blipFill>
        <p:spPr>
          <a:xfrm>
            <a:off x="0" y="0"/>
            <a:ext cx="9220320" cy="6229440"/>
          </a:xfrm>
          <a:prstGeom prst="rect">
            <a:avLst/>
          </a:prstGeom>
          <a:ln w="0">
            <a:noFill/>
          </a:ln>
        </p:spPr>
      </p:pic>
      <p:sp>
        <p:nvSpPr>
          <p:cNvPr id="195" name="Text Box 6"/>
          <p:cNvSpPr/>
          <p:nvPr/>
        </p:nvSpPr>
        <p:spPr>
          <a:xfrm>
            <a:off x="0" y="63849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salt marsh decline in south Louisiana, http://www.brownmarsh.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grove Ecosystems</a:t>
            </a:r>
            <a:endParaRPr b="0" lang="en-US" sz="4400" spc="-1" strike="noStrike">
              <a:solidFill>
                <a:srgbClr val="ffffff"/>
              </a:solidFill>
              <a:latin typeface="Arial"/>
            </a:endParaRPr>
          </a:p>
        </p:txBody>
      </p:sp>
      <p:sp>
        <p:nvSpPr>
          <p:cNvPr id="19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south Florida): subtropical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limited seasonality (moving toward rainy/dry seasons)</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important – can be sheetlike (Everglades) rather than distinctly riverine; alluvial sediment input. High tannins from leaf input.</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and pea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more inundated than salt marshes;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8" name="Picture 5" descr="red_mangrove"/>
          <p:cNvPicPr/>
          <p:nvPr/>
        </p:nvPicPr>
        <p:blipFill>
          <a:blip r:embed="rId1"/>
          <a:stretch/>
        </p:blipFill>
        <p:spPr>
          <a:xfrm>
            <a:off x="-76320" y="76320"/>
            <a:ext cx="9144000" cy="5667120"/>
          </a:xfrm>
          <a:prstGeom prst="rect">
            <a:avLst/>
          </a:prstGeom>
          <a:ln w="0">
            <a:noFill/>
          </a:ln>
        </p:spPr>
      </p:pic>
      <p:sp>
        <p:nvSpPr>
          <p:cNvPr id="199" name="Text Box 6"/>
          <p:cNvSpPr/>
          <p:nvPr/>
        </p:nvSpPr>
        <p:spPr>
          <a:xfrm>
            <a:off x="228600" y="6019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mangroves, low tide, south Flor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Mangrove Community</a:t>
            </a:r>
            <a:endParaRPr b="0" lang="en-US" sz="4000" spc="-1" strike="noStrike">
              <a:solidFill>
                <a:srgbClr val="ffffff"/>
              </a:solidFill>
              <a:latin typeface="Arial"/>
            </a:endParaRPr>
          </a:p>
        </p:txBody>
      </p:sp>
      <p:sp>
        <p:nvSpPr>
          <p:cNvPr id="201" name="PlaceHolder 2"/>
          <p:cNvSpPr>
            <a:spLocks noGrp="1"/>
          </p:cNvSpPr>
          <p:nvPr>
            <p:ph/>
          </p:nvPr>
        </p:nvSpPr>
        <p:spPr>
          <a:xfrm>
            <a:off x="456840" y="1599840"/>
            <a:ext cx="853452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hizophora mangle</a:t>
            </a:r>
            <a:r>
              <a:rPr b="0" lang="en-US" sz="3200" spc="-1" strike="noStrike">
                <a:solidFill>
                  <a:srgbClr val="ffffff"/>
                </a:solidFill>
                <a:latin typeface="Arial"/>
              </a:rPr>
              <a:t> – red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extrudes salt</a:t>
            </a:r>
            <a:endParaRPr b="0" lang="en-US" sz="28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vicennia germinans</a:t>
            </a:r>
            <a:r>
              <a:rPr b="0" lang="en-US" sz="3200" spc="-1" strike="noStrike">
                <a:solidFill>
                  <a:srgbClr val="ffffff"/>
                </a:solidFill>
                <a:latin typeface="Arial"/>
              </a:rPr>
              <a:t> – black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neumatophores; extends to coastal Louisiana where it, unusually, coexists w/ </a:t>
            </a:r>
            <a:r>
              <a:rPr b="0" i="1" lang="en-US" sz="2800" spc="-1" strike="noStrike">
                <a:solidFill>
                  <a:srgbClr val="ffffff"/>
                </a:solidFill>
                <a:latin typeface="Arial"/>
              </a:rPr>
              <a:t>Spartina</a:t>
            </a:r>
            <a:endParaRPr b="0" lang="en-US" sz="28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aguncularia racemosa</a:t>
            </a:r>
            <a:r>
              <a:rPr b="0" lang="en-US" sz="3200" spc="-1" strike="noStrike">
                <a:solidFill>
                  <a:srgbClr val="ffffff"/>
                </a:solidFill>
                <a:latin typeface="Arial"/>
              </a:rPr>
              <a:t> – white mangrov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ave viviparous propagule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higher diversity in the Indo-Pacif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Picture_of_a_Mangrove_1"/>
          <p:cNvPicPr/>
          <p:nvPr/>
        </p:nvPicPr>
        <p:blipFill>
          <a:blip r:embed="rId1"/>
          <a:stretch/>
        </p:blipFill>
        <p:spPr>
          <a:xfrm>
            <a:off x="6172200" y="3191040"/>
            <a:ext cx="2790720" cy="3362040"/>
          </a:xfrm>
          <a:prstGeom prst="rect">
            <a:avLst/>
          </a:prstGeom>
          <a:ln w="0">
            <a:noFill/>
          </a:ln>
        </p:spPr>
      </p:pic>
      <p:pic>
        <p:nvPicPr>
          <p:cNvPr id="203" name="Picture 7" descr="Picture_2"/>
          <p:cNvPicPr/>
          <p:nvPr/>
        </p:nvPicPr>
        <p:blipFill>
          <a:blip r:embed="rId2"/>
          <a:stretch/>
        </p:blipFill>
        <p:spPr>
          <a:xfrm>
            <a:off x="3176640" y="2343240"/>
            <a:ext cx="2790720" cy="2914560"/>
          </a:xfrm>
          <a:prstGeom prst="rect">
            <a:avLst/>
          </a:prstGeom>
          <a:ln w="0">
            <a:noFill/>
          </a:ln>
        </p:spPr>
      </p:pic>
      <p:pic>
        <p:nvPicPr>
          <p:cNvPr id="204" name="Picture 9" descr="Picture_3"/>
          <p:cNvPicPr/>
          <p:nvPr/>
        </p:nvPicPr>
        <p:blipFill>
          <a:blip r:embed="rId3"/>
          <a:stretch/>
        </p:blipFill>
        <p:spPr>
          <a:xfrm>
            <a:off x="228600" y="1276200"/>
            <a:ext cx="2790720" cy="2762280"/>
          </a:xfrm>
          <a:prstGeom prst="rect">
            <a:avLst/>
          </a:prstGeom>
          <a:ln w="0">
            <a:noFill/>
          </a:ln>
        </p:spPr>
      </p:pic>
      <p:sp>
        <p:nvSpPr>
          <p:cNvPr id="205" name="Text Box 10"/>
          <p:cNvSpPr/>
          <p:nvPr/>
        </p:nvSpPr>
        <p:spPr>
          <a:xfrm>
            <a:off x="304920" y="228600"/>
            <a:ext cx="8762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tion and Distribution of mangroves is affected by flooding, salinity, temperature fluctuations (air/soil/water), and s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1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Mangrove Community</a:t>
            </a:r>
            <a:endParaRPr b="0" lang="en-US" sz="4000" spc="-1" strike="noStrike">
              <a:solidFill>
                <a:srgbClr val="ffffff"/>
              </a:solidFill>
              <a:latin typeface="Arial"/>
            </a:endParaRPr>
          </a:p>
        </p:txBody>
      </p:sp>
      <p:sp>
        <p:nvSpPr>
          <p:cNvPr id="207" name="PlaceHolder 2"/>
          <p:cNvSpPr>
            <a:spLocks noGrp="1"/>
          </p:cNvSpPr>
          <p:nvPr>
            <p:ph/>
          </p:nvPr>
        </p:nvSpPr>
        <p:spPr>
          <a:xfrm>
            <a:off x="456840" y="1793880"/>
            <a:ext cx="8458200" cy="48355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of red mangroves provide substrate for benthic organisms (algae, sponges, hydroids, tunicates, bryozoa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grove swamps provide critical protected nursery areas for fishes, crustaceans, and shellfish.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mangrove branches serve as rookeries for many coastal species of bird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reared in mangrove swamps become food for fish (snook, snapper, tarpon, jack, sheepshead, red drum) oysters, and shrim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8" name="Picture 5" descr="mangrove%20oysters,%20BVI%20(M"/>
          <p:cNvPicPr/>
          <p:nvPr/>
        </p:nvPicPr>
        <p:blipFill>
          <a:blip r:embed="rId1"/>
          <a:stretch/>
        </p:blipFill>
        <p:spPr>
          <a:xfrm>
            <a:off x="0" y="0"/>
            <a:ext cx="9144000" cy="6585120"/>
          </a:xfrm>
          <a:prstGeom prst="rect">
            <a:avLst/>
          </a:prstGeom>
          <a:ln w="0">
            <a:noFill/>
          </a:ln>
        </p:spPr>
      </p:pic>
      <p:sp>
        <p:nvSpPr>
          <p:cNvPr id="209" name="Text Box 6"/>
          <p:cNvSpPr/>
          <p:nvPr/>
        </p:nvSpPr>
        <p:spPr>
          <a:xfrm>
            <a:off x="228600" y="6477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 root commun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2"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tud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asonality</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cycle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energ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riverine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shwater inpu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uvial sediments and deposi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tlands Loss: Mangrove Swamps</a:t>
            </a:r>
            <a:endParaRPr b="0" lang="en-US" sz="4000" spc="-1" strike="noStrike">
              <a:solidFill>
                <a:srgbClr val="ffffff"/>
              </a:solidFill>
              <a:latin typeface="Arial"/>
            </a:endParaRPr>
          </a:p>
        </p:txBody>
      </p:sp>
      <p:sp>
        <p:nvSpPr>
          <p:cNvPr id="211" name="PlaceHolder 2"/>
          <p:cNvSpPr>
            <a:spLocks noGrp="1"/>
          </p:cNvSpPr>
          <p:nvPr>
            <p:ph/>
          </p:nvPr>
        </p:nvSpPr>
        <p:spPr>
          <a:xfrm>
            <a:off x="457200" y="1870200"/>
            <a:ext cx="8229600" cy="4835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cres of mangroves in south Florida have been lost to development and to anthropogenic changes in hydrolog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ly, many areas of mangroves are being cut for wood or converted to aquaculture or mariculture ponds (</a:t>
            </a:r>
            <a:r>
              <a:rPr b="0" i="1" lang="en-US" sz="3200" spc="-1" strike="noStrike">
                <a:solidFill>
                  <a:srgbClr val="ffffff"/>
                </a:solidFill>
                <a:latin typeface="Arial"/>
              </a:rPr>
              <a:t>e.g</a:t>
            </a:r>
            <a:r>
              <a:rPr b="0" lang="en-US" sz="3200" spc="-1" strike="noStrike">
                <a:solidFill>
                  <a:srgbClr val="ffffff"/>
                </a:solidFill>
                <a:latin typeface="Arial"/>
              </a:rPr>
              <a:t>., fish, shrimp, prawns for seafood restaurant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mitant declines in offshore fisheries can be expected and have been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2" name="Picture 3" descr="mangrove-swamp"/>
          <p:cNvPicPr/>
          <p:nvPr/>
        </p:nvPicPr>
        <p:blipFill>
          <a:blip r:embed="rId1"/>
          <a:stretch/>
        </p:blipFill>
        <p:spPr>
          <a:xfrm>
            <a:off x="0" y="0"/>
            <a:ext cx="9144000" cy="5989680"/>
          </a:xfrm>
          <a:prstGeom prst="rect">
            <a:avLst/>
          </a:prstGeom>
          <a:ln w="0">
            <a:noFill/>
          </a:ln>
        </p:spPr>
      </p:pic>
      <p:sp>
        <p:nvSpPr>
          <p:cNvPr id="213" name="Text Box 4"/>
          <p:cNvSpPr/>
          <p:nvPr/>
        </p:nvSpPr>
        <p:spPr>
          <a:xfrm>
            <a:off x="304920" y="62485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grove swamp in Mex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4" name="PlaceHolder 2"/>
          <p:cNvSpPr>
            <a:spLocks noGrp="1"/>
          </p:cNvSpPr>
          <p:nvPr>
            <p:ph/>
          </p:nvPr>
        </p:nvSpPr>
        <p:spPr>
          <a:xfrm>
            <a:off x="685800" y="1676160"/>
            <a:ext cx="7772400" cy="4119480"/>
          </a:xfrm>
          <a:prstGeom prst="rect">
            <a:avLst/>
          </a:prstGeom>
          <a:noFill/>
          <a:ln w="0">
            <a:noFill/>
          </a:ln>
        </p:spPr>
        <p:txBody>
          <a:bodyPr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endParaRPr b="0" lang="en-US" sz="24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shore currents</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a:t>
            </a:r>
            <a:endParaRPr b="0" lang="en-US" sz="24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ental proximity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 inpu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ropogenic impacts</a:t>
            </a:r>
            <a:endParaRPr b="0" lang="en-US" sz="2400" spc="-1" strike="noStrike">
              <a:solidFill>
                <a:srgbClr val="ffffff"/>
              </a:solidFill>
              <a:latin typeface="Arial"/>
            </a:endParaRPr>
          </a:p>
        </p:txBody>
      </p:sp>
      <p:sp>
        <p:nvSpPr>
          <p:cNvPr id="175" name="Text Box 4"/>
          <p:cNvSpPr/>
          <p:nvPr/>
        </p:nvSpPr>
        <p:spPr>
          <a:xfrm>
            <a:off x="7543800" y="1371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Rocky Intertidal</a:t>
            </a:r>
            <a:endParaRPr b="0" lang="en-US" sz="4400" spc="-1" strike="noStrike">
              <a:solidFill>
                <a:srgbClr val="ffffff"/>
              </a:solidFill>
              <a:latin typeface="Arial"/>
            </a:endParaRPr>
          </a:p>
        </p:txBody>
      </p:sp>
      <p:sp>
        <p:nvSpPr>
          <p:cNvPr id="177"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Pacific Northwest): high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Pacific waters, strong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high amplitude, semi-diurnal</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high</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 riverine characteristics modified by bay / estuary</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rocky cliffs, interspersed w/sandy beach</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strong nearshore currents &amp; transpor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input via interaction with terrestrial system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Ecosystems</a:t>
            </a:r>
            <a:endParaRPr b="0" lang="en-US" sz="4400" spc="-1" strike="noStrike">
              <a:solidFill>
                <a:srgbClr val="ffffff"/>
              </a:solidFill>
              <a:latin typeface="Arial"/>
            </a:endParaRPr>
          </a:p>
        </p:txBody>
      </p:sp>
      <p:sp>
        <p:nvSpPr>
          <p:cNvPr id="17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343080">
              <a:lnSpc>
                <a:spcPct val="90000"/>
              </a:lnSpc>
              <a:spcBef>
                <a:spcPts val="6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xample (southeastern U.S.: Gulf and Atlantic </a:t>
            </a:r>
            <a:r>
              <a:rPr b="0" lang="en-US" sz="2600" spc="-1" strike="noStrike">
                <a:solidFill>
                  <a:srgbClr val="ffffff"/>
                </a:solidFill>
                <a:latin typeface="Arial"/>
              </a:rPr>
              <a:t>coasts): moderate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moderated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often critical – deltaic riverine input can result in extensive marsh systems, abundant alluvial sediment input. Salt accumulation a challenge.</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sedimen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0" name="Picture 3" descr="Aerial view of Georgia salt marsh."/>
          <p:cNvPicPr/>
          <p:nvPr/>
        </p:nvPicPr>
        <p:blipFill>
          <a:blip r:embed="rId1"/>
          <a:stretch/>
        </p:blipFill>
        <p:spPr>
          <a:xfrm>
            <a:off x="0" y="0"/>
            <a:ext cx="9144000" cy="5194440"/>
          </a:xfrm>
          <a:prstGeom prst="rect">
            <a:avLst/>
          </a:prstGeom>
          <a:ln w="0">
            <a:noFill/>
          </a:ln>
        </p:spPr>
      </p:pic>
      <p:sp>
        <p:nvSpPr>
          <p:cNvPr id="181" name="Text Box 4"/>
          <p:cNvSpPr/>
          <p:nvPr/>
        </p:nvSpPr>
        <p:spPr>
          <a:xfrm>
            <a:off x="228600" y="6095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and tidal channels in coastal Georg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Salt Marsh Community</a:t>
            </a:r>
            <a:endParaRPr b="0" lang="en-US" sz="4000" spc="-1" strike="noStrike">
              <a:solidFill>
                <a:srgbClr val="ffffff"/>
              </a:solidFill>
              <a:latin typeface="Arial"/>
            </a:endParaRPr>
          </a:p>
        </p:txBody>
      </p:sp>
      <p:sp>
        <p:nvSpPr>
          <p:cNvPr id="183"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artina alterniflora</a:t>
            </a:r>
            <a:r>
              <a:rPr b="0" lang="en-US" sz="2800" spc="-1" strike="noStrike">
                <a:solidFill>
                  <a:srgbClr val="ffffff"/>
                </a:solidFill>
                <a:latin typeface="Arial"/>
              </a:rPr>
              <a:t> – marsh cordgras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depends on riverine or tidal flush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of dried mats during winter storm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salt from roots</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icornia – </a:t>
            </a:r>
            <a:r>
              <a:rPr b="0" lang="en-US" sz="2800" spc="-1" strike="noStrike">
                <a:solidFill>
                  <a:srgbClr val="ffffff"/>
                </a:solidFill>
                <a:latin typeface="Arial"/>
              </a:rPr>
              <a:t>a succul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pans</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er water  and soils / higher ground: other grasses (</a:t>
            </a:r>
            <a:r>
              <a:rPr b="0" i="1" lang="en-US" sz="2800" spc="-1" strike="noStrike">
                <a:solidFill>
                  <a:srgbClr val="ffffff"/>
                </a:solidFill>
                <a:latin typeface="Arial"/>
              </a:rPr>
              <a:t>Spartina patens</a:t>
            </a:r>
            <a:r>
              <a:rPr b="0" lang="en-US" sz="2800" spc="-1" strike="noStrike">
                <a:solidFill>
                  <a:srgbClr val="ffffff"/>
                </a:solidFill>
                <a:latin typeface="Arial"/>
              </a:rPr>
              <a:t>), rushes (</a:t>
            </a:r>
            <a:r>
              <a:rPr b="0" i="1" lang="en-US" sz="2800" spc="-1" strike="noStrike">
                <a:solidFill>
                  <a:srgbClr val="ffffff"/>
                </a:solidFill>
                <a:latin typeface="Arial"/>
              </a:rPr>
              <a:t>Juncus romerianus</a:t>
            </a:r>
            <a:r>
              <a:rPr b="0" lang="en-US" sz="2800" spc="-1" strike="noStrike">
                <a:solidFill>
                  <a:srgbClr val="ffffff"/>
                </a:solidFill>
                <a:latin typeface="Arial"/>
              </a:rPr>
              <a:t>), sedge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ation based on topography, inundation of freshwater, fresh/salt fluctuation, tidal flushing, relative stresses, anoxia of soils, latitudinal gradient (</a:t>
            </a:r>
            <a:r>
              <a:rPr b="0" i="1" lang="en-US" sz="2800" spc="-1" strike="noStrike">
                <a:solidFill>
                  <a:srgbClr val="ffffff"/>
                </a:solidFill>
                <a:latin typeface="Arial"/>
              </a:rPr>
              <a:t>e.g</a:t>
            </a:r>
            <a:r>
              <a:rPr b="0" lang="en-US" sz="2800" spc="-1" strike="noStrike">
                <a:solidFill>
                  <a:srgbClr val="ffffff"/>
                </a:solidFill>
                <a:latin typeface="Arial"/>
              </a:rPr>
              <a:t>., east coast 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4" name="Picture 3" descr="lbplant2"/>
          <p:cNvPicPr/>
          <p:nvPr/>
        </p:nvPicPr>
        <p:blipFill>
          <a:blip r:embed="rId1"/>
          <a:stretch/>
        </p:blipFill>
        <p:spPr>
          <a:xfrm>
            <a:off x="0" y="0"/>
            <a:ext cx="9144000" cy="5522760"/>
          </a:xfrm>
          <a:prstGeom prst="rect">
            <a:avLst/>
          </a:prstGeom>
          <a:ln w="0">
            <a:noFill/>
          </a:ln>
        </p:spPr>
      </p:pic>
      <p:sp>
        <p:nvSpPr>
          <p:cNvPr id="185" name="Text Box 4"/>
          <p:cNvSpPr/>
          <p:nvPr/>
        </p:nvSpPr>
        <p:spPr>
          <a:xfrm>
            <a:off x="152280" y="62326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replanted after a break in an oil pipe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Salt Marsh Community</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eukensia demissa – </a:t>
            </a:r>
            <a:r>
              <a:rPr b="0" lang="en-US" sz="2800" spc="-1" strike="noStrike">
                <a:solidFill>
                  <a:srgbClr val="ffffff"/>
                </a:solidFill>
                <a:latin typeface="Arial"/>
              </a:rPr>
              <a:t>dominant muss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s in sedi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 variation with tidal cycles</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assostrea virginica</a:t>
            </a:r>
            <a:r>
              <a:rPr b="0" lang="en-US" sz="2800" spc="-1" strike="noStrike">
                <a:solidFill>
                  <a:srgbClr val="ffffff"/>
                </a:solidFill>
                <a:latin typeface="Arial"/>
              </a:rPr>
              <a:t> – oyst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beds in well-flushed tidal channels</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ttorina irrorata</a:t>
            </a:r>
            <a:r>
              <a:rPr b="0" lang="en-US" sz="2800" spc="-1" strike="noStrike">
                <a:solidFill>
                  <a:srgbClr val="ffffff"/>
                </a:solidFill>
                <a:latin typeface="Arial"/>
              </a:rPr>
              <a:t> – salt marsh snails; pulmonat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ais haemostoma</a:t>
            </a:r>
            <a:r>
              <a:rPr b="0" lang="en-US" sz="2800" spc="-1" strike="noStrike">
                <a:solidFill>
                  <a:srgbClr val="ffffff"/>
                </a:solidFill>
                <a:latin typeface="Arial"/>
              </a:rPr>
              <a:t> – oyster drill</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ca pugnax</a:t>
            </a:r>
            <a:r>
              <a:rPr b="0" lang="en-US" sz="2800" spc="-1" strike="noStrike">
                <a:solidFill>
                  <a:srgbClr val="ffffff"/>
                </a:solidFill>
                <a:latin typeface="Arial"/>
              </a:rPr>
              <a:t>, other </a:t>
            </a:r>
            <a:r>
              <a:rPr b="0" i="1" lang="en-US" sz="2800" spc="-1" strike="noStrike">
                <a:solidFill>
                  <a:srgbClr val="ffffff"/>
                </a:solidFill>
                <a:latin typeface="Arial"/>
              </a:rPr>
              <a:t>Uca</a:t>
            </a:r>
            <a:r>
              <a:rPr b="0" lang="en-US" sz="2800" spc="-1" strike="noStrike">
                <a:solidFill>
                  <a:srgbClr val="ffffff"/>
                </a:solidFill>
                <a:latin typeface="Arial"/>
              </a:rPr>
              <a:t> spp. – fiddler crab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sarma cinereum</a:t>
            </a:r>
            <a:r>
              <a:rPr b="0" lang="en-US" sz="2800" spc="-1" strike="noStrike">
                <a:solidFill>
                  <a:srgbClr val="ffffff"/>
                </a:solidFill>
                <a:latin typeface="Arial"/>
              </a:rPr>
              <a:t> - marsh crabs</a:t>
            </a:r>
            <a:endParaRPr b="0" lang="en-US" sz="2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examples are particularly for south Louisiana and coastal Georgia; other species will occur elsewhere, filling slightly modified niches depending upon range, region, and local condition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10:50:54Z</dcterms:created>
  <dc:creator>Ouida W Meier</dc:creator>
  <dc:description/>
  <dc:language>en-US</dc:language>
  <cp:lastModifiedBy>RomaK</cp:lastModifiedBy>
  <dcterms:modified xsi:type="dcterms:W3CDTF">2015-09-04T09:43:59Z</dcterms:modified>
  <cp:revision>19</cp:revision>
  <dc:subject/>
  <dc:title>Coastal Ecosystems:  Salt Marshes and Mangroves</dc:title>
</cp:coreProperties>
</file>