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E14B-AA26-4513-B044-63A0A916F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77D-A28B-4891-B4AB-984D2218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4C4-A533-4462-BB91-798743C0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1B1-4068-46F4-B7DB-103EA898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32A-A18B-4964-9CFD-EEE0A13A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258B-D6E1-4172-8E59-4AD4D41D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001E-00AC-41A1-962A-347ED94B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2C0D-C009-4685-AAA8-EC90E1F0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7983-FCAD-4076-8BE8-96EC35DD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391F-D0F9-4BDE-9F84-A787C20E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7101-844C-46C0-9F64-3171564D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E6D7-019C-4819-ADD2-FEE2BF98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22E-DD94-4876-8D0B-57302688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5D2D-5BD3-4F11-BE64-6219CE2A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60B0-0116-47FA-A3C4-6D1812A4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F064-CD6A-4BBA-9F98-B8771CA3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125D-CABC-42F7-85BD-295F574C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D7E0-A214-45CD-909B-9A27A02C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255-2A34-45F0-8B15-A9B0A425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7A3-425C-4CA2-BF0C-239B6FF0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54C-44DD-4C2F-A212-594F7720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951-33EC-4079-B95E-65AF486B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852-80CA-4B6C-9F77-1861BF0E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468-4AEE-41A2-9592-7E4AC3B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914-4286-4133-8BF6-F598BFE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0FDD-1195-4F55-97C1-645A90BC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DC65-4090-4763-A969-DBF7944B0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</a:t>
            </a:r>
            <a:br>
              <a:rPr sz="4800"/>
            </a:b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he Continent Series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editerranean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t, dry summers, mild, wet w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nly found in 5 places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alifornia, Northern Baj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Basin of the Mediterranean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uthwestern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estern cape of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ral Cost of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alifornia Coast"/>
          <p:cNvPicPr/>
          <p:nvPr/>
        </p:nvPicPr>
        <p:blipFill>
          <a:blip r:embed="rId1"/>
          <a:stretch/>
        </p:blipFill>
        <p:spPr>
          <a:xfrm>
            <a:off x="3951360" y="4754520"/>
            <a:ext cx="34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regon to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50 species of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5 tree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Olympic%20National%20Park2"/>
          <p:cNvPicPr/>
          <p:nvPr/>
        </p:nvPicPr>
        <p:blipFill>
          <a:blip r:embed="rId1"/>
          <a:stretch/>
        </p:blipFill>
        <p:spPr>
          <a:xfrm>
            <a:off x="6618240" y="3184560"/>
            <a:ext cx="22384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as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-3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emperatures 10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inter temperatures 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grasslands_national_park"/>
          <p:cNvPicPr/>
          <p:nvPr/>
        </p:nvPicPr>
        <p:blipFill>
          <a:blip r:embed="rId1"/>
          <a:stretch/>
        </p:blipFill>
        <p:spPr>
          <a:xfrm>
            <a:off x="6510240" y="2813040"/>
            <a:ext cx="1800360" cy="279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800px-Grasslands-menggu"/>
          <p:cNvPicPr/>
          <p:nvPr/>
        </p:nvPicPr>
        <p:blipFill>
          <a:blip r:embed="rId2"/>
          <a:stretch/>
        </p:blipFill>
        <p:spPr>
          <a:xfrm>
            <a:off x="3122640" y="3209760"/>
            <a:ext cx="2763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Tundra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° to 70° No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undra means barren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ound is permanetly frozen 10” to 3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verage temperature -18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he sun never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orlds’ coldest/driest bi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anaktuvuk_scenery"/>
          <p:cNvPicPr/>
          <p:nvPr/>
        </p:nvPicPr>
        <p:blipFill>
          <a:blip r:embed="rId1"/>
          <a:stretch/>
        </p:blipFill>
        <p:spPr>
          <a:xfrm>
            <a:off x="5070600" y="4297320"/>
            <a:ext cx="315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7440" y="414000"/>
            <a:ext cx="631656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82560" y="1020240"/>
            <a:ext cx="6661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re four specific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jave Desert – the smallest, but where Death Valley can reach 13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Joshua Tree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hihuahuan Desert – found in Mexico, it gets 8-12 inches of rain per year.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Century Plan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phnadde"/>
          <p:cNvPicPr/>
          <p:nvPr/>
        </p:nvPicPr>
        <p:blipFill>
          <a:blip r:embed="rId1"/>
          <a:stretch/>
        </p:blipFill>
        <p:spPr>
          <a:xfrm>
            <a:off x="316080" y="663480"/>
            <a:ext cx="210492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phjtwde"/>
          <p:cNvPicPr/>
          <p:nvPr/>
        </p:nvPicPr>
        <p:blipFill>
          <a:blip r:embed="rId2"/>
          <a:stretch/>
        </p:blipFill>
        <p:spPr>
          <a:xfrm>
            <a:off x="5448240" y="313704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entury-plant-blossoms"/>
          <p:cNvPicPr/>
          <p:nvPr/>
        </p:nvPicPr>
        <p:blipFill>
          <a:blip r:embed="rId3"/>
          <a:stretch/>
        </p:blipFill>
        <p:spPr>
          <a:xfrm>
            <a:off x="8271000" y="4791240"/>
            <a:ext cx="658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11080" y="30924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north-america"/>
          <p:cNvPicPr/>
          <p:nvPr/>
        </p:nvPicPr>
        <p:blipFill>
          <a:blip r:embed="rId1"/>
          <a:stretch/>
        </p:blipFill>
        <p:spPr>
          <a:xfrm>
            <a:off x="3479760" y="1558800"/>
            <a:ext cx="4460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world image"/>
          <p:cNvPicPr/>
          <p:nvPr/>
        </p:nvPicPr>
        <p:blipFill>
          <a:blip r:embed="rId1"/>
          <a:stretch/>
        </p:blipFill>
        <p:spPr>
          <a:xfrm>
            <a:off x="2335320" y="181620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Unique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ighest peak is Denali,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ugby, North Dak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er poi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eartbeats_of_denali_L"/>
          <p:cNvPicPr/>
          <p:nvPr/>
        </p:nvPicPr>
        <p:blipFill>
          <a:blip r:embed="rId1"/>
          <a:stretch/>
        </p:blipFill>
        <p:spPr>
          <a:xfrm>
            <a:off x="3322800" y="2103480"/>
            <a:ext cx="2608200" cy="174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224_01_58---Rugby--North-Dakota--USA_web"/>
          <p:cNvPicPr/>
          <p:nvPr/>
        </p:nvPicPr>
        <p:blipFill>
          <a:blip r:embed="rId2"/>
          <a:stretch/>
        </p:blipFill>
        <p:spPr>
          <a:xfrm>
            <a:off x="6419880" y="4141800"/>
            <a:ext cx="1468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’s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.8% of the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i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orth-america"/>
          <p:cNvPicPr/>
          <p:nvPr/>
        </p:nvPicPr>
        <p:blipFill>
          <a:blip r:embed="rId1"/>
          <a:stretch/>
        </p:blipFill>
        <p:spPr>
          <a:xfrm>
            <a:off x="2990880" y="1531800"/>
            <a:ext cx="48290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Bodies of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6120" y="1531440"/>
            <a:ext cx="7950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lumbi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lorad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io Gr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issouri River - l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ississippi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issouri/Mississippi River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,879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dies_of_Water_6"/>
          <p:cNvPicPr/>
          <p:nvPr/>
        </p:nvPicPr>
        <p:blipFill>
          <a:blip r:embed="rId1"/>
          <a:stretch/>
        </p:blipFill>
        <p:spPr>
          <a:xfrm>
            <a:off x="4272120" y="1757520"/>
            <a:ext cx="413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namerica_climate"/>
          <p:cNvPicPr/>
          <p:nvPr/>
        </p:nvPicPr>
        <p:blipFill>
          <a:blip r:embed="rId1"/>
          <a:stretch/>
        </p:blipFill>
        <p:spPr>
          <a:xfrm>
            <a:off x="2624040" y="1784520"/>
            <a:ext cx="651996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Coniferou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pper area of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ines, fir and spruce trees, produce cones which contains the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all mountains have supported tre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ld and stormy in the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ightening storms in the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forestmt"/>
          <p:cNvPicPr/>
          <p:nvPr/>
        </p:nvPicPr>
        <p:blipFill>
          <a:blip r:embed="rId1"/>
          <a:stretch/>
        </p:blipFill>
        <p:spPr>
          <a:xfrm>
            <a:off x="4289400" y="4592520"/>
            <a:ext cx="30765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ciduo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y are found 0 - 50° degrees north l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ormer glaciers from New England to In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derate climate, 4 seasons and they get 2 - 4 feet of rain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rees are oaks, maples, beeches, hickories and 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21"/>
          <p:cNvPicPr/>
          <p:nvPr/>
        </p:nvPicPr>
        <p:blipFill>
          <a:blip r:embed="rId1"/>
          <a:stretch/>
        </p:blipFill>
        <p:spPr>
          <a:xfrm>
            <a:off x="6099120" y="4476600"/>
            <a:ext cx="2092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5:37:29Z</dcterms:created>
  <dc:creator>Rob</dc:creator>
  <dc:description/>
  <cp:keywords>North America the continent</cp:keywords>
  <dc:language>en-US</dc:language>
  <cp:lastModifiedBy>RomaK</cp:lastModifiedBy>
  <dcterms:modified xsi:type="dcterms:W3CDTF">2015-09-04T09:44:14Z</dcterms:modified>
  <cp:revision>7</cp:revision>
  <dc:subject/>
  <dc:title>North America the continent</dc:title>
</cp:coreProperties>
</file>