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20.jpeg" ContentType="image/jpeg"/>
  <Override PartName="/ppt/media/image30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19.jpeg" ContentType="image/jpeg"/>
  <Override PartName="/ppt/media/image21.png" ContentType="image/png"/>
  <Override PartName="/ppt/media/image9.png" ContentType="image/png"/>
  <Override PartName="/ppt/media/image2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941C-1873-4570-8562-DA92E2C9073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, water everywhe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only on the Eart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, water everyw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only on the Eart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ind blowing for 10 hours across the ocean will cause the surface waters to flow at about 2% of the wind spe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will pile up in the direction the wind is blo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will pull the water down the "hill" or pile of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e Coriolis Force causes the water to move to the right (in the northern hemisphere) around the mound of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ind blowing for 10 hours across the ocean will cause the surface waters to flow at about 2% of the wind sp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will pile up in the direction the wind is blo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will pull the water down the "hill" or pile of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e Coriolis Force causes the water to move to the right (in the northern hemisphere) around the mound of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u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u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large mounds of water and the flow around them are called Gyres. The produce large circular currents in all the ocean bas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y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large mounds of water and the flow around them are called Gyres. The produce large circular currents in all the ocean bas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y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e Coriolis Force move objects to the right in the northern hemisphere, and to the left in the southern hemi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e Coriolis Force move objects to the right in the northern hemisphere, and to the left in the southern hemi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70% of the Earth’s surface is covered by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at, 95% is salt water – only 5% is fresh water – and part of that is 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70% of the Earth’s surface is covered by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at, 95% is salt water – only 5% is fresh water – and part of that is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oceans are really just one body of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divided into the four named ocea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cif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lan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n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oceans are really just one body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divided into the four named ocea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lan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ceans are always in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 happen twice dai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 are caused by the pull of gravity by the moon, and to a lesser degree by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e sun would pull less than the mo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ceans are always in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 happen twice da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 are caused by the pull of gravity by the moon, and to a lesser degree by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e sun would pull less than the mo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 of Ocean Curr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urrents-Surface Circ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ake up about 10% of all the water in the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are the upper 400 meters of the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 of Ocean Curr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urrents-Surface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ake up about 10% of all the water in the oc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are the upper 400 meters of the oc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p Water Currents-Thermohaline Circ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ake up the other 90% of the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ove around the ocean basins by density driven forces and gr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nsity difference is caused by different temperatures and sali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deep waters sink into the deep ocean basins at high latitudes where the temperatures are cold enough to cause the density to incre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p Water Currents-Thermohaline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ake up the other 90% of the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ove around the ocean basins by density driven forces and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nsity difference is caused by different temperatures and sali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deep waters sink into the deep ocean basins at high latitudes where the temperatures are cold enough to cause the density to incr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Currents are influenced by two types of 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Primary Forces--start the water mo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imary force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He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iolis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Currents are influenced by two types of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Primary Forces--start the water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imary forces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Hea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iolis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econdary Forces--influence where the currents f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irc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heating cause water to expand. Near the equator the water is about 8 centimeters high than in middle latitudes. This cause a very slight slope and water wants to flow down the slo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s blowing on the surface of the ocean push the water. Friction occurs between the wind and the water'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econdary Forces--influence where the currents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heating cause water to expand. Near the equator the water is about 8 centimeters high than in middle latitudes. This cause a very slight slope and water wants to flow down the s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s blowing on the surface of the ocean push the water. Friction occurs between the wind and the water'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ind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ind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6E23-038E-4A45-887A-939EC9F2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22F0-3D15-4E60-BE5D-3808DBBA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A6A6-3E53-4B87-840B-D8C63EB1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D5CD-2A2D-46B3-A7E1-6FEC4A988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F3DF-CFB0-4265-9D05-98635AACA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740F-69CA-44EB-940E-1FC3A7C2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FEDD-2E89-43CA-B6C2-862E9F56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BAD7-4111-4E6E-B1DD-3AC5D1AA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2223-739D-447A-821B-8727F853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603E-91AE-4EEA-9912-0570B498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5FC6-100B-4913-ADBC-9DD73A03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50F2-A7F6-4C00-A6DA-D4A08880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4D8D-5391-41F0-8CEE-0D65F4A0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D525-3805-4CBB-85E3-0FB80A74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71FD-0B3E-4C99-ACF8-CC7A93CD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49AC-A2C9-43C9-A124-1EF35283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3562-B730-4AE5-9710-F5F7D7670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2BE05-D1FE-4299-A4FC-79631E5CC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6ACAA-5BFD-4624-BEB4-0E001C9A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99259-25C3-496D-BFAA-FE84A6EE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60A9E-F860-4B05-AB26-D9ADADF2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D1942-9879-4A86-A864-4CEDB9C8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F76A-895A-4232-A1D3-06D02DE4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1560B-0E73-4B20-9A96-710816B0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D0C85-55C6-4571-99A4-B98E88CB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72CFA-DC9C-4EA0-BB6E-4EE73412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775C9-B194-4F54-9549-80CB6F1A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D8BEC-74FF-4C84-91F2-09583650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7AFFD-CF51-40E0-8C16-B6512E2D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DE209-9A90-4D40-8227-4815AC988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22F51-6D61-464D-B56A-FC62E832E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CB868-E8F5-4101-B119-C7F31385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E9AF0-60C7-48C0-8CE9-227624A8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3EAF-97B0-4B1A-A378-50E89877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AFBA6-583F-4F09-A1BE-F6A72B6D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A15DF-CAF3-4EC0-8063-62D895B6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CE705-7CB5-4571-8485-171FBCAC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D7EC2-6B4F-496B-A0A5-0FCEB920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BFBE1-84F1-4FB7-95F3-457259DE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F09FE-1D3E-4210-801E-939572D9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9CADC-B395-4083-A9DF-26E632F7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60937-2F84-4101-8C59-BC6EF5609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3052D-564E-413F-A208-227E247E1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3E589-8C20-492D-904F-BCC0EADE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DD9B-0456-4589-84BB-D4A4F338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BAE96-57C3-4A89-B85E-E32E03CC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8497A-B910-4BEB-816D-12005C1A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F2AAE-506B-41EE-BAB7-12A2A04D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12572-F4AE-42F3-87E2-08234FD8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B5CE0-FDA2-43DD-8359-6F6B6FC8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F957C-4C57-40EE-AB22-7C99D203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79A97-D982-499D-88B5-3878A019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77ACC-C863-4F05-9D9B-CAD0E3FC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56303-9FB9-4487-8FAB-6E7A3530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94DC0-0AB9-4FCE-864D-AB2E83CF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A45F-0ECF-4113-8277-D44085C1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FDEA6-A311-41F8-94F1-700FAAB24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DD791-3911-4D3C-924D-146DDA7EC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CA23E-9FF6-4825-BADB-5C1B3A4C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1F129-BCB6-457B-B941-49E4E45D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34CDB-E2F1-4588-92AB-A456123E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31FA3-FAA4-49F3-825E-CE047C96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69011-202A-48FF-9FB1-D62DAA8C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44B2E-D9F8-4D94-80AE-9E1111A0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CAC91-A740-4DC7-A8A1-60D77849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1979B-61B5-40B4-ACBD-5A5CD293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FACE-38D1-4CD7-AFDD-7A35346B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4EB19-220D-4FE6-BBCE-A461BE24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F1632-F84F-4696-8AA9-63630AC14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D4694-CB64-419C-9ED9-D3332FE7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96551-E8B7-44A5-BB11-02DB07BB5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DD755-4689-4EDC-9518-E677E5B6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1557B-A6C1-404A-BC0D-6D62CC90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EA304-00F5-42B1-B5A1-44AE3B45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785B8-FE80-4AD9-AE5D-0E2B1275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BDAB1-C45F-40C1-93E5-50A98E77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841DE-6692-498E-8B67-0AE2D305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1291-B8CF-4572-85C1-BFA111EC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0E3FB-BE61-4CC9-AF23-FA63C429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CEA59-F02F-493C-9D23-3F8757E9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0AACD-7AC5-4E60-81C1-21ED1FD5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3AA08-FCF5-4F58-A4EB-3E1FFEDEE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676DC-601E-4536-8BBB-1BD7BB8A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2AC89-B6F6-4808-8CC0-2B1BB76D0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6D31A-8A7E-4076-B1AC-6C0C410B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DAFDA-C357-4041-9432-3DF6F560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69C5E-6735-4C7A-AAF9-61A8126C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08251-8FA1-4AFE-96B0-2EC6EC67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E4B1-5A9C-412C-A7CD-991C6A49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DB749-F659-44E3-94D9-078AE5D3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45D2A-52D2-452D-9D8E-2FF45CBF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C753B-B2E7-47F3-9836-41A1E40E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B0096-1CC6-46FE-B8D2-3813D132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A7B0D-D883-4559-AAE0-B2D38BE4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A9DC6-9EE0-435F-9DEB-8B4E03FC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48E35-77E2-48AC-9720-F1603F74E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4B24-A582-4084-B652-02A88C9CA0F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8129-4500-4FC0-B7C5-D8328CB5E56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260F-A82F-41BB-B92D-87C6DE39029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F9B0-2045-4657-BFBE-903DE0463AB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ECF2-D22A-4219-94DE-EBB8D5C43F6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93CA-D1B6-4B94-A428-97B1384D894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6CA4-48B5-4F47-919E-C234D7CD92A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203C-C844-4370-813E-D59544137AC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2"/>
          <a:stretch/>
        </p:blipFill>
        <p:spPr>
          <a:xfrm>
            <a:off x="536400" y="841320"/>
            <a:ext cx="815688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9" name="Rectangle 3" descr=""/>
          <p:cNvPicPr/>
          <p:nvPr/>
        </p:nvPicPr>
        <p:blipFill>
          <a:blip r:embed="rId3"/>
          <a:stretch/>
        </p:blipFill>
        <p:spPr>
          <a:xfrm>
            <a:off x="96840" y="2895480"/>
            <a:ext cx="827892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4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 wind blowing for 10 hours across the ocean will cause the surface waters to flow at about 2% of the wind spe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Water will pile up in the direction the wind is blowin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Gravity will pull the water down the "hill" or pile of wat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But the Coriolis Force causes the water to move to the right (in the northern hemisphere) around the mound of wat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Picture 3" descr="earth 4.jpg"/>
          <p:cNvPicPr/>
          <p:nvPr/>
        </p:nvPicPr>
        <p:blipFill>
          <a:blip r:embed="rId2"/>
          <a:stretch/>
        </p:blipFill>
        <p:spPr>
          <a:xfrm>
            <a:off x="5638680" y="5029200"/>
            <a:ext cx="1771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12" name="Content Placeholder 3" descr="forces.jpg"/>
          <p:cNvPicPr/>
          <p:nvPr/>
        </p:nvPicPr>
        <p:blipFill>
          <a:blip r:embed="rId2"/>
          <a:stretch/>
        </p:blipFill>
        <p:spPr>
          <a:xfrm>
            <a:off x="1752480" y="2666880"/>
            <a:ext cx="538488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large mounds of water and the flow around them are called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Gyr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The produce large circular currents in all the ocean basi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yr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5" name="Picture 3" descr="gyres.jpg"/>
          <p:cNvPicPr/>
          <p:nvPr/>
        </p:nvPicPr>
        <p:blipFill>
          <a:blip r:embed="rId1"/>
          <a:stretch/>
        </p:blipFill>
        <p:spPr>
          <a:xfrm>
            <a:off x="4038480" y="3200400"/>
            <a:ext cx="32767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Remember the Coriolis Force move objects to the right in the northern hemisphere, and to the left in the southern hemisph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8" name="Picture 3" descr="coriolis.jpg"/>
          <p:cNvPicPr/>
          <p:nvPr/>
        </p:nvPicPr>
        <p:blipFill>
          <a:blip r:embed="rId1"/>
          <a:stretch/>
        </p:blipFill>
        <p:spPr>
          <a:xfrm>
            <a:off x="4038480" y="2895480"/>
            <a:ext cx="3429000" cy="36561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coriolis 2.jpg"/>
          <p:cNvPicPr/>
          <p:nvPr/>
        </p:nvPicPr>
        <p:blipFill>
          <a:blip r:embed="rId2"/>
          <a:stretch/>
        </p:blipFill>
        <p:spPr>
          <a:xfrm>
            <a:off x="609480" y="3117960"/>
            <a:ext cx="30481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ver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70%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f the Earth’s surface is covered by wa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f that, 95% is salt water – only 5% is fresh water – and part of that is i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earth 1.jpg"/>
          <p:cNvPicPr/>
          <p:nvPr/>
        </p:nvPicPr>
        <p:blipFill>
          <a:blip r:embed="rId2"/>
          <a:stretch/>
        </p:blipFill>
        <p:spPr>
          <a:xfrm>
            <a:off x="990720" y="3276720"/>
            <a:ext cx="2674800" cy="2657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ocean map 2.gif"/>
          <p:cNvPicPr/>
          <p:nvPr/>
        </p:nvPicPr>
        <p:blipFill>
          <a:blip r:embed="rId3"/>
          <a:stretch/>
        </p:blipFill>
        <p:spPr>
          <a:xfrm>
            <a:off x="4343400" y="3505320"/>
            <a:ext cx="426096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the oceans are really just one body of wa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is divided into the four named ocean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Lucida Sans Unicode"/>
              </a:rPr>
              <a:t>Pacif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Lucida Sans Unicode"/>
              </a:rPr>
              <a:t>Atlant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Lucida Sans Unicode"/>
              </a:rPr>
              <a:t>India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Lucida Sans Unicode"/>
              </a:rPr>
              <a:t>Arct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wave.jpg"/>
          <p:cNvPicPr/>
          <p:nvPr/>
        </p:nvPicPr>
        <p:blipFill>
          <a:blip r:embed="rId2"/>
          <a:stretch/>
        </p:blipFill>
        <p:spPr>
          <a:xfrm>
            <a:off x="5715000" y="152280"/>
            <a:ext cx="2805120" cy="12193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ocean map 3.jpg"/>
          <p:cNvPicPr/>
          <p:nvPr/>
        </p:nvPicPr>
        <p:blipFill>
          <a:blip r:embed="rId3"/>
          <a:stretch/>
        </p:blipFill>
        <p:spPr>
          <a:xfrm>
            <a:off x="3429000" y="3505320"/>
            <a:ext cx="4952880" cy="30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oceans are always in mo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ides happen twice dai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ides are caused by the pull of gravity by the moon, and to a lesser degree by the su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y do you think the sun would pull less than the moo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wave 1.jpg"/>
          <p:cNvPicPr/>
          <p:nvPr/>
        </p:nvPicPr>
        <p:blipFill>
          <a:blip r:embed="rId2"/>
          <a:stretch/>
        </p:blipFill>
        <p:spPr>
          <a:xfrm>
            <a:off x="2743200" y="4343400"/>
            <a:ext cx="601992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 are two type of Ocean Current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Surface Currents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-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urface Circ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aters make up about 10% of all the water in the ocea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aters are the upper 400 meters of the ocea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surface currents 1.jpg"/>
          <p:cNvPicPr/>
          <p:nvPr/>
        </p:nvPicPr>
        <p:blipFill>
          <a:blip r:embed="rId2"/>
          <a:stretch/>
        </p:blipFill>
        <p:spPr>
          <a:xfrm>
            <a:off x="4191120" y="4267080"/>
            <a:ext cx="337320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Deep Water Currents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-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hermohaline Circ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aters make up the other 90% of the oce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aters move around the ocean basins by density driven forces and grav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density difference is caused by different temperatures and salin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deep waters sink into the deep ocean basins at high latitudes where the temperatures are cold enough to cause the density to increas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deep currents.jpg"/>
          <p:cNvPicPr/>
          <p:nvPr/>
        </p:nvPicPr>
        <p:blipFill>
          <a:blip r:embed="rId2"/>
          <a:stretch/>
        </p:blipFill>
        <p:spPr>
          <a:xfrm>
            <a:off x="5486400" y="5410080"/>
            <a:ext cx="20066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cean Currents are influenced by two types of for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1. Primary Forces--start the water mov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he primary forces ar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olar Heating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Wind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Gravity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Coriolis effec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coriolis.jpg"/>
          <p:cNvPicPr/>
          <p:nvPr/>
        </p:nvPicPr>
        <p:blipFill>
          <a:blip r:embed="rId2"/>
          <a:stretch/>
        </p:blipFill>
        <p:spPr>
          <a:xfrm>
            <a:off x="3276720" y="3276720"/>
            <a:ext cx="2581200" cy="27525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1 coriolis.jpg"/>
          <p:cNvPicPr/>
          <p:nvPr/>
        </p:nvPicPr>
        <p:blipFill>
          <a:blip r:embed="rId3"/>
          <a:stretch/>
        </p:blipFill>
        <p:spPr>
          <a:xfrm>
            <a:off x="6172200" y="2819520"/>
            <a:ext cx="2519280" cy="23144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coriolis 2.jpg"/>
          <p:cNvPicPr/>
          <p:nvPr/>
        </p:nvPicPr>
        <p:blipFill>
          <a:blip r:embed="rId4"/>
          <a:stretch/>
        </p:blipFill>
        <p:spPr>
          <a:xfrm>
            <a:off x="6324480" y="5257800"/>
            <a:ext cx="15242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2. Secondary Forces--influence where the currents flo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urface Circ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olar heating cause water to expand. Near the equator the water is about 8 centimeters high than in middle latitudes. This cause a very slight slope and water wants to flow down the slop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Winds blowing on the surface of the ocean push the water. Friction occurs between the wind and the water's surfac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wave 3.jpg"/>
          <p:cNvPicPr/>
          <p:nvPr/>
        </p:nvPicPr>
        <p:blipFill>
          <a:blip r:embed="rId2"/>
          <a:stretch/>
        </p:blipFill>
        <p:spPr>
          <a:xfrm>
            <a:off x="5410080" y="5486400"/>
            <a:ext cx="3048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Content Placeholder 3" descr="winds.jpg"/>
          <p:cNvPicPr/>
          <p:nvPr/>
        </p:nvPicPr>
        <p:blipFill>
          <a:blip r:embed="rId1"/>
          <a:stretch/>
        </p:blipFill>
        <p:spPr>
          <a:xfrm>
            <a:off x="4419720" y="1676520"/>
            <a:ext cx="4333680" cy="4113000"/>
          </a:xfrm>
          <a:prstGeom prst="rect">
            <a:avLst/>
          </a:prstGeom>
          <a:ln w="0">
            <a:noFill/>
          </a:ln>
        </p:spPr>
      </p:pic>
      <p:pic>
        <p:nvPicPr>
          <p:cNvPr id="406" name="Title 4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world map 1.jpg"/>
          <p:cNvPicPr/>
          <p:nvPr/>
        </p:nvPicPr>
        <p:blipFill>
          <a:blip r:embed="rId3"/>
          <a:stretch/>
        </p:blipFill>
        <p:spPr>
          <a:xfrm>
            <a:off x="457200" y="2438280"/>
            <a:ext cx="365760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8:46:39Z</dcterms:created>
  <dc:creator>Ector County ISD Employee</dc:creator>
  <dc:description/>
  <dc:language>en-US</dc:language>
  <cp:lastModifiedBy>RomaK</cp:lastModifiedBy>
  <dcterms:modified xsi:type="dcterms:W3CDTF">2015-09-04T09:44:20Z</dcterms:modified>
  <cp:revision>21</cp:revision>
  <dc:subject/>
  <dc:title>Oceans</dc:title>
</cp:coreProperties>
</file>