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5.jpeg" ContentType="image/jpeg"/>
  <Override PartName="/ppt/media/image32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13.png" ContentType="image/png"/>
  <Override PartName="/ppt/media/image18.png" ContentType="image/png"/>
  <Override PartName="/ppt/media/image6.jpeg" ContentType="image/jpeg"/>
  <Override PartName="/ppt/media/image10.png" ContentType="image/png"/>
  <Override PartName="/ppt/media/image20.jpeg" ContentType="image/jpeg"/>
  <Override PartName="/ppt/media/image30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5.jpeg" ContentType="image/jpeg"/>
  <Override PartName="/ppt/media/image16.png" ContentType="image/png"/>
  <Override PartName="/ppt/media/image19.jpeg" ContentType="image/jpeg"/>
  <Override PartName="/ppt/media/image21.png" ContentType="image/png"/>
  <Override PartName="/ppt/media/image9.png" ContentType="image/png"/>
  <Override PartName="/ppt/media/image22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92E6-3026-4454-93FA-05C20EF7D51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e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, water everywhere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only on the Earth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, water everywhe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only on the Earth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ind blowing for 10 hours across the ocean will cause the surface waters to flow at about 2% of the wind spe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will pile up in the direction the wind is blow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y will pull the water down the "hill" or pile of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the Coriolis Force causes the water to move to the right (in the northern hemisphere) around the mound of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ind blowing for 10 hours across the ocean will cause the surface waters to flow at about 2% of the wind spe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will pile up in the direction the wind is blow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y will pull the water down the "hill" or pile of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the Coriolis Force causes the water to move to the right (in the northern hemisphere) around the mound of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oun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ou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large mounds of water and the flow around them are called Gyres. The produce large circular currents in all the ocean bas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y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large mounds of water and the flow around them are called Gyres. The produce large circular currents in all the ocean bas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y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the Coriolis Force move objects to the right in the northern hemisphere, and to the left in the southern hemi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the Coriolis Force move objects to the right in the northern hemisphere, and to the left in the southern hemi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 70% of the Earth’s surface is covered by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at, 95% is salt water – only 5% is fresh water – and part of that is 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e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 70% of the Earth’s surface is covered by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at, 95% is salt water – only 5% is fresh water – and part of that is 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oceans are really just one body of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divided into the four named ocea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cif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lan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i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c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ean na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oceans are really just one body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divided into the four named ocea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lan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c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ean n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ceans are always in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des happen twice dai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des are caused by the pull of gravity by the moon, and to a lesser degree by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you think the sun would pull less than the mo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ceans are always in 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des happen twice da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des are caused by the pull of gravity by the moon, and to a lesser degree by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you think the sun would pull less than the mo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wo type of Ocean Curren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Currents-Surface Circ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ters make up about 10% of all the water in the ocea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ters are the upper 400 meters of the ocea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wo type of Ocean Curr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Currents-Surface Circ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ters make up about 10% of all the water in the oce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ters are the upper 400 meters of the oce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ep Water Currents-Thermohaline Circ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ters make up the other 90% of the oce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ters move around the ocean basins by density driven forces and gra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nsity difference is caused by different temperatures and sali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deep waters sink into the deep ocean basins at high latitudes where the temperatures are cold enough to cause the density to increa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ep Water Currents-Thermohaline Circ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ters make up the other 90% of the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ters move around the ocean basins by density driven forces and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nsity difference is caused by different temperatures and sali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deep waters sink into the deep ocean basins at high latitudes where the temperatures are cold enough to cause the density to incr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ean Currents are influenced by two types of fo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Primary Forces--start the water mov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imary forces 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Heat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iolis eff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ean Currents are influenced by two types of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Primary Forces--start the water mo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imary forces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Hea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iolis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Secondary Forces--influence where the currents f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Circ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heating cause water to expand. Near the equator the water is about 8 centimeters high than in middle latitudes. This cause a very slight slope and water wants to flow down the slo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s blowing on the surface of the ocean push the water. Friction occurs between the wind and the water's sur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Secondary Forces--influence where the currents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Circ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heating cause water to expand. Near the equator the water is about 8 centimeters high than in middle latitudes. This cause a very slight slope and water wants to flow down the sl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s blowing on the surface of the ocean push the water. Friction occurs between the wind and the water's surf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ind dir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ind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C44A-7062-41C1-82A9-29E3EC73F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CB09-B307-4ED5-BB24-44C82750B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5B1B-7916-4B85-8CF3-57126024F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4427-49C6-47BF-B9E7-5C656CB9E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84272-73A5-4E83-8362-0D1AB32BF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8CD13-2A1E-4E52-BA05-A7DC06F7D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E45B1-AD51-4E73-815B-2E20AD607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E65DE-175F-48EF-9687-D34A3C199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6D56F-4E13-4F32-80DF-79895DD21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5FAE0-FD36-4471-BAA4-4A4082268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71CA7-F8F3-4F2C-A9F4-2658B1BA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4860-0EF8-4DBC-9385-9DFD38BB2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49E91-07F0-4715-BA06-076D7F74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BD600-498E-41A1-BFE4-99D563BE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692DB-F3C0-4DE4-B8F5-B1899E519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C4027-666B-4511-A016-55960889D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EDF6A-F622-41F2-AB1F-C9931FE0C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1C4D8-75C6-45D0-8F13-7EA0F8F2D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72827-EA20-4297-BECF-957EA53AD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DA236-97FC-4BD9-9536-8CB9612A0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478E1-F67F-44E0-B976-632B2AB99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83C1C-C843-4D2C-B704-52C306D86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38C2-302D-4FDB-9894-BD2391BDF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0496C-A675-400C-B9D1-6C0624DDF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40297-F3FB-4C5C-940F-37AAA3B3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1C9EC-CC49-4FBB-B04E-6E4ECC42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AEAEF-CE3F-4A03-A471-E18CC199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D2D74-D431-49F4-B119-FAC2AF680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C805A-A386-498F-A082-5B1931D8C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8AECB-4C67-4A01-B3CE-D7F6E256F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9959F-409E-4642-9561-A5194CD2F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D9A0F-18B9-41A3-9E09-2183BAB39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E87F8-750C-4CB1-A2DE-3376196A9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BD08-25F4-4ADD-BFF0-84D95E47C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CD12F-1519-4F3A-9C4B-A24F4EB9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406E3-C653-457B-B8B1-3A2B9B35F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3027F-09E1-498B-B720-E51030A52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CCDA7-3AB0-43A1-B9A1-05890DD7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2B87F-123C-45EE-B1DE-BABAF41A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695C8-4262-45B5-8B6F-6487CDCF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32E0F-6943-49DB-B71D-39770F4DE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D9517-95A3-4489-AB84-5CCA723EB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3FF5F-AAE6-41C0-AE03-9C0CFB264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76ED4-AEFD-464E-AAB8-3DA00F9A1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535F-BD6C-46C8-AF2B-7F9E72C56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F3C53-49AF-44DB-AD12-46AAB1AC5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4CE0A-B160-41DE-AC5B-E9F40F929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B58FF-6644-4FE2-93E3-703915F23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C1D3B-0624-4219-9B75-FC922FDA1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0B6A9-D86A-4661-AE0D-208AB5D4F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BB9A1-6A4C-40B5-A93E-C8B3DB40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F8371-30CA-47A0-88AA-3C8A308E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153AD-663A-478B-A1F9-1F543F4C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DB8E6-D8A1-407F-9512-3635A9210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9A421-BB60-48D4-A1F8-464A234AE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FBBB-4E48-4813-8327-D5C3FFE02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575FE-C673-429E-B64C-15FEE2063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236DC-4750-48EC-8904-33FFCB82D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849FB-87FD-4EDC-838E-B84A9E10A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D8128-CC50-4C66-AA3D-BE1D2A33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31173-2D1D-4942-9811-8B0AEC524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8C8B7-9E74-4A6A-831F-187009F47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0D9A5-D23A-4C80-9987-56ED9A0C4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93D46-97BB-4B97-9526-13A3BC0E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5976E-F2B3-4A6B-A464-946CBC4F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2739C-F40B-4CD4-9E03-2B81F073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3969-3522-4BF6-A36B-059B3A28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F2996-F7F2-4C75-8E6D-85E8A635C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5E9414-BAC1-4C58-A6FE-E2CD73212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73071-5E16-435A-835A-EC5094145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C2D9A-3CF3-41C8-8B38-20297103F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D8BA4-4B67-4CB8-A48B-64EA7E73B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3DB9F5-5E2E-4E11-9235-6EE91A610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173D6-7575-4A96-B5CB-89273CA1C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7C2E6-7D65-4924-9D2E-3ECD1BB52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6E773-4163-4724-B662-C4AFC8144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399F99-956B-4E82-AD7C-BC43A061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F890-C03C-433E-B9EE-3E889117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23E86-3F3E-45BB-A4E0-130CCF38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BA3D7F-2BB6-4A5B-8460-89DCB767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B58AD5-F25D-40DD-BF93-F1AC2CBE0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7C9893-EDD6-4238-91B1-90FE7C843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A036F-5A75-464A-ACDD-DCA5CB179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9ADE52-D6D9-4F1D-9565-A9570DEB1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512836-E0B9-46C6-A3EB-061C96F78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9B7C9-1AD3-4D37-B078-67E147FDC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1E65E4-1B7F-448D-AF68-B9BE2F5D8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75B500-3DF4-4DAE-B2F4-D0BD18BF3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5AEC-2B8B-4807-95D9-CC0A536E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4F2710-0707-4047-BA00-87675082E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DA05B6-80A1-4150-B64B-F4E44D1B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56161F-0763-476E-A58C-FB8288EF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AA2E9-E2FE-4971-8CA1-B06B3D78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A9F7A-4EDE-4DB8-ABCD-D5A9D0941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81F6BF-C340-43B0-B78B-5D43598D8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821F21-1E99-4083-8260-7878BCBFD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0F3B6-1554-465F-B3EA-342D4B1C130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5E13B-F19D-401C-932C-F1CE8BCD55D2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32428-B4A0-4F76-A16D-68346B3CEB4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E4BF8-DF7F-4288-9860-977747120C8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80C07-7405-426C-8051-6DCAA02F2DD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0191-ABF8-4D75-A217-1449C5572AE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C7FB3-06D2-49C5-A0DD-284B9BE4220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8FA92-30E2-44A0-9152-B1DB6F6A935C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2"/>
          <a:stretch/>
        </p:blipFill>
        <p:spPr>
          <a:xfrm>
            <a:off x="536400" y="841320"/>
            <a:ext cx="815688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79" name="Rectangle 3" descr=""/>
          <p:cNvPicPr/>
          <p:nvPr/>
        </p:nvPicPr>
        <p:blipFill>
          <a:blip r:embed="rId3"/>
          <a:stretch/>
        </p:blipFill>
        <p:spPr>
          <a:xfrm>
            <a:off x="96840" y="2895480"/>
            <a:ext cx="8278920" cy="15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le 4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A wind blowing for 10 hours across the ocean will cause the surface waters to flow at about 2% of the wind spee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Water will pile up in the direction the wind is blowing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Gravity will pull the water down the "hill" or pile of water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But the Coriolis Force causes the water to move to the right (in the northern hemisphere) around the mound of water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0" name="Picture 3" descr="earth 4.jpg"/>
          <p:cNvPicPr/>
          <p:nvPr/>
        </p:nvPicPr>
        <p:blipFill>
          <a:blip r:embed="rId2"/>
          <a:stretch/>
        </p:blipFill>
        <p:spPr>
          <a:xfrm>
            <a:off x="5638680" y="5029200"/>
            <a:ext cx="17719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12" name="Content Placeholder 3" descr="forces.jpg"/>
          <p:cNvPicPr/>
          <p:nvPr/>
        </p:nvPicPr>
        <p:blipFill>
          <a:blip r:embed="rId2"/>
          <a:stretch/>
        </p:blipFill>
        <p:spPr>
          <a:xfrm>
            <a:off x="1752480" y="2666880"/>
            <a:ext cx="538488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se large mounds of water and the flow around them are called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Gyre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 The produce large circular currents in all the ocean basin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Gyr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15" name="Picture 3" descr="gyres.jpg"/>
          <p:cNvPicPr/>
          <p:nvPr/>
        </p:nvPicPr>
        <p:blipFill>
          <a:blip r:embed="rId1"/>
          <a:stretch/>
        </p:blipFill>
        <p:spPr>
          <a:xfrm>
            <a:off x="4038480" y="3200400"/>
            <a:ext cx="327672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Remember the Coriolis Force move objects to the right in the northern hemisphere, and to the left in the southern hemisphe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18" name="Picture 3" descr="coriolis.jpg"/>
          <p:cNvPicPr/>
          <p:nvPr/>
        </p:nvPicPr>
        <p:blipFill>
          <a:blip r:embed="rId1"/>
          <a:stretch/>
        </p:blipFill>
        <p:spPr>
          <a:xfrm>
            <a:off x="4038480" y="2895480"/>
            <a:ext cx="3429000" cy="36561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4" descr="coriolis 2.jpg"/>
          <p:cNvPicPr/>
          <p:nvPr/>
        </p:nvPicPr>
        <p:blipFill>
          <a:blip r:embed="rId2"/>
          <a:stretch/>
        </p:blipFill>
        <p:spPr>
          <a:xfrm>
            <a:off x="609480" y="3117960"/>
            <a:ext cx="304812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ver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70%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of the Earth’s surface is covered by wa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f that, 95% is salt water – only 5% is fresh water – and part of that is i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4" descr="earth 1.jpg"/>
          <p:cNvPicPr/>
          <p:nvPr/>
        </p:nvPicPr>
        <p:blipFill>
          <a:blip r:embed="rId2"/>
          <a:stretch/>
        </p:blipFill>
        <p:spPr>
          <a:xfrm>
            <a:off x="990720" y="3276720"/>
            <a:ext cx="2674800" cy="26575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5" descr="ocean map 2.gif"/>
          <p:cNvPicPr/>
          <p:nvPr/>
        </p:nvPicPr>
        <p:blipFill>
          <a:blip r:embed="rId3"/>
          <a:stretch/>
        </p:blipFill>
        <p:spPr>
          <a:xfrm>
            <a:off x="4343400" y="3505320"/>
            <a:ext cx="426096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l the oceans are really just one body of wa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s is divided into the four named ocean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Lucida Sans Unicode"/>
              </a:rPr>
              <a:t>Pacific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Lucida Sans Unicode"/>
              </a:rPr>
              <a:t>Atlantic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Lucida Sans Unicode"/>
              </a:rPr>
              <a:t>Indian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Lucida Sans Unicode"/>
              </a:rPr>
              <a:t>Arctic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3" descr="wave.jpg"/>
          <p:cNvPicPr/>
          <p:nvPr/>
        </p:nvPicPr>
        <p:blipFill>
          <a:blip r:embed="rId2"/>
          <a:stretch/>
        </p:blipFill>
        <p:spPr>
          <a:xfrm>
            <a:off x="5715000" y="152280"/>
            <a:ext cx="2805120" cy="12193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ocean map 3.jpg"/>
          <p:cNvPicPr/>
          <p:nvPr/>
        </p:nvPicPr>
        <p:blipFill>
          <a:blip r:embed="rId3"/>
          <a:stretch/>
        </p:blipFill>
        <p:spPr>
          <a:xfrm>
            <a:off x="3429000" y="3505320"/>
            <a:ext cx="4952880" cy="30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oceans are always in mo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ides happen twice dail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ides are caused by the pull of gravity by the moon, and to a lesser degree by the su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y do you think the sun would pull less than the moon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wave 1.jpg"/>
          <p:cNvPicPr/>
          <p:nvPr/>
        </p:nvPicPr>
        <p:blipFill>
          <a:blip r:embed="rId2"/>
          <a:stretch/>
        </p:blipFill>
        <p:spPr>
          <a:xfrm>
            <a:off x="2743200" y="4343400"/>
            <a:ext cx="601992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re are two type of Ocean Current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Surface Currents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-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urface Circul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se waters make up about 10% of all the water in the ocea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se waters are the upper 400 meters of the ocea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3" descr="surface currents 1.jpg"/>
          <p:cNvPicPr/>
          <p:nvPr/>
        </p:nvPicPr>
        <p:blipFill>
          <a:blip r:embed="rId2"/>
          <a:stretch/>
        </p:blipFill>
        <p:spPr>
          <a:xfrm>
            <a:off x="4191120" y="4267080"/>
            <a:ext cx="337320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Deep Water Currents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-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Thermohaline Circul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se waters make up the other 90% of the ocea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se waters move around the ocean basins by density driven forces and gravi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density difference is caused by different temperatures and salini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se deep waters sink into the deep ocean basins at high latitudes where the temperatures are cold enough to cause the density to increas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3" descr="deep currents.jpg"/>
          <p:cNvPicPr/>
          <p:nvPr/>
        </p:nvPicPr>
        <p:blipFill>
          <a:blip r:embed="rId2"/>
          <a:stretch/>
        </p:blipFill>
        <p:spPr>
          <a:xfrm>
            <a:off x="5486400" y="5410080"/>
            <a:ext cx="200664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cean Currents are influenced by two types of forc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1. Primary Forces--start the water mov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The primary forces ar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Solar Heating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Winds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Gravity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Coriolis effec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3" descr="coriolis.jpg"/>
          <p:cNvPicPr/>
          <p:nvPr/>
        </p:nvPicPr>
        <p:blipFill>
          <a:blip r:embed="rId2"/>
          <a:stretch/>
        </p:blipFill>
        <p:spPr>
          <a:xfrm>
            <a:off x="3276720" y="3276720"/>
            <a:ext cx="2581200" cy="275256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4" descr="1 coriolis.jpg"/>
          <p:cNvPicPr/>
          <p:nvPr/>
        </p:nvPicPr>
        <p:blipFill>
          <a:blip r:embed="rId3"/>
          <a:stretch/>
        </p:blipFill>
        <p:spPr>
          <a:xfrm>
            <a:off x="6172200" y="2819520"/>
            <a:ext cx="2519280" cy="23144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" descr="coriolis 2.jpg"/>
          <p:cNvPicPr/>
          <p:nvPr/>
        </p:nvPicPr>
        <p:blipFill>
          <a:blip r:embed="rId4"/>
          <a:stretch/>
        </p:blipFill>
        <p:spPr>
          <a:xfrm>
            <a:off x="6324480" y="5257800"/>
            <a:ext cx="152424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2. Secondary Forces--influence where the currents flow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urface Circul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Solar heating cause water to expand. Near the equator the water is about 8 centimeters high than in middle latitudes. This cause a very slight slope and water wants to flow down the slope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Winds blowing on the surface of the ocean push the water. Friction occurs between the wind and the water's surface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wave 3.jpg"/>
          <p:cNvPicPr/>
          <p:nvPr/>
        </p:nvPicPr>
        <p:blipFill>
          <a:blip r:embed="rId2"/>
          <a:stretch/>
        </p:blipFill>
        <p:spPr>
          <a:xfrm>
            <a:off x="5410080" y="5486400"/>
            <a:ext cx="30481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Content Placeholder 3" descr="winds.jpg"/>
          <p:cNvPicPr/>
          <p:nvPr/>
        </p:nvPicPr>
        <p:blipFill>
          <a:blip r:embed="rId1"/>
          <a:stretch/>
        </p:blipFill>
        <p:spPr>
          <a:xfrm>
            <a:off x="4419720" y="1676520"/>
            <a:ext cx="4333680" cy="4113000"/>
          </a:xfrm>
          <a:prstGeom prst="rect">
            <a:avLst/>
          </a:prstGeom>
          <a:ln w="0">
            <a:noFill/>
          </a:ln>
        </p:spPr>
      </p:pic>
      <p:pic>
        <p:nvPicPr>
          <p:cNvPr id="406" name="Title 4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6" descr="world map 1.jpg"/>
          <p:cNvPicPr/>
          <p:nvPr/>
        </p:nvPicPr>
        <p:blipFill>
          <a:blip r:embed="rId3"/>
          <a:stretch/>
        </p:blipFill>
        <p:spPr>
          <a:xfrm>
            <a:off x="457200" y="2438280"/>
            <a:ext cx="3657600" cy="21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8:46:39Z</dcterms:created>
  <dc:creator>Ector County ISD Employee</dc:creator>
  <dc:description/>
  <dc:language>en-US</dc:language>
  <cp:lastModifiedBy>RomaK</cp:lastModifiedBy>
  <dcterms:modified xsi:type="dcterms:W3CDTF">2015-09-04T09:44:20Z</dcterms:modified>
  <cp:revision>21</cp:revision>
  <dc:subject/>
  <dc:title>Oceans</dc:title>
</cp:coreProperties>
</file>