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5.jpeg" ContentType="image/jpeg"/>
  <Override PartName="/ppt/media/image32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13.png" ContentType="image/png"/>
  <Override PartName="/ppt/media/image18.png" ContentType="image/png"/>
  <Override PartName="/ppt/media/image6.jpeg" ContentType="image/jpeg"/>
  <Override PartName="/ppt/media/image10.png" ContentType="image/png"/>
  <Override PartName="/ppt/media/image20.jpeg" ContentType="image/jpeg"/>
  <Override PartName="/ppt/media/image30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png" ContentType="image/png"/>
  <Override PartName="/ppt/media/image19.jpeg" ContentType="image/jpeg"/>
  <Override PartName="/ppt/media/image21.png" ContentType="image/png"/>
  <Override PartName="/ppt/media/image9.png" ContentType="image/png"/>
  <Override PartName="/ppt/media/image2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26D1-59DD-421A-BEA4-E87F22764BC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, water everywher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only on the Earth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, water everyw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only on the Eart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ind blowing for 10 hours across the ocean will cause the surface waters to flow at about 2% of the wind spe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will pile up in the direction the wind is blow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will pull the water down the "hill" or pile of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the Coriolis Force causes the water to move to the right (in the northern hemisphere) around the mound of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ind blowing for 10 hours across the ocean will cause the surface waters to flow at about 2% of the wind spe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will pile up in the direction the wind is blow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will pull the water down the "hill" or pile of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the Coriolis Force causes the water to move to the right (in the northern hemisphere) around the mound of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un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u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large mounds of water and the flow around them are called Gyres. The produce large circular currents in all the ocean bas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y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large mounds of water and the flow around them are called Gyres. The produce large circular currents in all the ocean bas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y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e Coriolis Force move objects to the right in the northern hemisphere, and to the left in the southern hemi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e Coriolis Force move objects to the right in the northern hemisphere, and to the left in the southern hemi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70% of the Earth’s surface is covered by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at, 95% is salt water – only 5% is fresh water – and part of that is 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70% of the Earth’s surface is covered by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at, 95% is salt water – only 5% is fresh water – and part of that is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oceans are really just one body of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divided into the four named ocea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cif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lan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 na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oceans are really just one body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divided into the four named ocea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lan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ceans are always in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 happen twice dai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 are caused by the pull of gravity by the moon, and to a lesser degree by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the sun would pull less than the mo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ceans are always in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 happen twice da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 are caused by the pull of gravity by the moon, and to a lesser degree by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the sun would pull less than the mo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type of Ocean Curren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Currents-Surface Circ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ake up about 10% of all the water in the oce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are the upper 400 meters of the oce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type of Ocean Curr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Currents-Surface Cir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ake up about 10% of all the water in the oc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are the upper 400 meters of the oc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ep Water Currents-Thermohaline Circ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ake up the other 90% of the oc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ove around the ocean basins by density driven forces and gra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nsity difference is caused by different temperatures and sali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deep waters sink into the deep ocean basins at high latitudes where the temperatures are cold enough to cause the density to incre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ep Water Currents-Thermohaline Cir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ake up the other 90% of the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ters move around the ocean basins by density driven forces and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nsity difference is caused by different temperatures and sali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deep waters sink into the deep ocean basins at high latitudes where the temperatures are cold enough to cause the density to incr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 Currents are influenced by two types of 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Primary Forces--start the water mov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imary forces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He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iolis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an Currents are influenced by two types of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Primary Forces--start the water mo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imary forces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Hea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iolis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econdary Forces--influence where the currents f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Circ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heating cause water to expand. Near the equator the water is about 8 centimeters high than in middle latitudes. This cause a very slight slope and water wants to flow down the slo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s blowing on the surface of the ocean push the water. Friction occurs between the wind and the water's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econdary Forces--influence where the currents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Cir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heating cause water to expand. Near the equator the water is about 8 centimeters high than in middle latitudes. This cause a very slight slope and water wants to flow down the sl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s blowing on the surface of the ocean push the water. Friction occurs between the wind and the water'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ind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ind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6100-F89C-4414-9174-7A080B9F3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22AA-A88B-445E-9948-752FACDE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8C89-E6E2-489B-94DC-52E5DFBB2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0664-3E74-4C17-B841-18AA79C86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9EDE-20B6-4D69-A32C-BBE5214EA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A82B-5583-4DA4-86B9-67DECB3A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8F07-A4C2-4ED8-9138-17A05FF1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E37C-0329-4602-8BB6-01C6A9DC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553F-3DE8-4E54-B6AE-BA1EB8EC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88F3-BF30-448B-822C-28671876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B3CC-CE8B-4A30-8BEB-A882FA1E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DA72-2342-41E6-8567-BA35949D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8404E-1CD9-49D5-B138-F0E23B1E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94E27-CCE0-475D-AF4A-614BBCA2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C9F1C-1269-4114-8E56-CB2BA3AD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C041-7802-445B-A0DE-F132ADD77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CE8C-A71B-425B-81A2-537A0CF20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62FB9-14AD-45C2-B809-53AC65D27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06887-0202-4F8E-A673-A33DC888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CA28D-E62F-45CB-B87C-6A3A7A64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A63E1-0DF8-4901-A84E-80B8BE45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2B7ED-36D2-4A69-910F-0AA958C3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E875-76F1-4777-9536-FDF7F378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0C557-3FE8-475B-9E24-4A14C0EB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94DC6-76FE-45B0-9E03-AFFAEB9E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23A1E-0E05-46B6-812D-2B76D1FE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8EA70-5F6F-4D26-846A-6E68B292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A076D-8D56-4CEC-99E5-E1B83E48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9DB4A-47E8-49AE-8021-2FAF98FA6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CB010-4055-4A03-8542-BEB4FA419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AD461-25AA-4338-8343-D5A99F784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E2D5B-1201-4923-884B-CE9BD16E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3CD50-B510-4FF2-82B8-A22BD029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E5E4-1979-4FB6-877D-644F9AFF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953E5-8DEF-46C0-875B-EE55AEC5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41823-01F1-4C73-B1D7-45BA49F6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6DE2C-421B-4CBE-B9AB-F701A14E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CEB74-B8C9-4107-9217-6897DA51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EE642-36E4-4C21-9B57-DB054DAD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07BA2-20B4-4D16-91A5-F1D99A5B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DB271-619E-4E4E-9852-01CBF4BA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027CD-7885-4EE4-95D1-9182A5A81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EC8C4-4129-47C8-B4BF-18A047944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6FE98-A8EA-456B-8B1C-592C73E60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B47E-6716-499D-8BC3-006E2C75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B1317-C536-40BA-9674-D3509844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1F720-64E9-4ED5-8DBC-1E37598F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6D95D-A017-43D6-8C99-673965B0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E6ED6-31DF-4A80-ADD4-097AAAAD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19697-78D1-41B4-9003-186E297F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34DAC-FE1D-420D-9885-A33EEDBA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0DE07-3188-45D9-9A1D-818E49D7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20965-7249-4DE0-9802-DB847EDD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C52E4-E530-4F40-AE09-DAE1C9EC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4B9E5-BCF3-4D60-9D09-B57C5836F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6338-4B90-42E6-AD83-AD07A813E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BEC35-55BF-487F-94E1-264C84283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126BA-0123-47F0-B246-6AEAD77C6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3A555-4EEC-4F1E-AD6D-CF714A40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C5DD3-464B-4E81-A957-C5EF9846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38FC7-FBDE-4BBB-AF51-7CA43B2F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AEB32-C543-4492-B3D9-D77E53BE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45E99-5868-403A-A467-5B44CB59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09E67-3799-4960-A4BE-E525F106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E355E-19B2-4BA7-9FC2-DA1EC9ED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B67BD-0C11-4E6F-B734-2EAC5CCE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D7C4-34C9-4EA3-9FF7-7CD83E04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D13D6-3055-4E8E-B544-3BCDE55A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59529-8CBA-442C-9A68-152DB1BB1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DB6A9-A7F6-4D37-AE17-8BD2BC242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B0864-F64A-42B4-B520-40B9C5993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6F486-8A5A-49B4-B762-FCD2231D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C003F-C259-4F43-B51B-B3846068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6422B-8948-45CC-9847-1A6265F3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E0EBC-E1AB-43DE-BE2B-CBBEFF2E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15073-09F4-4D5E-A806-3B015157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F5D59-3AEE-44FC-A7B7-63400D19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4739-CA68-4719-A110-21A1C983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50C10-22F9-4040-8FDA-1F279A94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6252B-8DF7-43F9-8632-DF62AEE0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233DE-567A-4F0D-9096-6A6976DB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24D67-5933-4281-98B4-3CA46192A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9C90C-05E5-44EE-96DA-7DAC4ED49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63F41-FD8F-4572-952F-95B2C6E2A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5A7FE-C4BE-475F-8F6D-2D94DE46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AE0D1-FFBD-4208-AF44-FF622CA6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FA22E-B92D-48DC-B738-09718EB8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47DDA-3350-4758-A7C8-9472D35F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0BB6-7E8D-4F84-BB73-EB6DC76B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4165A-868A-4A0E-B573-A904A848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4768F-1627-4E6C-BB5D-C421400E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75A41-15F8-44E1-A99A-4D69B9DC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5E092-A80C-4439-A5FA-D98A064B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39015-DA0E-49CF-983D-B82149FA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A55BE-51B1-4A4B-BA50-5E82CA5F2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A5B3D-2337-4E43-A598-E1339429D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3A9C-2E6E-4E86-80BB-B72426D0485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DE91-DB50-4484-882C-70AB0F456C2D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20F2-B64C-49DE-89F3-72B134276D9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D30F-50D1-452B-9D41-D3DCE2A664A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B3F3-38B1-4C37-AF9D-7E39F10C9DE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B151-145F-428E-9CA2-A69C2E185F8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AEED-EE11-49C3-AE67-71B39BD3B5A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52F5-D486-4184-B9D2-0ABD9BF95A18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2"/>
          <a:stretch/>
        </p:blipFill>
        <p:spPr>
          <a:xfrm>
            <a:off x="536400" y="841320"/>
            <a:ext cx="815688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9" name="Rectangle 3" descr=""/>
          <p:cNvPicPr/>
          <p:nvPr/>
        </p:nvPicPr>
        <p:blipFill>
          <a:blip r:embed="rId3"/>
          <a:stretch/>
        </p:blipFill>
        <p:spPr>
          <a:xfrm>
            <a:off x="96840" y="2895480"/>
            <a:ext cx="827892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4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 wind blowing for 10 hours across the ocean will cause the surface waters to flow at about 2% of the wind spe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Water will pile up in the direction the wind is blowing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Gravity will pull the water down the "hill" or pile of wate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But the Coriolis Force causes the water to move to the right (in the northern hemisphere) around the mound of wate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Picture 3" descr="earth 4.jpg"/>
          <p:cNvPicPr/>
          <p:nvPr/>
        </p:nvPicPr>
        <p:blipFill>
          <a:blip r:embed="rId2"/>
          <a:stretch/>
        </p:blipFill>
        <p:spPr>
          <a:xfrm>
            <a:off x="5638680" y="5029200"/>
            <a:ext cx="1771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12" name="Content Placeholder 3" descr="forces.jpg"/>
          <p:cNvPicPr/>
          <p:nvPr/>
        </p:nvPicPr>
        <p:blipFill>
          <a:blip r:embed="rId2"/>
          <a:stretch/>
        </p:blipFill>
        <p:spPr>
          <a:xfrm>
            <a:off x="1752480" y="2666880"/>
            <a:ext cx="538488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large mounds of water and the flow around them are called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Gyre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The produce large circular currents in all the ocean basin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yr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5" name="Picture 3" descr="gyres.jpg"/>
          <p:cNvPicPr/>
          <p:nvPr/>
        </p:nvPicPr>
        <p:blipFill>
          <a:blip r:embed="rId1"/>
          <a:stretch/>
        </p:blipFill>
        <p:spPr>
          <a:xfrm>
            <a:off x="4038480" y="3200400"/>
            <a:ext cx="327672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Remember the Coriolis Force move objects to the right in the northern hemisphere, and to the left in the southern hemisphe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8" name="Picture 3" descr="coriolis.jpg"/>
          <p:cNvPicPr/>
          <p:nvPr/>
        </p:nvPicPr>
        <p:blipFill>
          <a:blip r:embed="rId1"/>
          <a:stretch/>
        </p:blipFill>
        <p:spPr>
          <a:xfrm>
            <a:off x="4038480" y="2895480"/>
            <a:ext cx="3429000" cy="36561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" descr="coriolis 2.jpg"/>
          <p:cNvPicPr/>
          <p:nvPr/>
        </p:nvPicPr>
        <p:blipFill>
          <a:blip r:embed="rId2"/>
          <a:stretch/>
        </p:blipFill>
        <p:spPr>
          <a:xfrm>
            <a:off x="609480" y="3117960"/>
            <a:ext cx="30481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ver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70%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of the Earth’s surface is covered by wa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f that, 95% is salt water – only 5% is fresh water – and part of that is i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earth 1.jpg"/>
          <p:cNvPicPr/>
          <p:nvPr/>
        </p:nvPicPr>
        <p:blipFill>
          <a:blip r:embed="rId2"/>
          <a:stretch/>
        </p:blipFill>
        <p:spPr>
          <a:xfrm>
            <a:off x="990720" y="3276720"/>
            <a:ext cx="2674800" cy="26575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ocean map 2.gif"/>
          <p:cNvPicPr/>
          <p:nvPr/>
        </p:nvPicPr>
        <p:blipFill>
          <a:blip r:embed="rId3"/>
          <a:stretch/>
        </p:blipFill>
        <p:spPr>
          <a:xfrm>
            <a:off x="4343400" y="3505320"/>
            <a:ext cx="426096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l the oceans are really just one body of wa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is divided into the four named ocean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Lucida Sans Unicode"/>
              </a:rPr>
              <a:t>Pacif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Lucida Sans Unicode"/>
              </a:rPr>
              <a:t>Atlant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Lucida Sans Unicode"/>
              </a:rPr>
              <a:t>India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Lucida Sans Unicode"/>
              </a:rPr>
              <a:t>Arct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" descr="wave.jpg"/>
          <p:cNvPicPr/>
          <p:nvPr/>
        </p:nvPicPr>
        <p:blipFill>
          <a:blip r:embed="rId2"/>
          <a:stretch/>
        </p:blipFill>
        <p:spPr>
          <a:xfrm>
            <a:off x="5715000" y="152280"/>
            <a:ext cx="2805120" cy="12193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ocean map 3.jpg"/>
          <p:cNvPicPr/>
          <p:nvPr/>
        </p:nvPicPr>
        <p:blipFill>
          <a:blip r:embed="rId3"/>
          <a:stretch/>
        </p:blipFill>
        <p:spPr>
          <a:xfrm>
            <a:off x="3429000" y="3505320"/>
            <a:ext cx="4952880" cy="30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oceans are always in mo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ides happen twice dai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ides are caused by the pull of gravity by the moon, and to a lesser degree by the su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y do you think the sun would pull less than the moon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wave 1.jpg"/>
          <p:cNvPicPr/>
          <p:nvPr/>
        </p:nvPicPr>
        <p:blipFill>
          <a:blip r:embed="rId2"/>
          <a:stretch/>
        </p:blipFill>
        <p:spPr>
          <a:xfrm>
            <a:off x="2743200" y="4343400"/>
            <a:ext cx="601992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re are two type of Ocean Current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Surface Currents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-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urface Circu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waters make up about 10% of all the water in the ocea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waters are the upper 400 meters of the ocea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" descr="surface currents 1.jpg"/>
          <p:cNvPicPr/>
          <p:nvPr/>
        </p:nvPicPr>
        <p:blipFill>
          <a:blip r:embed="rId2"/>
          <a:stretch/>
        </p:blipFill>
        <p:spPr>
          <a:xfrm>
            <a:off x="4191120" y="4267080"/>
            <a:ext cx="337320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Deep Water Currents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-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hermohaline Circu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waters make up the other 90% of the ocea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waters move around the ocean basins by density driven forces and grav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density difference is caused by different temperatures and salin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deep waters sink into the deep ocean basins at high latitudes where the temperatures are cold enough to cause the density to increas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" descr="deep currents.jpg"/>
          <p:cNvPicPr/>
          <p:nvPr/>
        </p:nvPicPr>
        <p:blipFill>
          <a:blip r:embed="rId2"/>
          <a:stretch/>
        </p:blipFill>
        <p:spPr>
          <a:xfrm>
            <a:off x="5486400" y="5410080"/>
            <a:ext cx="200664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cean Currents are influenced by two types of for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1. Primary Forces--start the water mov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he primary forces ar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Solar Heating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Winds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Gravity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Coriolis effec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" descr="coriolis.jpg"/>
          <p:cNvPicPr/>
          <p:nvPr/>
        </p:nvPicPr>
        <p:blipFill>
          <a:blip r:embed="rId2"/>
          <a:stretch/>
        </p:blipFill>
        <p:spPr>
          <a:xfrm>
            <a:off x="3276720" y="3276720"/>
            <a:ext cx="2581200" cy="27525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1 coriolis.jpg"/>
          <p:cNvPicPr/>
          <p:nvPr/>
        </p:nvPicPr>
        <p:blipFill>
          <a:blip r:embed="rId3"/>
          <a:stretch/>
        </p:blipFill>
        <p:spPr>
          <a:xfrm>
            <a:off x="6172200" y="2819520"/>
            <a:ext cx="2519280" cy="23144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coriolis 2.jpg"/>
          <p:cNvPicPr/>
          <p:nvPr/>
        </p:nvPicPr>
        <p:blipFill>
          <a:blip r:embed="rId4"/>
          <a:stretch/>
        </p:blipFill>
        <p:spPr>
          <a:xfrm>
            <a:off x="6324480" y="5257800"/>
            <a:ext cx="152424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2. Secondary Forces--influence where the currents flo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urface Circu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Solar heating cause water to expand. Near the equator the water is about 8 centimeters high than in middle latitudes. This cause a very slight slope and water wants to flow down the slop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Winds blowing on the surface of the ocean push the water. Friction occurs between the wind and the water's surfac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wave 3.jpg"/>
          <p:cNvPicPr/>
          <p:nvPr/>
        </p:nvPicPr>
        <p:blipFill>
          <a:blip r:embed="rId2"/>
          <a:stretch/>
        </p:blipFill>
        <p:spPr>
          <a:xfrm>
            <a:off x="5410080" y="5486400"/>
            <a:ext cx="30481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Content Placeholder 3" descr="winds.jpg"/>
          <p:cNvPicPr/>
          <p:nvPr/>
        </p:nvPicPr>
        <p:blipFill>
          <a:blip r:embed="rId1"/>
          <a:stretch/>
        </p:blipFill>
        <p:spPr>
          <a:xfrm>
            <a:off x="4419720" y="1676520"/>
            <a:ext cx="4333680" cy="4113000"/>
          </a:xfrm>
          <a:prstGeom prst="rect">
            <a:avLst/>
          </a:prstGeom>
          <a:ln w="0">
            <a:noFill/>
          </a:ln>
        </p:spPr>
      </p:pic>
      <p:pic>
        <p:nvPicPr>
          <p:cNvPr id="406" name="Title 4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6" descr="world map 1.jpg"/>
          <p:cNvPicPr/>
          <p:nvPr/>
        </p:nvPicPr>
        <p:blipFill>
          <a:blip r:embed="rId3"/>
          <a:stretch/>
        </p:blipFill>
        <p:spPr>
          <a:xfrm>
            <a:off x="457200" y="2438280"/>
            <a:ext cx="365760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8:46:39Z</dcterms:created>
  <dc:creator>Ector County ISD Employee</dc:creator>
  <dc:description/>
  <dc:language>en-US</dc:language>
  <cp:lastModifiedBy>RomaK</cp:lastModifiedBy>
  <dcterms:modified xsi:type="dcterms:W3CDTF">2015-09-04T09:44:20Z</dcterms:modified>
  <cp:revision>21</cp:revision>
  <dc:subject/>
  <dc:title>Oceans</dc:title>
</cp:coreProperties>
</file>