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5.jpeg" ContentType="image/jpeg"/>
  <Override PartName="/ppt/media/image32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13.png" ContentType="image/png"/>
  <Override PartName="/ppt/media/image18.png" ContentType="image/png"/>
  <Override PartName="/ppt/media/image6.jpeg" ContentType="image/jpeg"/>
  <Override PartName="/ppt/media/image10.png" ContentType="image/png"/>
  <Override PartName="/ppt/media/image20.jpeg" ContentType="image/jpeg"/>
  <Override PartName="/ppt/media/image30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png" ContentType="image/png"/>
  <Override PartName="/ppt/media/image19.jpeg" ContentType="image/jpeg"/>
  <Override PartName="/ppt/media/image21.png" ContentType="image/png"/>
  <Override PartName="/ppt/media/image9.png" ContentType="image/png"/>
  <Override PartName="/ppt/media/image2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8CC3-7C36-4F86-866C-EA2BAC804C0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, water everywher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only on the Earth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, water everyw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only on the Eart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ind blowing for 10 hours across the ocean will cause the surface waters to flow at about 2% of the wind spe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will pile up in the direction the wind is blow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will pull the water down the "hill" or pile of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the Coriolis Force causes the water to move to the right (in the northern hemisphere) around the mound of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ind blowing for 10 hours across the ocean will cause the surface waters to flow at about 2% of the wind spe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will pile up in the direction the wind is blow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will pull the water down the "hill" or pile of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the Coriolis Force causes the water to move to the right (in the northern hemisphere) around the mound of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un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u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large mounds of water and the flow around them are called Gyres. The produce large circular currents in all the ocean bas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y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large mounds of water and the flow around them are called Gyres. The produce large circular currents in all the ocean bas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y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e Coriolis Force move objects to the right in the northern hemisphere, and to the left in the southern hemi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e Coriolis Force move objects to the right in the northern hemisphere, and to the left in the southern hemi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70% of the Earth’s surface is covered by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at, 95% is salt water – only 5% is fresh water – and part of that is 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70% of the Earth’s surface is covered by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at, 95% is salt water – only 5% is fresh water – and part of that is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oceans are really just one body of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divided into the four named ocea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cif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lan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 na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oceans are really just one body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divided into the four named ocea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lan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ceans are always in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 happen twice dai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 are caused by the pull of gravity by the moon, and to a lesser degree by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the sun would pull less than the mo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ceans are always in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 happen twice da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 are caused by the pull of gravity by the moon, and to a lesser degree by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the sun would pull less than the mo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type of Ocean Curren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Currents-Surface Circ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ake up about 10% of all the water in the oce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are the upper 400 meters of the oce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type of Ocean Curr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Currents-Surface Cir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ake up about 10% of all the water in the oc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are the upper 400 meters of the oc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ep Water Currents-Thermohaline Circ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ake up the other 90% of the oc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ove around the ocean basins by density driven forces and gra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nsity difference is caused by different temperatures and sali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deep waters sink into the deep ocean basins at high latitudes where the temperatures are cold enough to cause the density to incre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ep Water Currents-Thermohaline Cir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ake up the other 90% of the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ove around the ocean basins by density driven forces and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nsity difference is caused by different temperatures and sali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deep waters sink into the deep ocean basins at high latitudes where the temperatures are cold enough to cause the density to incr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 Currents are influenced by two types of 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Primary Forces--start the water mov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imary forces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He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iolis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 Currents are influenced by two types of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Primary Forces--start the water mo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imary forces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Hea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iolis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econdary Forces--influence where the currents f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Circ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heating cause water to expand. Near the equator the water is about 8 centimeters high than in middle latitudes. This cause a very slight slope and water wants to flow down the slo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s blowing on the surface of the ocean push the water. Friction occurs between the wind and the water's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econdary Forces--influence where the currents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Cir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heating cause water to expand. Near the equator the water is about 8 centimeters high than in middle latitudes. This cause a very slight slope and water wants to flow down the sl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s blowing on the surface of the ocean push the water. Friction occurs between the wind and the water'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ind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ind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6243-34AA-4D9C-B2DA-67BFFFC2B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7333-7D8A-44DF-809A-724FE0E8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2520-3D8F-4D09-9130-B81BB54AF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5752-0B3A-478A-A70E-5AEBB674C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05E2-95FB-4495-AEAA-E155A89B1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E1BC-473B-48EB-B829-F866775E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F849-2380-438D-9921-32DBA105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F9DA-954A-45C0-A241-E219C6C3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5160-7D2E-4CC2-9698-0105E5A4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76F1-C830-4D91-8573-A259E902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476FD-7EBF-46EA-A0EC-A5650798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F526-31C9-4E8C-B7AB-2FAD427C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0266-C99B-46ED-9810-4FE414D6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8DAA6-C812-4713-8480-B79C8DAE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35D0-C062-4FDA-968E-14208702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BCD13-D336-445B-B4F6-18A9FF86A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3295-56A8-44E5-9505-8D1985208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BEEE6-90F3-4763-813C-07CC77885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73F1D-C83F-40D3-9B09-CD6E368E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B67A5-94E2-4304-A861-5613436F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EB555-4C48-4663-AC8C-191470B2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14951-1D7E-43E9-8B07-A9F5E807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F6E4-C017-4AAE-8132-11B8B512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A0468-F6DD-4018-9386-B9DB6323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670D3-FD30-4531-9D5F-1E9E81D9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5C4B4-8111-492D-99A2-6C61EAE7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F2949-7B40-4732-BC9F-81D5E204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C9089-A517-426E-B63C-7DBCFFAF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6850E-982E-409C-B38F-1360263D2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2AA2C-DB74-464B-A157-53B39DCDE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11D03-A0AA-4C96-B61C-A199E12F2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FC348-201D-4488-9607-F75E33F2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B432F-DE32-41BF-8B4C-646B90AB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0A21-5A08-47B3-8AE1-C9F87332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9AD30-B2E7-42FE-82B2-353B0B17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EE5EB-9993-406F-9D12-267C5434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C7FF3-C950-4CE9-A4A5-2E450F01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4FD0A-ED0D-49D2-9A01-420A3D2D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D26FC-7372-4E18-A34F-E197C014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74DD3-FEC7-482B-89D9-C98D98CA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904FF-6E03-4A50-8AEC-0C23006E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0E5FC-6C7E-4AC3-B340-BAB2363A2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B4234-01A4-4489-A93A-BF953A3D9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0181E-043F-4297-98D1-29F24BDAE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6D1E-B00A-4951-8296-145145CE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A3743-5F77-49BD-A5B8-EB9D4260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3C96E-75E5-4A71-B67A-1338C846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ED233-34D5-4C43-AE51-302AA510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E6D95-B83B-456C-8450-4CB36EFF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B5FB2-6BBA-4B34-852B-08BA64C4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970AE-ED43-4A5D-82C0-878472C4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8C5DB-DD43-49D4-B6CB-3083DE52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13E02-45A6-437F-84F9-D01215A2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25645-CAA4-4370-BBC2-57CAAF5E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3CCB4-D7C6-4BAF-96B1-3BF6200FF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F44F-25EF-4D4E-B03F-16004087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4219C-CB09-499C-9C59-F7ECC3B87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B0997-A5F3-4E35-A74F-A38A23137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1865C-9F51-4D76-9CF1-63C2FE74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9C24A-224A-45BD-96BA-E027152D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BB780-EFE3-4CE7-AB93-1DB1EBAC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7E9FF-D9C0-4C23-9A43-9A1A1537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8241B-082F-4D68-B3B5-FCC093C4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C87FC-CFAC-4584-882B-9C717581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A0C00-46A5-4B7E-A533-EBC98294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EDDAF-656E-429D-A53A-81F5F7D4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40D6-86DC-4226-81D9-1FA02129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F73EE-9F5F-498D-A39E-9F1B74E3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43E2D-952B-49EF-A1E7-C800812B2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61A7F-84CE-4D11-8B45-E09E7E9AC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53AFE-EF04-4A9C-9A81-1B3BB1EBD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175C9-55DF-4F25-8DAF-24D696A1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B29F9-8858-4151-8B12-5741074A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5B5C3-AD91-4B8C-9110-DDC524D9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E1138-31CF-44FD-AE53-A93FB90C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513EF-A345-44F2-BFCB-2EFDAB91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E99CE-6027-413C-9241-13DFA44F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AF3A-9532-4487-BD46-0CE9927D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8AB3C-5A9F-46EA-ACA2-DB908313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727DC-1FF3-441B-8CE4-1CD030E3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D9DBE-19B8-40E5-9F9F-26F87870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61D05-B0D9-41D4-A2D9-9AD6642E3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7EEBD-94F3-42AC-9334-C4D2D8FFE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75DE4-89CB-4A88-851F-622B3848B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9CAC4-A30D-44A2-9AD5-BD5AF8CF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A01EB-07A8-49D2-A32E-489FB231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256E4-9269-4F9E-B038-6DA93048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6DE5E-A03D-4962-9557-E7D42CE8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1480-AA87-4249-812B-375002E7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44281-0837-4EC5-AA44-1EF8F03A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0D0E5-C4EF-49C0-A20C-479464D6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DF4DE-BAF9-4CCF-804C-38612D44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FCE72-BB05-44DF-A739-88401613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57ECE-EF41-4DC8-8AD5-1A501E68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AFCE0-5799-41EE-9D56-62CE1100D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CC205-75C7-4B8C-92E9-B7DB9B092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6A60-6DE9-43FE-8C06-B79DB492ACC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95D2-D6DF-4F74-B759-67EA071C50FB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CEF1-B037-49B5-9877-BF824754485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E3138-2CD0-425D-AE8D-5DDF28FFBDF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FEF9-788C-4F35-83E5-231CE4869BE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7739-946F-4524-9FF0-5B8DADF1B2C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4DFB-41CC-4FDE-B9D7-C26E6A1AE8F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2EF3-4AB0-4433-A7F0-C00227DFF087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2"/>
          <a:stretch/>
        </p:blipFill>
        <p:spPr>
          <a:xfrm>
            <a:off x="536400" y="841320"/>
            <a:ext cx="815688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9" name="Rectangle 3" descr=""/>
          <p:cNvPicPr/>
          <p:nvPr/>
        </p:nvPicPr>
        <p:blipFill>
          <a:blip r:embed="rId3"/>
          <a:stretch/>
        </p:blipFill>
        <p:spPr>
          <a:xfrm>
            <a:off x="96840" y="2895480"/>
            <a:ext cx="827892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4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 wind blowing for 10 hours across the ocean will cause the surface waters to flow at about 2% of the wind spe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Water will pile up in the direction the wind is blowing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Gravity will pull the water down the "hill" or pile of wate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But the Coriolis Force causes the water to move to the right (in the northern hemisphere) around the mound of wate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Picture 3" descr="earth 4.jpg"/>
          <p:cNvPicPr/>
          <p:nvPr/>
        </p:nvPicPr>
        <p:blipFill>
          <a:blip r:embed="rId2"/>
          <a:stretch/>
        </p:blipFill>
        <p:spPr>
          <a:xfrm>
            <a:off x="5638680" y="5029200"/>
            <a:ext cx="1771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12" name="Content Placeholder 3" descr="forces.jpg"/>
          <p:cNvPicPr/>
          <p:nvPr/>
        </p:nvPicPr>
        <p:blipFill>
          <a:blip r:embed="rId2"/>
          <a:stretch/>
        </p:blipFill>
        <p:spPr>
          <a:xfrm>
            <a:off x="1752480" y="2666880"/>
            <a:ext cx="538488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large mounds of water and the flow around them are called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Gyre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The produce large circular currents in all the ocean basin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yr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5" name="Picture 3" descr="gyres.jpg"/>
          <p:cNvPicPr/>
          <p:nvPr/>
        </p:nvPicPr>
        <p:blipFill>
          <a:blip r:embed="rId1"/>
          <a:stretch/>
        </p:blipFill>
        <p:spPr>
          <a:xfrm>
            <a:off x="4038480" y="3200400"/>
            <a:ext cx="327672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Remember the Coriolis Force move objects to the right in the northern hemisphere, and to the left in the southern hemisphe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8" name="Picture 3" descr="coriolis.jpg"/>
          <p:cNvPicPr/>
          <p:nvPr/>
        </p:nvPicPr>
        <p:blipFill>
          <a:blip r:embed="rId1"/>
          <a:stretch/>
        </p:blipFill>
        <p:spPr>
          <a:xfrm>
            <a:off x="4038480" y="2895480"/>
            <a:ext cx="3429000" cy="36561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" descr="coriolis 2.jpg"/>
          <p:cNvPicPr/>
          <p:nvPr/>
        </p:nvPicPr>
        <p:blipFill>
          <a:blip r:embed="rId2"/>
          <a:stretch/>
        </p:blipFill>
        <p:spPr>
          <a:xfrm>
            <a:off x="609480" y="3117960"/>
            <a:ext cx="30481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ver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70%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of the Earth’s surface is covered by wa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f that, 95% is salt water – only 5% is fresh water – and part of that is i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earth 1.jpg"/>
          <p:cNvPicPr/>
          <p:nvPr/>
        </p:nvPicPr>
        <p:blipFill>
          <a:blip r:embed="rId2"/>
          <a:stretch/>
        </p:blipFill>
        <p:spPr>
          <a:xfrm>
            <a:off x="990720" y="3276720"/>
            <a:ext cx="2674800" cy="26575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ocean map 2.gif"/>
          <p:cNvPicPr/>
          <p:nvPr/>
        </p:nvPicPr>
        <p:blipFill>
          <a:blip r:embed="rId3"/>
          <a:stretch/>
        </p:blipFill>
        <p:spPr>
          <a:xfrm>
            <a:off x="4343400" y="3505320"/>
            <a:ext cx="426096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l the oceans are really just one body of wa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is divided into the four named ocean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Lucida Sans Unicode"/>
              </a:rPr>
              <a:t>Pacif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Lucida Sans Unicode"/>
              </a:rPr>
              <a:t>Atlant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Lucida Sans Unicode"/>
              </a:rPr>
              <a:t>India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Lucida Sans Unicode"/>
              </a:rPr>
              <a:t>Arct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" descr="wave.jpg"/>
          <p:cNvPicPr/>
          <p:nvPr/>
        </p:nvPicPr>
        <p:blipFill>
          <a:blip r:embed="rId2"/>
          <a:stretch/>
        </p:blipFill>
        <p:spPr>
          <a:xfrm>
            <a:off x="5715000" y="152280"/>
            <a:ext cx="2805120" cy="12193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ocean map 3.jpg"/>
          <p:cNvPicPr/>
          <p:nvPr/>
        </p:nvPicPr>
        <p:blipFill>
          <a:blip r:embed="rId3"/>
          <a:stretch/>
        </p:blipFill>
        <p:spPr>
          <a:xfrm>
            <a:off x="3429000" y="3505320"/>
            <a:ext cx="4952880" cy="30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oceans are always in mo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ides happen twice dai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ides are caused by the pull of gravity by the moon, and to a lesser degree by the su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y do you think the sun would pull less than the moon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wave 1.jpg"/>
          <p:cNvPicPr/>
          <p:nvPr/>
        </p:nvPicPr>
        <p:blipFill>
          <a:blip r:embed="rId2"/>
          <a:stretch/>
        </p:blipFill>
        <p:spPr>
          <a:xfrm>
            <a:off x="2743200" y="4343400"/>
            <a:ext cx="601992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re are two type of Ocean Current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Surface Currents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-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urface Circu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waters make up about 10% of all the water in the ocea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waters are the upper 400 meters of the ocea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" descr="surface currents 1.jpg"/>
          <p:cNvPicPr/>
          <p:nvPr/>
        </p:nvPicPr>
        <p:blipFill>
          <a:blip r:embed="rId2"/>
          <a:stretch/>
        </p:blipFill>
        <p:spPr>
          <a:xfrm>
            <a:off x="4191120" y="4267080"/>
            <a:ext cx="337320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Deep Water Currents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-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hermohaline Circu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waters make up the other 90% of the ocea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waters move around the ocean basins by density driven forces and grav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density difference is caused by different temperatures and salin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deep waters sink into the deep ocean basins at high latitudes where the temperatures are cold enough to cause the density to increas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" descr="deep currents.jpg"/>
          <p:cNvPicPr/>
          <p:nvPr/>
        </p:nvPicPr>
        <p:blipFill>
          <a:blip r:embed="rId2"/>
          <a:stretch/>
        </p:blipFill>
        <p:spPr>
          <a:xfrm>
            <a:off x="5486400" y="5410080"/>
            <a:ext cx="200664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cean Currents are influenced by two types of for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1. Primary Forces--start the water mov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he primary forces ar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Solar Heating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Winds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Gravity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Coriolis effec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" descr="coriolis.jpg"/>
          <p:cNvPicPr/>
          <p:nvPr/>
        </p:nvPicPr>
        <p:blipFill>
          <a:blip r:embed="rId2"/>
          <a:stretch/>
        </p:blipFill>
        <p:spPr>
          <a:xfrm>
            <a:off x="3276720" y="3276720"/>
            <a:ext cx="2581200" cy="27525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1 coriolis.jpg"/>
          <p:cNvPicPr/>
          <p:nvPr/>
        </p:nvPicPr>
        <p:blipFill>
          <a:blip r:embed="rId3"/>
          <a:stretch/>
        </p:blipFill>
        <p:spPr>
          <a:xfrm>
            <a:off x="6172200" y="2819520"/>
            <a:ext cx="2519280" cy="23144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coriolis 2.jpg"/>
          <p:cNvPicPr/>
          <p:nvPr/>
        </p:nvPicPr>
        <p:blipFill>
          <a:blip r:embed="rId4"/>
          <a:stretch/>
        </p:blipFill>
        <p:spPr>
          <a:xfrm>
            <a:off x="6324480" y="5257800"/>
            <a:ext cx="152424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2. Secondary Forces--influence where the currents flo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urface Circu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Solar heating cause water to expand. Near the equator the water is about 8 centimeters high than in middle latitudes. This cause a very slight slope and water wants to flow down the slop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Winds blowing on the surface of the ocean push the water. Friction occurs between the wind and the water's surfac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wave 3.jpg"/>
          <p:cNvPicPr/>
          <p:nvPr/>
        </p:nvPicPr>
        <p:blipFill>
          <a:blip r:embed="rId2"/>
          <a:stretch/>
        </p:blipFill>
        <p:spPr>
          <a:xfrm>
            <a:off x="5410080" y="5486400"/>
            <a:ext cx="30481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Content Placeholder 3" descr="winds.jpg"/>
          <p:cNvPicPr/>
          <p:nvPr/>
        </p:nvPicPr>
        <p:blipFill>
          <a:blip r:embed="rId1"/>
          <a:stretch/>
        </p:blipFill>
        <p:spPr>
          <a:xfrm>
            <a:off x="4419720" y="1676520"/>
            <a:ext cx="4333680" cy="4113000"/>
          </a:xfrm>
          <a:prstGeom prst="rect">
            <a:avLst/>
          </a:prstGeom>
          <a:ln w="0">
            <a:noFill/>
          </a:ln>
        </p:spPr>
      </p:pic>
      <p:pic>
        <p:nvPicPr>
          <p:cNvPr id="406" name="Title 4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6" descr="world map 1.jpg"/>
          <p:cNvPicPr/>
          <p:nvPr/>
        </p:nvPicPr>
        <p:blipFill>
          <a:blip r:embed="rId3"/>
          <a:stretch/>
        </p:blipFill>
        <p:spPr>
          <a:xfrm>
            <a:off x="457200" y="2438280"/>
            <a:ext cx="365760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8:46:39Z</dcterms:created>
  <dc:creator>Ector County ISD Employee</dc:creator>
  <dc:description/>
  <dc:language>en-US</dc:language>
  <cp:lastModifiedBy>RomaK</cp:lastModifiedBy>
  <dcterms:modified xsi:type="dcterms:W3CDTF">2015-09-04T09:44:20Z</dcterms:modified>
  <cp:revision>21</cp:revision>
  <dc:subject/>
  <dc:title>Oceans</dc:title>
</cp:coreProperties>
</file>