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19.jpeg" ContentType="image/jpeg"/>
  <Override PartName="/ppt/media/image28.jpeg" ContentType="image/jpeg"/>
  <Override PartName="/ppt/media/image18.png" ContentType="image/png"/>
  <Override PartName="/ppt/media/image16.png" ContentType="image/png"/>
  <Override PartName="/ppt/media/image15.jpeg" ContentType="image/jpeg"/>
  <Override PartName="/ppt/media/image17.jpeg" ContentType="image/jpeg"/>
  <Override PartName="/ppt/media/image3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3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33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30.jpeg" ContentType="image/jpeg"/>
  <Override PartName="/ppt/media/image4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2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1616-A422-4013-A5DC-79BD977F436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Earth’s Resourc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things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gives us to help us live better l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ur Earth’s Resource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things th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arth gives us to help us live better liv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and and 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Sand and Limest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alt and Sil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Salt and Sil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ay and co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Clay and co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ve our Natural Resourc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MEMBER TO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u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cy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ave our Natural Resource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ou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source is something that we can get from the earth over and over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resource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sour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resource is something that we can get from the earth over and over ag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amples of resources ar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c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e us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resources to make things and to grow things we n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things we us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to drink and grow plants for food, shelter, and 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 to grow  plants for food, shelter, and 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cks for building and jewel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s to make cans, building parts, and jewel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d to make 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to make plastics and gaso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ow we use t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resources to make things and to grow things we ne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amples of things we us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ater to drink and grow plants for food, shelter, and cl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il to grow  plants for food, shelter, and cl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cks for building and jewel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tals to make cans, building parts, and jewel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and to make gla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il to make plastics and gaso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, Reuse, and Re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to make resources last, we must take care of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ources can b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newable – grow over time, like t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renewable – we can never get more, like alumin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exhaustible – we will never run out, like air or water, BUT it can be ruined by pol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, Reuse, and Recy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 order to make resources last, we must take care of t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sources can b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newable – grow over time, like tr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onrenewable – we can never get more, like alumin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exhaustible – we will never run out, like air or water, BUT it can be ruined by pol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, we mu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 how much we 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USE what we c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YCLE whatever we c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to help our Earth be able to keep providing for our nee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, we mus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 how much we u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USE what we c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CYCLE whatever we c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 order to help our Earth be able to keep providing for our nee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 of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Examples of resour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pper and alumin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Copper and alumin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DC24-4667-4AA5-9B3E-330183CB2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59D7-2E84-4A39-9F10-83DC9E96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A84E-2984-4A64-92D3-7FFDE418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DF00-79F4-4952-B203-97F9479B2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E818-849F-4B4E-AA2B-0BE47AB6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0E0E-C85F-4BFA-9E4B-E9DAEB50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2D8D-6BE2-485B-8671-BBC44A1F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18FF-87DB-4A29-A6E7-5E3CBAD9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8F64-860E-49B6-B9FC-CFF7E344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849C-CAED-42C8-A3B0-4E51DD52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6A5B-D3B9-468F-BA86-5478F46C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E0E0-AB0E-4C9D-AD95-EE2DC3A3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D6DC-261A-4FD7-8D9E-32AAA389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03C8-C7DC-47EB-8889-1CF900A1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F12B-C723-41C4-84C5-9F58DCC2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7F1F-5F57-4549-845A-9D126B47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4879-4184-4C5C-811C-8D4A1E0B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C152-2486-4DB7-9FCC-279077C5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A372-3A11-4828-AB4A-87DBFF00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7115-45AB-45A9-B63E-603CC802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753A-AE00-49AF-93E3-C8CE6DF3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7458-58A5-4058-A8B2-C76B143A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04BE-E30C-411B-A802-2DE1F9B7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7C3E-6DF0-44C5-9C60-F80FAAE1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5C16-35C6-4FC9-9895-BC8E57D48ED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8CCC-05D0-4F19-8E62-11B853FEB5C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332560" cy="1828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e use things the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Earth gives us to help us live better live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17" name="Content Placeholder 3" descr="glass 2.jpg"/>
          <p:cNvPicPr/>
          <p:nvPr/>
        </p:nvPicPr>
        <p:blipFill>
          <a:blip r:embed="rId2"/>
          <a:stretch/>
        </p:blipFill>
        <p:spPr>
          <a:xfrm>
            <a:off x="609480" y="3657600"/>
            <a:ext cx="2438640" cy="2766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glassmaker.jpg"/>
          <p:cNvPicPr/>
          <p:nvPr/>
        </p:nvPicPr>
        <p:blipFill>
          <a:blip r:embed="rId3"/>
          <a:stretch/>
        </p:blipFill>
        <p:spPr>
          <a:xfrm>
            <a:off x="1752480" y="1295280"/>
            <a:ext cx="3117960" cy="2319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limestone building 1.jpg"/>
          <p:cNvPicPr/>
          <p:nvPr/>
        </p:nvPicPr>
        <p:blipFill>
          <a:blip r:embed="rId4"/>
          <a:stretch/>
        </p:blipFill>
        <p:spPr>
          <a:xfrm>
            <a:off x="6934320" y="1219320"/>
            <a:ext cx="1523880" cy="1409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limestone building 2.jpg"/>
          <p:cNvPicPr/>
          <p:nvPr/>
        </p:nvPicPr>
        <p:blipFill>
          <a:blip r:embed="rId5"/>
          <a:stretch/>
        </p:blipFill>
        <p:spPr>
          <a:xfrm>
            <a:off x="5562720" y="2819520"/>
            <a:ext cx="1523880" cy="1190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limestone building 3.jpg"/>
          <p:cNvPicPr/>
          <p:nvPr/>
        </p:nvPicPr>
        <p:blipFill>
          <a:blip r:embed="rId6"/>
          <a:stretch/>
        </p:blipFill>
        <p:spPr>
          <a:xfrm>
            <a:off x="4800600" y="4343400"/>
            <a:ext cx="2844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23" name="Content Placeholder 3" descr="salt.jpg"/>
          <p:cNvPicPr/>
          <p:nvPr/>
        </p:nvPicPr>
        <p:blipFill>
          <a:blip r:embed="rId2"/>
          <a:stretch/>
        </p:blipFill>
        <p:spPr>
          <a:xfrm>
            <a:off x="990720" y="1905120"/>
            <a:ext cx="2558880" cy="1295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salt 2.jpg"/>
          <p:cNvPicPr/>
          <p:nvPr/>
        </p:nvPicPr>
        <p:blipFill>
          <a:blip r:embed="rId3"/>
          <a:stretch/>
        </p:blipFill>
        <p:spPr>
          <a:xfrm>
            <a:off x="1600200" y="4114800"/>
            <a:ext cx="1523880" cy="1266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silver 1.jpg"/>
          <p:cNvPicPr/>
          <p:nvPr/>
        </p:nvPicPr>
        <p:blipFill>
          <a:blip r:embed="rId4"/>
          <a:stretch/>
        </p:blipFill>
        <p:spPr>
          <a:xfrm>
            <a:off x="4038480" y="144792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silver 2.jpg"/>
          <p:cNvPicPr/>
          <p:nvPr/>
        </p:nvPicPr>
        <p:blipFill>
          <a:blip r:embed="rId5"/>
          <a:stretch/>
        </p:blipFill>
        <p:spPr>
          <a:xfrm>
            <a:off x="6629400" y="1676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silver 3.jpg"/>
          <p:cNvPicPr/>
          <p:nvPr/>
        </p:nvPicPr>
        <p:blipFill>
          <a:blip r:embed="rId6"/>
          <a:stretch/>
        </p:blipFill>
        <p:spPr>
          <a:xfrm>
            <a:off x="4876920" y="40384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29" name="Content Placeholder 3" descr="clay 1.jpg"/>
          <p:cNvPicPr/>
          <p:nvPr/>
        </p:nvPicPr>
        <p:blipFill>
          <a:blip r:embed="rId2"/>
          <a:stretch/>
        </p:blipFill>
        <p:spPr>
          <a:xfrm>
            <a:off x="533520" y="1523880"/>
            <a:ext cx="1523880" cy="1009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clay 2.jpg"/>
          <p:cNvPicPr/>
          <p:nvPr/>
        </p:nvPicPr>
        <p:blipFill>
          <a:blip r:embed="rId3"/>
          <a:stretch/>
        </p:blipFill>
        <p:spPr>
          <a:xfrm>
            <a:off x="2209680" y="30481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clay 3.jpg"/>
          <p:cNvPicPr/>
          <p:nvPr/>
        </p:nvPicPr>
        <p:blipFill>
          <a:blip r:embed="rId4"/>
          <a:stretch/>
        </p:blipFill>
        <p:spPr>
          <a:xfrm>
            <a:off x="685800" y="4419720"/>
            <a:ext cx="1266840" cy="1523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clay 4.jpg"/>
          <p:cNvPicPr/>
          <p:nvPr/>
        </p:nvPicPr>
        <p:blipFill>
          <a:blip r:embed="rId5"/>
          <a:stretch/>
        </p:blipFill>
        <p:spPr>
          <a:xfrm>
            <a:off x="2743200" y="15238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clay 5.jpg"/>
          <p:cNvPicPr/>
          <p:nvPr/>
        </p:nvPicPr>
        <p:blipFill>
          <a:blip r:embed="rId6"/>
          <a:stretch/>
        </p:blipFill>
        <p:spPr>
          <a:xfrm>
            <a:off x="2971800" y="50292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oal burning.jpg"/>
          <p:cNvPicPr/>
          <p:nvPr/>
        </p:nvPicPr>
        <p:blipFill>
          <a:blip r:embed="rId7"/>
          <a:stretch/>
        </p:blipFill>
        <p:spPr>
          <a:xfrm>
            <a:off x="5791320" y="3657600"/>
            <a:ext cx="2438280" cy="293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coal burn.jpg"/>
          <p:cNvPicPr/>
          <p:nvPr/>
        </p:nvPicPr>
        <p:blipFill>
          <a:blip r:embed="rId8"/>
          <a:stretch/>
        </p:blipFill>
        <p:spPr>
          <a:xfrm>
            <a:off x="5334120" y="12952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Reduc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Reus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Recycl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ave our Natural Resources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8" name="Picture 3" descr="3r2.gif"/>
          <p:cNvPicPr/>
          <p:nvPr/>
        </p:nvPicPr>
        <p:blipFill>
          <a:blip r:embed="rId2"/>
          <a:stretch/>
        </p:blipFill>
        <p:spPr>
          <a:xfrm>
            <a:off x="6553080" y="4800600"/>
            <a:ext cx="1578240" cy="1590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3r.gif"/>
          <p:cNvPicPr/>
          <p:nvPr/>
        </p:nvPicPr>
        <p:blipFill>
          <a:blip r:embed="rId3"/>
          <a:stretch/>
        </p:blipFill>
        <p:spPr>
          <a:xfrm>
            <a:off x="4572000" y="1600200"/>
            <a:ext cx="1533600" cy="1533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3r.gif"/>
          <p:cNvPicPr/>
          <p:nvPr/>
        </p:nvPicPr>
        <p:blipFill>
          <a:blip r:embed="rId4"/>
          <a:stretch/>
        </p:blipFill>
        <p:spPr>
          <a:xfrm>
            <a:off x="3581280" y="4800600"/>
            <a:ext cx="1609920" cy="1609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3r2.gif"/>
          <p:cNvPicPr/>
          <p:nvPr/>
        </p:nvPicPr>
        <p:blipFill>
          <a:blip r:embed="rId5"/>
          <a:stretch/>
        </p:blipFill>
        <p:spPr>
          <a:xfrm>
            <a:off x="685800" y="4800600"/>
            <a:ext cx="157788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resource is something that we can get from the earth over and over aga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s of resources ar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i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i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ock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Picture 3" descr="wave 1.jpg"/>
          <p:cNvPicPr/>
          <p:nvPr/>
        </p:nvPicPr>
        <p:blipFill>
          <a:blip r:embed="rId2"/>
          <a:stretch/>
        </p:blipFill>
        <p:spPr>
          <a:xfrm>
            <a:off x="3124080" y="3809880"/>
            <a:ext cx="47815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 use resources to make things and to grow things we ne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s of things we us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ater to drink and grow plants for food, shelter, and cloth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il to grow  plants for food, shelter, and cloth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ocks for building and jewelr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etals to make cans, building parts, and jewelr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and to make glas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il to make plastics and gasolin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order to make resources last, we must take care of the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sources can b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newable – grow over time, like tre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nrenewable – we can never get more, like aluminu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exhaustible – we will never run out, like air or water, BUT it can be ruined by pollu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, we must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DUCE how much we us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USE what we ca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CYCLE whatever we ca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 order to help our Earth be able to keep providing for our needs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0" name="Picture 3" descr="3r.gif"/>
          <p:cNvPicPr/>
          <p:nvPr/>
        </p:nvPicPr>
        <p:blipFill>
          <a:blip r:embed="rId1"/>
          <a:stretch/>
        </p:blipFill>
        <p:spPr>
          <a:xfrm>
            <a:off x="4038480" y="525780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2" name="Content Placeholder 3" descr="coal burn.jpg"/>
          <p:cNvPicPr/>
          <p:nvPr/>
        </p:nvPicPr>
        <p:blipFill>
          <a:blip r:embed="rId2"/>
          <a:stretch/>
        </p:blipFill>
        <p:spPr>
          <a:xfrm>
            <a:off x="457200" y="1676520"/>
            <a:ext cx="3192480" cy="3192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loud wave.jpg"/>
          <p:cNvPicPr/>
          <p:nvPr/>
        </p:nvPicPr>
        <p:blipFill>
          <a:blip r:embed="rId3"/>
          <a:stretch/>
        </p:blipFill>
        <p:spPr>
          <a:xfrm>
            <a:off x="4191120" y="1371600"/>
            <a:ext cx="3886200" cy="2557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solar power station.jpg"/>
          <p:cNvPicPr/>
          <p:nvPr/>
        </p:nvPicPr>
        <p:blipFill>
          <a:blip r:embed="rId4"/>
          <a:stretch/>
        </p:blipFill>
        <p:spPr>
          <a:xfrm>
            <a:off x="4419720" y="4572000"/>
            <a:ext cx="236196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6" name="Content Placeholder 3" descr="iceberg 2.jpg"/>
          <p:cNvPicPr/>
          <p:nvPr/>
        </p:nvPicPr>
        <p:blipFill>
          <a:blip r:embed="rId2"/>
          <a:stretch/>
        </p:blipFill>
        <p:spPr>
          <a:xfrm>
            <a:off x="457200" y="1523880"/>
            <a:ext cx="2857680" cy="3870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wave.jpg"/>
          <p:cNvPicPr/>
          <p:nvPr/>
        </p:nvPicPr>
        <p:blipFill>
          <a:blip r:embed="rId3"/>
          <a:stretch/>
        </p:blipFill>
        <p:spPr>
          <a:xfrm>
            <a:off x="4114800" y="1752480"/>
            <a:ext cx="3532320" cy="2679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wind turbines.jpg"/>
          <p:cNvPicPr/>
          <p:nvPr/>
        </p:nvPicPr>
        <p:blipFill>
          <a:blip r:embed="rId4"/>
          <a:stretch/>
        </p:blipFill>
        <p:spPr>
          <a:xfrm>
            <a:off x="4648320" y="4648320"/>
            <a:ext cx="2514600" cy="19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10" name="Content Placeholder 3" descr="soil.jpg"/>
          <p:cNvPicPr/>
          <p:nvPr/>
        </p:nvPicPr>
        <p:blipFill>
          <a:blip r:embed="rId2"/>
          <a:stretch/>
        </p:blipFill>
        <p:spPr>
          <a:xfrm>
            <a:off x="4029120" y="3192480"/>
            <a:ext cx="10857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12" name="Content Placeholder 3" descr="copper.jpg"/>
          <p:cNvPicPr/>
          <p:nvPr/>
        </p:nvPicPr>
        <p:blipFill>
          <a:blip r:embed="rId2"/>
          <a:stretch/>
        </p:blipFill>
        <p:spPr>
          <a:xfrm>
            <a:off x="685800" y="16765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opper 2.jpg"/>
          <p:cNvPicPr/>
          <p:nvPr/>
        </p:nvPicPr>
        <p:blipFill>
          <a:blip r:embed="rId3"/>
          <a:stretch/>
        </p:blipFill>
        <p:spPr>
          <a:xfrm>
            <a:off x="1828800" y="3657600"/>
            <a:ext cx="2922480" cy="2228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aluminum.jpg"/>
          <p:cNvPicPr/>
          <p:nvPr/>
        </p:nvPicPr>
        <p:blipFill>
          <a:blip r:embed="rId4"/>
          <a:stretch/>
        </p:blipFill>
        <p:spPr>
          <a:xfrm>
            <a:off x="4826160" y="1447920"/>
            <a:ext cx="2641320" cy="1981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aluminum cans.jpg"/>
          <p:cNvPicPr/>
          <p:nvPr/>
        </p:nvPicPr>
        <p:blipFill>
          <a:blip r:embed="rId5"/>
          <a:stretch/>
        </p:blipFill>
        <p:spPr>
          <a:xfrm>
            <a:off x="5460840" y="4191120"/>
            <a:ext cx="314964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7:22:54Z</dcterms:created>
  <dc:creator>Ector County ISD Employee</dc:creator>
  <dc:description/>
  <dc:language>en-US</dc:language>
  <cp:lastModifiedBy>RomaK</cp:lastModifiedBy>
  <dcterms:modified xsi:type="dcterms:W3CDTF">2015-09-04T09:44:28Z</dcterms:modified>
  <cp:revision>24</cp:revision>
  <dc:subject/>
  <dc:title>Our Earth’s Resources</dc:title>
</cp:coreProperties>
</file>