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8671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5840" y="8842320"/>
            <a:ext cx="2971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15F3-3FD7-4712-AC8E-90C8DE2C8B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4810680"/>
            <a:ext cx="297180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’ …Nine Number Picture Boar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a number to link to an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image to link to an information p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yellow squar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to link back to the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red square     to link back to the picture boar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ce selected, numbers will change colou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’ …Nine Number Picture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a number to link to an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image to link to an information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yellow squ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link back to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red square     to link back to the picture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selected, numbers will chang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ircular depressions are little pot hol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ircular depressions are little pot h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6478200"/>
            <a:ext cx="29718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undee is located on its estuar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dee is located on its estu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6922080"/>
            <a:ext cx="29718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x bow lak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mit of tidal influe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more than 8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nd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ad, flat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tle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bankments/leve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 bow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 of tidal infl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more than 8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, flat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le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ankments/lev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7121160"/>
            <a:ext cx="29718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7477920"/>
            <a:ext cx="29718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terlocking sp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bsence of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rge bedloa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ocking sp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ed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7208280"/>
            <a:ext cx="297180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band of hard rock interrupts the river’s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latively softer roc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unge poo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nd of hard rock interrupts the river’s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oft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ng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6017760"/>
            <a:ext cx="297180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7017480"/>
            <a:ext cx="29718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ny small tributari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less than 8m wid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follows a relatively straight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mall tribut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less than 8m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follows a relatively straight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6088320"/>
            <a:ext cx="29718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 Riv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6938640"/>
            <a:ext cx="29718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7581600"/>
            <a:ext cx="2971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311680"/>
            <a:ext cx="2971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has a waterfall developed he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a waterfall develop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014-E861-494C-A47A-BAA2EB42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6F4-9DDA-4262-94A0-31A9EDB0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698-EB61-4D25-9E26-34162F3A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D7E-8C6F-4CCB-8B46-F99F9464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54F5-AE96-48C1-8D2C-BAD90674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B72B-C055-493A-BDE1-34ECB8FF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B35A-58C4-48DE-AC01-379766A3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FD30-0BE4-4351-BCB3-DBC31470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A509-03F6-41CD-BB6B-1D58A690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C041-9F03-46A9-86DA-8DEF1DCD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8BD1-56B1-4C80-B456-81A6D6A7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093-6878-4B81-AEA7-594D65CC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7FE3-64F7-46B1-B41A-EB8D58C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B917-B2EE-498B-9DC1-EB8FAB87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6339-457D-47CF-A931-63C77FA5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A0CD-8628-4481-BF71-CDE4B898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AF4B-480A-4516-88FC-92A63BEF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75C-929F-417D-975D-A9433D92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21D-4A2E-458B-BC1B-212432C6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EDC-5351-4C88-A271-EEE436C6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DDE-B4BF-4F13-B653-2F510E47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19F-1C14-4A9B-98DF-96F3384C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503-04BB-45E6-8960-4B617623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54C-9EF3-45D7-BC68-E104947C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80DF-07C2-47F1-9998-A0E5CC06C0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FAF4-44F3-430C-BC50-85118100312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ln.org.uk/geography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0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1.png"/><Relationship Id="rId5" Type="http://schemas.openxmlformats.org/officeDocument/2006/relationships/slide" Target="slide14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2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8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9640" y="549360"/>
            <a:ext cx="835344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‘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A Question of’ …Nine Number Picture Bo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nine number picture board is adapted from  a template available from   </a:t>
            </a:r>
            <a:r>
              <a:rPr b="0" lang="en-GB" sz="24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www.sln.org.uk/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a number to link to an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image to link to an information p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yellow squ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to link back to the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red square     to link back to the picture boar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ce selected, numbers will change col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995640" y="4363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bd10264_"/>
          <p:cNvPicPr/>
          <p:nvPr/>
        </p:nvPicPr>
        <p:blipFill>
          <a:blip r:embed="rId3"/>
          <a:stretch/>
        </p:blipFill>
        <p:spPr>
          <a:xfrm>
            <a:off x="3564000" y="48261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Upp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92360" y="18900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9" name="Text Box 24"/>
          <p:cNvSpPr/>
          <p:nvPr/>
        </p:nvSpPr>
        <p:spPr>
          <a:xfrm>
            <a:off x="179280" y="3716280"/>
            <a:ext cx="136836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268360" y="5589720"/>
            <a:ext cx="56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" descr="Img097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189000"/>
            <a:ext cx="6770880" cy="5078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34" name="Text Box 21"/>
          <p:cNvSpPr/>
          <p:nvPr/>
        </p:nvSpPr>
        <p:spPr>
          <a:xfrm>
            <a:off x="1476360" y="5516640"/>
            <a:ext cx="67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476360" y="5516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scribe and explain the differences between the sides of the ri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1042920" y="76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ircular depressions are littl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pot ho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mall stones are swirled around in them when the river is flowing higher and faster than it is at pres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ot holes are eroded by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abrasive actio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the swirling st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826920" y="620640"/>
            <a:ext cx="7490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hoto shows the River Tay which at 117 miles is Scotland’s longest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rises  only 25 miles from the west coast but flows east to its mouth on the North Se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many English rivers e.g. the Severn and theThames are longer than the Tay, the Tay carries a greater volume of water than any other British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undee is located on its estuar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539640" y="33336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Lower cours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981000"/>
            <a:ext cx="8352000" cy="440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" name="Text Box 11"/>
          <p:cNvSpPr/>
          <p:nvPr/>
        </p:nvSpPr>
        <p:spPr>
          <a:xfrm>
            <a:off x="464328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ox bow lak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012000" y="2637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limit of tidal influ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500364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more than 8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385128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eand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611280" y="198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broad, flat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116000" y="2565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gentle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5724360" y="422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embankments/leve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18"/>
          <p:cNvSpPr/>
          <p:nvPr/>
        </p:nvSpPr>
        <p:spPr>
          <a:xfrm flipV="1">
            <a:off x="7524720" y="3499920"/>
            <a:ext cx="792360" cy="7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8"/>
          <p:cNvSpPr/>
          <p:nvPr/>
        </p:nvSpPr>
        <p:spPr>
          <a:xfrm>
            <a:off x="755640" y="1052640"/>
            <a:ext cx="7201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feature is 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onfluence.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It occurs where a tributary joins the main stream or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ownstream of a confluence , the river increases in width. The discharge of a river (the volume of water it is carrying) also increases significant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bd10264_"/>
          <p:cNvPicPr/>
          <p:nvPr/>
        </p:nvPicPr>
        <p:blipFill>
          <a:blip r:embed="rId1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2"/>
          <p:cNvSpPr/>
          <p:nvPr/>
        </p:nvSpPr>
        <p:spPr>
          <a:xfrm>
            <a:off x="6227640" y="126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terlocking sp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012000" y="2565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16" descr="resized"/>
          <p:cNvPicPr/>
          <p:nvPr/>
        </p:nvPicPr>
        <p:blipFill>
          <a:blip r:embed="rId3"/>
          <a:stretch/>
        </p:blipFill>
        <p:spPr>
          <a:xfrm>
            <a:off x="826920" y="333360"/>
            <a:ext cx="4314960" cy="5759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63" name="Line 15"/>
          <p:cNvSpPr/>
          <p:nvPr/>
        </p:nvSpPr>
        <p:spPr>
          <a:xfrm flipH="1">
            <a:off x="4643280" y="278136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2987280" y="1413000"/>
            <a:ext cx="3097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5796000" y="429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bsence of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3995280" y="4508640"/>
            <a:ext cx="180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Line 20"/>
          <p:cNvSpPr/>
          <p:nvPr/>
        </p:nvSpPr>
        <p:spPr>
          <a:xfrm flipH="1">
            <a:off x="3132000" y="3716280"/>
            <a:ext cx="266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6156360" y="35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6012000" y="5300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rge bed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Line 23"/>
          <p:cNvSpPr/>
          <p:nvPr/>
        </p:nvSpPr>
        <p:spPr>
          <a:xfrm flipH="1">
            <a:off x="2484360" y="5445000"/>
            <a:ext cx="3240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Thornton Force Panorama copy"/>
          <p:cNvPicPr/>
          <p:nvPr/>
        </p:nvPicPr>
        <p:blipFill>
          <a:blip r:embed="rId3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74" name="Line 10"/>
          <p:cNvSpPr/>
          <p:nvPr/>
        </p:nvSpPr>
        <p:spPr>
          <a:xfrm flipV="1">
            <a:off x="1403280" y="2133360"/>
            <a:ext cx="0" cy="287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Line 11"/>
          <p:cNvSpPr/>
          <p:nvPr/>
        </p:nvSpPr>
        <p:spPr>
          <a:xfrm flipV="1">
            <a:off x="3419640" y="2708280"/>
            <a:ext cx="0" cy="2233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12"/>
          <p:cNvSpPr/>
          <p:nvPr/>
        </p:nvSpPr>
        <p:spPr>
          <a:xfrm flipV="1">
            <a:off x="6156360" y="3284280"/>
            <a:ext cx="0" cy="1657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14"/>
          <p:cNvSpPr/>
          <p:nvPr/>
        </p:nvSpPr>
        <p:spPr>
          <a:xfrm flipV="1">
            <a:off x="7740720" y="4005360"/>
            <a:ext cx="0" cy="1008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826920" y="515772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band of hard rock interrupts the river’s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2700360" y="494172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overhang develops where the softer rock below is eroded.  In time this will collap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292720" y="501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latively softer ro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7236000" y="51577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lunge p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539640" y="765000"/>
            <a:ext cx="8425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valley is a U-shaped valley in the Scottish Highlands.  It was eroded by ice during the Ice 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is much too large and deep to have been carved by the small river which now flows in 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iver is called a ‘misfit’ as it is not in keeping with the scale of its valle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the river is in a highland valley, it displays features of a valley in its lower course (meanders).  This is because the valley floor is so fl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6" descr="bd10264_"/>
          <p:cNvPicPr/>
          <p:nvPr/>
        </p:nvPicPr>
        <p:blipFill>
          <a:blip r:embed="rId1"/>
          <a:stretch/>
        </p:blipFill>
        <p:spPr>
          <a:xfrm>
            <a:off x="179280" y="63086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Upper course"/>
          <p:cNvPicPr/>
          <p:nvPr/>
        </p:nvPicPr>
        <p:blipFill>
          <a:blip r:embed="rId3"/>
          <a:stretch/>
        </p:blipFill>
        <p:spPr>
          <a:xfrm>
            <a:off x="755640" y="33336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8" name="Oval 20"/>
          <p:cNvSpPr/>
          <p:nvPr/>
        </p:nvSpPr>
        <p:spPr>
          <a:xfrm>
            <a:off x="2843280" y="692280"/>
            <a:ext cx="1081080" cy="57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211640" y="148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900000" y="155736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any small tributa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406600" y="2065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no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5148360" y="227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less than 8m w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2916360" y="2924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3276720" y="364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follows a relatively straight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4"/>
          <p:cNvSpPr/>
          <p:nvPr/>
        </p:nvSpPr>
        <p:spPr>
          <a:xfrm>
            <a:off x="1600200" y="1414440"/>
            <a:ext cx="1644480" cy="1508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3581280" y="1414440"/>
            <a:ext cx="1644840" cy="15080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5562720" y="1414440"/>
            <a:ext cx="1644480" cy="15080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1600200" y="3243240"/>
            <a:ext cx="1644480" cy="15080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3581280" y="3243240"/>
            <a:ext cx="1644840" cy="15080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5562720" y="3243240"/>
            <a:ext cx="1644480" cy="15080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1600200" y="5072040"/>
            <a:ext cx="1644480" cy="15080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3581280" y="5072040"/>
            <a:ext cx="1644840" cy="15080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5562720" y="5072040"/>
            <a:ext cx="1644480" cy="1508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47"/>
          <p:cNvSpPr/>
          <p:nvPr/>
        </p:nvSpPr>
        <p:spPr>
          <a:xfrm>
            <a:off x="826920" y="33336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Question of R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48">
            <a:hlinkClick r:id="rId1" action="ppaction://hlinksldjump"/>
          </p:cNvPr>
          <p:cNvSpPr/>
          <p:nvPr/>
        </p:nvSpPr>
        <p:spPr>
          <a:xfrm>
            <a:off x="2124000" y="1484280"/>
            <a:ext cx="719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2" action="ppaction://hlinksldjump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49">
            <a:hlinkClick r:id="rId3" action="ppaction://hlinksldjump"/>
          </p:cNvPr>
          <p:cNvSpPr/>
          <p:nvPr/>
        </p:nvSpPr>
        <p:spPr>
          <a:xfrm>
            <a:off x="5981760" y="1514520"/>
            <a:ext cx="7207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4" action="ppaction://hlinksldjump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50"/>
          <p:cNvSpPr/>
          <p:nvPr/>
        </p:nvSpPr>
        <p:spPr>
          <a:xfrm>
            <a:off x="4010040" y="15145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5" action="ppaction://hlinksldjump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1"/>
          <p:cNvSpPr/>
          <p:nvPr/>
        </p:nvSpPr>
        <p:spPr>
          <a:xfrm>
            <a:off x="2035080" y="332748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6" action="ppaction://hlinksldjump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4010040" y="33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7" action="ppaction://hlinksldjump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910120" y="33577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8" action="ppaction://hlinksldjump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54"/>
          <p:cNvSpPr/>
          <p:nvPr/>
        </p:nvSpPr>
        <p:spPr>
          <a:xfrm>
            <a:off x="2035080" y="51991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9" action="ppaction://hlinksldjump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55"/>
          <p:cNvSpPr/>
          <p:nvPr/>
        </p:nvSpPr>
        <p:spPr>
          <a:xfrm>
            <a:off x="4010040" y="51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0" action="ppaction://hlinksldjump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5838840" y="5157720"/>
            <a:ext cx="8636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1" action="ppaction://hlinksldjump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Img0978 resized"/>
          <p:cNvPicPr/>
          <p:nvPr/>
        </p:nvPicPr>
        <p:blipFill>
          <a:blip r:embed="rId2"/>
          <a:stretch/>
        </p:blipFill>
        <p:spPr>
          <a:xfrm>
            <a:off x="1908000" y="260280"/>
            <a:ext cx="5761080" cy="4321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98" name="Line 5"/>
          <p:cNvSpPr/>
          <p:nvPr/>
        </p:nvSpPr>
        <p:spPr>
          <a:xfrm flipV="1">
            <a:off x="2700360" y="3068280"/>
            <a:ext cx="0" cy="180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6"/>
          <p:cNvSpPr/>
          <p:nvPr/>
        </p:nvSpPr>
        <p:spPr>
          <a:xfrm flipV="1">
            <a:off x="7020000" y="2852280"/>
            <a:ext cx="0" cy="2089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16000" y="494172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inside of the meander water is flowing more slowly. This results in deposition and the formation of the slip-off slope or river beac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5219640" y="501336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outside of the meander water is flower more quickly. This results in erosion and the formation of a cut bank or river cliff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04920" y="30492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11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4" descr="Img0511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6840360" cy="512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88" name="Text Box 35"/>
          <p:cNvSpPr/>
          <p:nvPr/>
        </p:nvSpPr>
        <p:spPr>
          <a:xfrm>
            <a:off x="1258920" y="580536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ere the little circular depressions in the bedrock of this river form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5867280" y="1341360"/>
            <a:ext cx="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4356000" y="2637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5219640" y="1052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3276720" y="2205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4643280" y="836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3708360" y="191628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Tay south of perth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7524720" cy="3235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8" name="Text Box 40"/>
          <p:cNvSpPr/>
          <p:nvPr/>
        </p:nvSpPr>
        <p:spPr>
          <a:xfrm>
            <a:off x="684360" y="393372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is Scotland’s longest river. Which river is it? Into which body of water does it flow?  Scotland’s fourth largest city is located on its estuary?  Which city is it?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2" descr="Dundee and River Tay estuary resized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4114800" cy="2657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10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4" descr="Low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7704360" cy="406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3" name="Text Box 36"/>
          <p:cNvSpPr/>
          <p:nvPr/>
        </p:nvSpPr>
        <p:spPr>
          <a:xfrm>
            <a:off x="179280" y="4941720"/>
            <a:ext cx="180036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2700360" y="501336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1"/>
          <p:cNvSpPr/>
          <p:nvPr/>
        </p:nvSpPr>
        <p:spPr>
          <a:xfrm>
            <a:off x="5651640" y="141300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23" descr="Img0652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476280"/>
            <a:ext cx="662472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Text Box 24"/>
          <p:cNvSpPr/>
          <p:nvPr/>
        </p:nvSpPr>
        <p:spPr>
          <a:xfrm>
            <a:off x="1476360" y="5661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1547640" y="566100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26"/>
          <p:cNvSpPr/>
          <p:nvPr/>
        </p:nvSpPr>
        <p:spPr>
          <a:xfrm>
            <a:off x="3924360" y="2133720"/>
            <a:ext cx="2089080" cy="2087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1547640" y="57340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826920" y="573408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river feature occupies the centre of this photo? How does the river change downstream of the fea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4"/>
          <p:cNvSpPr/>
          <p:nvPr/>
        </p:nvSpPr>
        <p:spPr>
          <a:xfrm>
            <a:off x="6443640" y="170028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features identify  this stretch of river as part of its upper cour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25" descr="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549360"/>
            <a:ext cx="4370400" cy="5832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Thornton Force Panorama copy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1" name="Text Box 25"/>
          <p:cNvSpPr/>
          <p:nvPr/>
        </p:nvSpPr>
        <p:spPr>
          <a:xfrm>
            <a:off x="2050920" y="472428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y has a waterfall developed he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380880" y="22860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0" descr="Img091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333360"/>
            <a:ext cx="6409080" cy="4805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5" name="Text Box 31"/>
          <p:cNvSpPr/>
          <p:nvPr/>
        </p:nvSpPr>
        <p:spPr>
          <a:xfrm>
            <a:off x="1547640" y="530064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ould you know that this valley was not carved by the river which flows in it toda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9:45:47Z</dcterms:created>
  <dc:creator>VV</dc:creator>
  <dc:description/>
  <dc:language>en-US</dc:language>
  <cp:lastModifiedBy>RomaK</cp:lastModifiedBy>
  <dcterms:modified xsi:type="dcterms:W3CDTF">2015-09-04T09:44:49Z</dcterms:modified>
  <cp:revision>47</cp:revision>
  <dc:subject/>
  <dc:title>PowerPoint Presentation</dc:title>
</cp:coreProperties>
</file>