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5288-F2CC-4189-9A9A-F07553474CE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November 200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noe Journey Down the River Se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– To plan a river journey from Source to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November 2008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noe Journey Down the River Sev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– To plan a river journey from Source to 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ary – the Severn Bridge (low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uary – the Severn Bridge (low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t Plynlim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pp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s at Plynlim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Upper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Cours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per Course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ders on the Sev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ddle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nders on the Sever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iddle cour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ewsbury – in a me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rewsbury – in a me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ce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vern Bore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evern Bore 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C720-E736-4F5A-9757-8AD31DD8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B7C3-CD14-461C-A391-0338020A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AED0-5624-418C-AC6E-0D4E27129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8847-0591-4580-A48B-6780BEA1D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5E2F-8BCA-499E-A1A8-475028C2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8860-7B2B-4A1D-AA41-883EE21A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D0BA-C6DB-4E2C-A2C7-668556DE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EBCC-956F-45D1-93A0-645E9BF83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54D5-166E-4440-A4E4-2664B902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CEF2-E07D-42B9-9504-7E7AF53F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57EA-4225-437E-9FE3-E5FECB90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0DA1-1293-4E22-A5FA-777B1CF07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4E762-B64C-4AE1-9C53-2950CF4C7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hropshiretourism.info/mary-webb/trails/trail_2_map.htm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19 November 2008</a:t>
            </a:r>
            <a:br>
              <a:rPr sz="6000"/>
            </a:br>
            <a:br>
              <a:rPr sz="6000"/>
            </a:br>
            <a:r>
              <a:rPr b="1" lang="en-US" sz="6000" spc="-1" strike="noStrike" u="sng">
                <a:solidFill>
                  <a:srgbClr val="000000"/>
                </a:solidFill>
                <a:uFillTx/>
                <a:latin typeface="Comic Sans MS"/>
              </a:rPr>
              <a:t>A Canoe Journey Down the River Sever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5029200"/>
            <a:ext cx="624816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o – To plan a river journey from Source to Mo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Estuary – the Severn Bridge (lower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New_severn_bridge_best_750pix"/>
          <p:cNvPicPr/>
          <p:nvPr/>
        </p:nvPicPr>
        <p:blipFill>
          <a:blip r:embed="rId1"/>
          <a:stretch/>
        </p:blipFill>
        <p:spPr>
          <a:xfrm>
            <a:off x="1143000" y="1523880"/>
            <a:ext cx="7162920" cy="5119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evern"/>
          <p:cNvPicPr/>
          <p:nvPr/>
        </p:nvPicPr>
        <p:blipFill>
          <a:blip r:embed="rId1"/>
          <a:stretch/>
        </p:blipFill>
        <p:spPr>
          <a:xfrm>
            <a:off x="228600" y="0"/>
            <a:ext cx="8763120" cy="69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evern-boating map of River Severn"/>
          <p:cNvPicPr/>
          <p:nvPr/>
        </p:nvPicPr>
        <p:blipFill>
          <a:blip r:embed="rId1"/>
          <a:srcRect l="0" t="0" r="0" b="12687"/>
          <a:stretch/>
        </p:blipFill>
        <p:spPr>
          <a:xfrm>
            <a:off x="914400" y="0"/>
            <a:ext cx="7010280" cy="6813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tarts at Plynlimon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Upper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plyn"/>
          <p:cNvPicPr/>
          <p:nvPr/>
        </p:nvPicPr>
        <p:blipFill>
          <a:blip r:embed="rId1"/>
          <a:stretch/>
        </p:blipFill>
        <p:spPr>
          <a:xfrm>
            <a:off x="609480" y="1371600"/>
            <a:ext cx="3541680" cy="5076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Picture 7" descr="273616_842f86b2"/>
          <p:cNvPicPr/>
          <p:nvPr/>
        </p:nvPicPr>
        <p:blipFill>
          <a:blip r:embed="rId2"/>
          <a:stretch/>
        </p:blipFill>
        <p:spPr>
          <a:xfrm>
            <a:off x="4800600" y="1295280"/>
            <a:ext cx="3867120" cy="5153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Upper Course Fea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The Rapids"/>
          <p:cNvPicPr/>
          <p:nvPr/>
        </p:nvPicPr>
        <p:blipFill>
          <a:blip r:embed="rId1"/>
          <a:stretch/>
        </p:blipFill>
        <p:spPr>
          <a:xfrm>
            <a:off x="533520" y="1447920"/>
            <a:ext cx="4038480" cy="3289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4952520"/>
            <a:ext cx="40384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f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sev4"/>
          <p:cNvPicPr/>
          <p:nvPr/>
        </p:nvPicPr>
        <p:blipFill>
          <a:blip r:embed="rId2"/>
          <a:stretch/>
        </p:blipFill>
        <p:spPr>
          <a:xfrm>
            <a:off x="5029200" y="1371600"/>
            <a:ext cx="3664080" cy="5181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41148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eanders on the Severn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middle cours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Mary Webb M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80880"/>
            <a:ext cx="4497480" cy="615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River Severn"/>
          <p:cNvPicPr/>
          <p:nvPr/>
        </p:nvPicPr>
        <p:blipFill>
          <a:blip r:embed="rId3"/>
          <a:stretch/>
        </p:blipFill>
        <p:spPr>
          <a:xfrm>
            <a:off x="0" y="3352680"/>
            <a:ext cx="4876920" cy="3121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Shrewsbury – in a me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shrewsburyfull"/>
          <p:cNvPicPr/>
          <p:nvPr/>
        </p:nvPicPr>
        <p:blipFill>
          <a:blip r:embed="rId1"/>
          <a:stretch/>
        </p:blipFill>
        <p:spPr>
          <a:xfrm>
            <a:off x="685800" y="1066680"/>
            <a:ext cx="7562880" cy="5407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Worce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worcester04"/>
          <p:cNvPicPr/>
          <p:nvPr/>
        </p:nvPicPr>
        <p:blipFill>
          <a:blip r:embed="rId1"/>
          <a:stretch/>
        </p:blipFill>
        <p:spPr>
          <a:xfrm>
            <a:off x="990720" y="1066680"/>
            <a:ext cx="7315200" cy="5475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The Severn Bore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Severn%20Bore%20005"/>
          <p:cNvPicPr/>
          <p:nvPr/>
        </p:nvPicPr>
        <p:blipFill>
          <a:blip r:embed="rId1"/>
          <a:stretch/>
        </p:blipFill>
        <p:spPr>
          <a:xfrm>
            <a:off x="838080" y="1257480"/>
            <a:ext cx="7467840" cy="5600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5T11:32:13Z</dcterms:created>
  <dc:creator/>
  <dc:description/>
  <dc:language>en-US</dc:language>
  <cp:lastModifiedBy>RomaK</cp:lastModifiedBy>
  <dcterms:modified xsi:type="dcterms:W3CDTF">2015-09-04T09:44:55Z</dcterms:modified>
  <cp:revision>31</cp:revision>
  <dc:subject/>
  <dc:title>Slide 1</dc:title>
</cp:coreProperties>
</file>