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D7A7-9B73-4B54-A164-C07BC6E3BE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EFC-F054-41B2-8702-873287B2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F70-B0D4-48C2-B0A2-F6BF6BCB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E47-2E14-4F85-A7D7-E2E28264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538-4E6D-4A67-8D0C-D810592D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215-BA80-4B98-A724-C274A838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6C4-862A-451A-A184-65EDDF97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683-CE10-4D4C-B975-BBA5EAAD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D15-B969-43D6-9F76-73966A78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97A-93CB-4291-BEFC-92D5DBC0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B2C-1575-4270-86AB-EB6C58D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618-36C4-4E70-8260-DC726EEC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FEA-A2DF-4546-B8EC-1839AC9A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3072-30A4-4D12-BECC-5103685125F0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alt marsh"/>
          <p:cNvPicPr/>
          <p:nvPr/>
        </p:nvPicPr>
        <p:blipFill>
          <a:blip r:embed="rId1"/>
          <a:srcRect l="0" t="0" r="11539" b="11794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alt Marshes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biotic perspectiv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ia McGuire, Ph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lorida Sea Grant Extension Ag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EXTBlue654OlineOnWhite"/>
          <p:cNvPicPr/>
          <p:nvPr/>
        </p:nvPicPr>
        <p:blipFill>
          <a:blip r:embed="rId2"/>
          <a:stretch/>
        </p:blipFill>
        <p:spPr>
          <a:xfrm>
            <a:off x="2971800" y="5181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orida Sea Grant-blue"/>
          <p:cNvPicPr/>
          <p:nvPr/>
        </p:nvPicPr>
        <p:blipFill>
          <a:blip r:embed="rId3"/>
          <a:stretch/>
        </p:blipFill>
        <p:spPr>
          <a:xfrm>
            <a:off x="4952880" y="5181480"/>
            <a:ext cx="12956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majority of commercially-important marine species rely on estuaries/salt marsh at some stage of lif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amples include blue crab, oysters, hard clams, shrimp, red drum, seatrout, sheepshead, bluefish, mulle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salt marsh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rosion contro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ltr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ological term—amount of carbon produced per m² per unit tim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 kg (ash free dry weight)/m²/yea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miting factors include nutrients, l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alt marsh plants provide detritus for the estuarine food web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w grazers on blades (&lt; 10% of biomas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arge detrital biomass supports broad food web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ial salt marsh food we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094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sh 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438280" y="480060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128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ri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447920" y="5019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a, f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621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4100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65760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447920" y="3800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1911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98108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1447920" y="28195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1676520" y="281952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 flipV="1">
            <a:off x="4114800" y="46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343400" y="472428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H="1" flipV="1">
            <a:off x="2514600" y="28195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 flipV="1">
            <a:off x="4191120" y="2895120"/>
            <a:ext cx="2286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 flipH="1" flipV="1">
            <a:off x="2666880" y="2742840"/>
            <a:ext cx="28958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72200" y="563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t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9343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y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75438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7238880" y="48765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7"/>
          <p:cNvSpPr/>
          <p:nvPr/>
        </p:nvSpPr>
        <p:spPr>
          <a:xfrm flipH="1" flipV="1">
            <a:off x="6705360" y="365760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 flipV="1">
            <a:off x="7543800" y="380952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 flipH="1" flipV="1">
            <a:off x="5028840" y="27432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62485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6400800" y="2362320"/>
            <a:ext cx="1522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 flipV="1">
            <a:off x="4419720" y="2362320"/>
            <a:ext cx="190476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3"/>
          <p:cNvSpPr/>
          <p:nvPr/>
        </p:nvSpPr>
        <p:spPr>
          <a:xfrm flipV="1">
            <a:off x="2590920" y="2133720"/>
            <a:ext cx="3581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4"/>
          <p:cNvSpPr/>
          <p:nvPr/>
        </p:nvSpPr>
        <p:spPr>
          <a:xfrm flipH="1" flipV="1">
            <a:off x="1676520" y="3809880"/>
            <a:ext cx="22096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2081160" y="3657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r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 flipH="1" flipV="1">
            <a:off x="3047760" y="4190760"/>
            <a:ext cx="99036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7"/>
          <p:cNvSpPr/>
          <p:nvPr/>
        </p:nvSpPr>
        <p:spPr>
          <a:xfrm flipH="1" flipV="1">
            <a:off x="2285640" y="289512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8"/>
          <p:cNvSpPr/>
          <p:nvPr/>
        </p:nvSpPr>
        <p:spPr>
          <a:xfrm flipV="1">
            <a:off x="2971800" y="2895120"/>
            <a:ext cx="12952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3276720" y="2285640"/>
            <a:ext cx="2971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1"/>
          <p:cNvSpPr/>
          <p:nvPr/>
        </p:nvSpPr>
        <p:spPr>
          <a:xfrm flipH="1">
            <a:off x="4572000" y="358128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6858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lph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3"/>
          <p:cNvSpPr/>
          <p:nvPr/>
        </p:nvSpPr>
        <p:spPr>
          <a:xfrm flipH="1" flipV="1">
            <a:off x="1600200" y="20574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4"/>
          <p:cNvSpPr/>
          <p:nvPr/>
        </p:nvSpPr>
        <p:spPr>
          <a:xfrm flipH="1" flipV="1">
            <a:off x="4648320" y="441936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25909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6"/>
          <p:cNvSpPr/>
          <p:nvPr/>
        </p:nvSpPr>
        <p:spPr>
          <a:xfrm flipH="1" flipV="1">
            <a:off x="2437920" y="2895480"/>
            <a:ext cx="160020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ursery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eding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crohabita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eria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enth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quat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ressful environm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pid changes in temperature, salinity, water depth, dissolved oxyge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diment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salt marsh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community of emerged halophytic vegetation in areas alternately inundated and drained by tidal action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pansive inter- or supratidal areas occupied by rooted emergent vascular macrophytes and a variety of epiphytes and epifauna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480" y="52578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merg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ticking out of the water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Halophy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alt-loving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Inunda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flooded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acro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that’s large enough to se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growing on another organism but not a parasit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fau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animal version of epiph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are salt marshes fou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long intertidal shore of estu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at, protected wate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tensive from Maine-Florida, along Gulf coast from Florida-Tex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FL, most abundant north of the freeze line (70% of state’s salt marsh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alt marsh commu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grass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ociated halophytic (salt-tolerant) pla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rmanent reside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isito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spartina patens"/>
          <p:cNvPicPr/>
          <p:nvPr/>
        </p:nvPicPr>
        <p:blipFill>
          <a:blip r:embed="rId2"/>
          <a:srcRect l="14075" t="0" r="0" b="0"/>
          <a:stretch/>
        </p:blipFill>
        <p:spPr>
          <a:xfrm>
            <a:off x="5756400" y="1600200"/>
            <a:ext cx="3387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gr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alterniflor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mooth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Juncus roemerian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lack needle rush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Cladium mariscoid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wamp saw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pate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alt meadow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ociated pl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succul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ceptions include salt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edible (saltwort, glasswort, sea purslan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rm transitional zone between salt marsh and maritime hammoc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" name="Picture 5" descr="Glasswort-red"/>
          <p:cNvPicPr/>
          <p:nvPr/>
        </p:nvPicPr>
        <p:blipFill>
          <a:blip r:embed="rId1"/>
          <a:stretch/>
        </p:blipFill>
        <p:spPr>
          <a:xfrm>
            <a:off x="6172200" y="20574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zo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tertidal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, Junc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gh marsh (above mean high water)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Distichlis spicata, Batis maritim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alicorn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Borrich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ued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nearis, Limonium carolinan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pper edge of high marsh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Iva frutescens, Baccharis halmifol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rsh-mangrove transition z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iddler crabs"/>
          <p:cNvPicPr/>
          <p:nvPr/>
        </p:nvPicPr>
        <p:blipFill>
          <a:blip r:embed="rId1"/>
          <a:srcRect l="42394" t="13769" r="22826" b="31886"/>
          <a:stretch/>
        </p:blipFill>
        <p:spPr>
          <a:xfrm>
            <a:off x="6095880" y="3124080"/>
            <a:ext cx="279576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ident anim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ttorina irrora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periwinkle (snai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ddler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Uc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Sesarm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Geukensia demiss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bbed muss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" name="Picture 4" descr="Marsh periwinkle"/>
          <p:cNvPicPr/>
          <p:nvPr/>
        </p:nvPicPr>
        <p:blipFill>
          <a:blip r:embed="rId2"/>
          <a:srcRect l="10100" t="31253" r="6293" b="17504"/>
          <a:stretch/>
        </p:blipFill>
        <p:spPr>
          <a:xfrm>
            <a:off x="6400800" y="914400"/>
            <a:ext cx="2438280" cy="22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bbed mussel-NOAA"/>
          <p:cNvPicPr/>
          <p:nvPr/>
        </p:nvPicPr>
        <p:blipFill>
          <a:blip r:embed="rId3"/>
          <a:stretch/>
        </p:blipFill>
        <p:spPr>
          <a:xfrm>
            <a:off x="4267080" y="5257800"/>
            <a:ext cx="213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dal Marsh Visi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r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rim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amondback terrap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09:19Z</dcterms:created>
  <dc:creator>Maia P  McGUire</dc:creator>
  <dc:description/>
  <dc:language>en-US</dc:language>
  <cp:lastModifiedBy>RomaK</cp:lastModifiedBy>
  <dcterms:modified xsi:type="dcterms:W3CDTF">2015-09-04T09:45:03Z</dcterms:modified>
  <cp:revision>11</cp:revision>
  <dc:subject/>
  <dc:title>Salt Marshes -biotic perspectives</dc:title>
</cp:coreProperties>
</file>