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5.jpeg" ContentType="image/jpeg"/>
  <Override PartName="/ppt/media/image21.jpeg" ContentType="image/jpeg"/>
  <Override PartName="/ppt/media/image19.jpeg" ContentType="image/jpeg"/>
  <Override PartName="/ppt/media/image27.jpeg" ContentType="image/jpeg"/>
  <Override PartName="/ppt/media/image6.jpeg" ContentType="image/jpeg"/>
  <Override PartName="/ppt/media/image10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4.png" ContentType="image/pn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999DD-0D45-4B68-958E-A961E954F5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outh Americ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Continent S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VMS Library 2008-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th Americ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tinent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MS Library 2008-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mpas - Gras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Just below Buenos Ai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verage temperature is 18°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ry season is summer (Decemb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Ombu is tree like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pas - Grass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below Buenos A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temperature is 18°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season is summer (Decemb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mbu is tree like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eciduous 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outhern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Middle East coast of Paragu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Four distinct seas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Fall ▼             Winter ▼      Summer 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duous Fo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thern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ddle East coast of Paragu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distinct seas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ll ▼             Winter ▼      Summer 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Rain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Half of the rain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in the world is in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mazon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nfo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 of the rainfo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world is in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azon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Rain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Blue Poison Dart Fr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Blue/Go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Maca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info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 Poison Dart Fr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/G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avann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area between a rainforest            and dese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2.5 million sq kilometers                       {1/4 the size of Canada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vanna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rea between a rainforest            and dese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 million sq kilometers                       {1/4 the size of Canada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lpine Mount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ndes stretch 4,000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from the north to the south, thus making it the longest mountain range in the world. In Chile, it rises to over 20,000 fe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pine Mount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es stretch 4,000 m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north to the south, thus making it the longest mountain range in the world. In Chile, it rises to over 20,000 fe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Jagua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Piranha             Anaco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12-15 years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▄N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▄ 15-3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100-250 pound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▄N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▄ up to 300 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Vampire Bat   Galapagos Tortoise     Alpa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9 yea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▄ 100 yea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▄ 24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2 ounces                       ▄ 450 pound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▄130 p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aguar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Piranha             Anaco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▄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2-15 years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▄NA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▄ 15-30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0-250 pound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▄NA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▄ up to 300 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Vampire Bat   Galapagos Tortoise     Alpa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▄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9 year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▄ 100 years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▄ 24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▄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 ounces                       ▄ 450 pounds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▄130 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atellite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tellite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Longitude / Lat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ngitude / Lat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Unique Featur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Columbia supplies 90%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world production of Emeralds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riest place on earth is the             Atacama Desert in Argent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Venezuela has the highest                     uninterrupted water fall,                       Angel Falls at 3211 feet   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que Featur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umbia supplies 90%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ld production of Emeralds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est place on earth is the             Atacama Desert in Argent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ezuela has the highest                     uninterrupted water fall,                       Angel Falls at 3211 feet   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outh America’s Siz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4th largest cont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6,879,000 sq 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12% of the earth’s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th America’s Siz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th largest contin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,879,000 sq m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% of the earth’s 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Bodies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dies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mazon Riv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4,300 miles 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Flows through 6 count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No bridges cross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Satellite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azon Riv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,300 miles l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s through 6 count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bridges cross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ellite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Clim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lim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Dese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Atacama Desert is the worlds’ dri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Patagonian Desert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Largest in Americas/5th in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e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acama Desert is the worlds’ dri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◄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▄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tagonian Desert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st in Americas/5th in the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6AE0-6126-4818-9693-55D3F259B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D4BE-807A-4AAF-98A3-CF26CAC72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4085-F1CD-4EC4-B6EF-20EC9917E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1D9A-67A8-4929-A5D0-F1F89E8C4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F911E-90DD-41C0-A56B-E56821979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29237-BB29-47E1-AA5C-32AD7D0F9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647CC-82B2-468A-8697-BA534FC90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16C72-BE3B-463D-A3FE-67A5E690F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5EA0D-BB53-47A3-8D70-52EB632F7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760BC-2D97-4202-93F9-67A37C32D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C4853-D818-4202-A929-034F6A2F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BF7D-200A-4E94-B730-A3BB77480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19000-F4F8-4442-B2B8-BD4BA930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045BA-8004-4798-A08C-52CA461F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65FD9-0874-4102-B80E-28D87519E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758B1-E1C4-47A4-A9E8-E07068727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3264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71760" y="160020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69352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3264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71760" y="3964320"/>
            <a:ext cx="2036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C6179-1138-4A5C-BA7B-A7D70BE9E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822B-358A-407A-A23A-2249180B7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0250-5D95-49F1-AA66-BADB69EC2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8A30-EFD3-4796-A291-6CB30582D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703600" y="274320"/>
            <a:ext cx="6316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E520-EE27-48E3-BE79-2CDBF594E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8C91-1F72-4ECC-9E8A-CC8B360AE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35320" y="396432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226C-DDF2-4BE5-A225-31A38E68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35320" y="1600200"/>
            <a:ext cx="3087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3520" y="3964320"/>
            <a:ext cx="6326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5914-5BCF-483F-BBDE-578D8862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48A47-9D2D-4546-BC4C-2976CF555E7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169A6-8FC7-4FD3-81C5-D8AE93441C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320"/>
            <a:ext cx="63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AB1F5-61EA-453A-BBAD-C4A97E4E3F2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836CA-B1DB-4AE4-87BF-348BB09EFA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affiliates.allposters.com/link/redirect.asp?aid=721525&amp;c=c&amp;search=1570&amp;catupdate=1570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quality-jewelry-stores.com/templates/Aqua/img/emeralds.jpg&amp;imgrefurl=http://www.quality-jewelry-stores.com/p-emerald-birthstone-may.html&amp;h=600&amp;w=800&amp;sz=62&amp;hl=en&amp;start=3&amp;um=1&amp;usg=__RnxdI3jmkdjUgdxaJ789XAytbVk=&amp;tbnid=pl8dTz3BPgu52M:&amp;tbnh=107&amp;tbnw=143&amp;prev=/images%3Fq%3Demeralds%26um%3D1%26hl%3Den%26safe%3Dactive%26sa%3DN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com/imgres?imgurl=http://robertvail.ifrance.com/Salto%2520Angel%252001.jpg&amp;imgrefurl=http://gwuniversity.blogspot.com/2006/09/choron-y-canaima-venezuela.html&amp;h=758&amp;w=956&amp;sz=32&amp;hl=en&amp;start=8&amp;um=1&amp;usg=__SAmRukV6kkl4OQMcz2XYjz68nYg=&amp;tbnid=Q8GJqPudm6qrXM:&amp;tbnh=117&amp;tbnw=148&amp;prev=/images%3Fq%3Dsalto%2Bdel%2Bangel%26um%3D1%26hl%3Den%26safe%3Dactive%26sa%3DX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hyperlink" Target="http://images.google.com/imgres?imgurl=http://www.rickrichards.com/ac/AmazonRiver1B.jpg&amp;imgrefurl=http://www.rickrichards.com/ac/ac3dFawcett.html&amp;h=480&amp;w=321&amp;sz=22&amp;hl=en&amp;start=17&amp;um=1&amp;usg=__RKApm1opl9NWB6cq-ld6uikra3A=&amp;tbnid=W7abQ_6dbLFT2M:&amp;tbnh=129&amp;tbnw=86&amp;prev=/images%3Fq%3Damazon%2Briver%26um%3D1%26hl%3Den%26safe%3Dactive%26sa%3DN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maps.google.com/maps?hl=en&amp;tab=wl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48769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South America</a:t>
            </a:r>
            <a:br>
              <a:rPr sz="4800"/>
            </a:b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The Continent Se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029200" y="6087600"/>
            <a:ext cx="4114800" cy="7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VMS Library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3600" y="809280"/>
            <a:ext cx="6316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Pampas - Grassla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Just below Buenos 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Average temperature is 18°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Dry season is summer (Decemb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        ◄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Ombu is tree like 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pl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ombu2"/>
          <p:cNvPicPr/>
          <p:nvPr/>
        </p:nvPicPr>
        <p:blipFill>
          <a:blip r:embed="rId1"/>
          <a:stretch/>
        </p:blipFill>
        <p:spPr>
          <a:xfrm>
            <a:off x="3048120" y="3048120"/>
            <a:ext cx="2562120" cy="15620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pampas_gauchos"/>
          <p:cNvPicPr/>
          <p:nvPr/>
        </p:nvPicPr>
        <p:blipFill>
          <a:blip r:embed="rId2"/>
          <a:stretch/>
        </p:blipFill>
        <p:spPr>
          <a:xfrm>
            <a:off x="5867280" y="4114800"/>
            <a:ext cx="25146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03600" y="809280"/>
            <a:ext cx="6316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3ad0b"/>
                </a:solidFill>
                <a:latin typeface="Times New Roman"/>
              </a:rPr>
              <a:t>D</a:t>
            </a:r>
            <a:r>
              <a:rPr b="1" lang="en-US" sz="4800" spc="-1" strike="noStrike">
                <a:solidFill>
                  <a:srgbClr val="ffcc00"/>
                </a:solidFill>
                <a:latin typeface="Times New Roman"/>
              </a:rPr>
              <a:t>e</a:t>
            </a:r>
            <a:r>
              <a:rPr b="1" lang="en-US" sz="4800" spc="-1" strike="noStrike">
                <a:solidFill>
                  <a:srgbClr val="007000"/>
                </a:solidFill>
                <a:latin typeface="Times New Roman"/>
              </a:rPr>
              <a:t>c</a:t>
            </a:r>
            <a:r>
              <a:rPr b="1" lang="en-US" sz="4800" spc="-1" strike="noStrike">
                <a:solidFill>
                  <a:srgbClr val="0b7cc0"/>
                </a:solidFill>
                <a:latin typeface="Times New Roman"/>
              </a:rPr>
              <a:t>i</a:t>
            </a:r>
            <a:r>
              <a:rPr b="1" lang="en-US" sz="4800" spc="-1" strike="noStrike">
                <a:solidFill>
                  <a:srgbClr val="ccff33"/>
                </a:solidFill>
                <a:latin typeface="Times New Roman"/>
              </a:rPr>
              <a:t>d</a:t>
            </a:r>
            <a:r>
              <a:rPr b="1" lang="en-US" sz="4800" spc="-1" strike="noStrike">
                <a:solidFill>
                  <a:srgbClr val="ff9999"/>
                </a:solidFill>
                <a:latin typeface="Times New Roman"/>
              </a:rPr>
              <a:t>u</a:t>
            </a:r>
            <a:r>
              <a:rPr b="1" lang="en-US" sz="4800" spc="-1" strike="noStrike">
                <a:solidFill>
                  <a:srgbClr val="996633"/>
                </a:solidFill>
                <a:latin typeface="Times New Roman"/>
              </a:rPr>
              <a:t>o</a:t>
            </a:r>
            <a:r>
              <a:rPr b="1" lang="en-US" sz="4800" spc="-1" strike="noStrike">
                <a:solidFill>
                  <a:srgbClr val="660033"/>
                </a:solidFill>
                <a:latin typeface="Times New Roman"/>
              </a:rPr>
              <a:t>u</a:t>
            </a:r>
            <a:r>
              <a:rPr b="1" lang="en-US" sz="4800" spc="-1" strike="noStrike">
                <a:solidFill>
                  <a:srgbClr val="ff9900"/>
                </a:solidFill>
                <a:latin typeface="Times New Roman"/>
              </a:rPr>
              <a:t>s</a:t>
            </a: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 For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743200" y="152388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Southern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Middle East coast of Paragu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Four distinct sea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Fall ▼             Winter ▼      Summer 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pictemperate"/>
          <p:cNvPicPr/>
          <p:nvPr/>
        </p:nvPicPr>
        <p:blipFill>
          <a:blip r:embed="rId1"/>
          <a:stretch/>
        </p:blipFill>
        <p:spPr>
          <a:xfrm>
            <a:off x="2514600" y="3733920"/>
            <a:ext cx="1905120" cy="1431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forest_winter"/>
          <p:cNvPicPr/>
          <p:nvPr/>
        </p:nvPicPr>
        <p:blipFill>
          <a:blip r:embed="rId2"/>
          <a:stretch/>
        </p:blipFill>
        <p:spPr>
          <a:xfrm>
            <a:off x="4800600" y="3733920"/>
            <a:ext cx="1752480" cy="1376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temperate forest"/>
          <p:cNvPicPr/>
          <p:nvPr/>
        </p:nvPicPr>
        <p:blipFill>
          <a:blip r:embed="rId3"/>
          <a:stretch/>
        </p:blipFill>
        <p:spPr>
          <a:xfrm>
            <a:off x="7086600" y="3657600"/>
            <a:ext cx="11174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03600" y="809280"/>
            <a:ext cx="6316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ff"/>
                </a:solidFill>
                <a:latin typeface="Times New Roman"/>
              </a:rPr>
              <a:t>Rain</a:t>
            </a: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for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Half of the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rain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fo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in the world is in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Amazon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s_america-map2"/>
          <p:cNvPicPr/>
          <p:nvPr/>
        </p:nvPicPr>
        <p:blipFill>
          <a:blip r:embed="rId1"/>
          <a:stretch/>
        </p:blipFill>
        <p:spPr>
          <a:xfrm>
            <a:off x="5996160" y="1981080"/>
            <a:ext cx="3147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03600" y="809280"/>
            <a:ext cx="6316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ff"/>
                </a:solidFill>
                <a:latin typeface="Times New Roman"/>
              </a:rPr>
              <a:t>Rain</a:t>
            </a: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for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7115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                  ◄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Blue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Poison Dart Fr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 ◄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Blue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/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G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Mac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9" descr="gal07"/>
          <p:cNvPicPr/>
          <p:nvPr/>
        </p:nvPicPr>
        <p:blipFill>
          <a:blip r:embed="rId1"/>
          <a:stretch/>
        </p:blipFill>
        <p:spPr>
          <a:xfrm>
            <a:off x="6553080" y="2514600"/>
            <a:ext cx="2210040" cy="1415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KCH%2520Sarawak%2520-%2520Bako%2520National%2520Park%2520-%2520Tropical%2520rainforest2%25201_b"/>
          <p:cNvPicPr/>
          <p:nvPr/>
        </p:nvPicPr>
        <p:blipFill>
          <a:blip r:embed="rId2"/>
          <a:stretch/>
        </p:blipFill>
        <p:spPr>
          <a:xfrm>
            <a:off x="5486400" y="4419720"/>
            <a:ext cx="2362320" cy="15429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3" descr="blue_poison_dart_frog"/>
          <p:cNvPicPr/>
          <p:nvPr/>
        </p:nvPicPr>
        <p:blipFill>
          <a:blip r:embed="rId3"/>
          <a:stretch/>
        </p:blipFill>
        <p:spPr>
          <a:xfrm>
            <a:off x="2438280" y="1600200"/>
            <a:ext cx="2619360" cy="1876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7" descr="Blue &amp; Gold Macaw"/>
          <p:cNvPicPr/>
          <p:nvPr/>
        </p:nvPicPr>
        <p:blipFill>
          <a:blip r:embed="rId4"/>
          <a:stretch/>
        </p:blipFill>
        <p:spPr>
          <a:xfrm>
            <a:off x="2819520" y="3581280"/>
            <a:ext cx="14191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703600" y="809280"/>
            <a:ext cx="6316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Savanna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The area between a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rain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forest            and </a:t>
            </a: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dese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2.5 million sq kilometers                       {1/4 the size of Canad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savanna3_lg"/>
          <p:cNvPicPr/>
          <p:nvPr/>
        </p:nvPicPr>
        <p:blipFill>
          <a:blip r:embed="rId1"/>
          <a:stretch/>
        </p:blipFill>
        <p:spPr>
          <a:xfrm>
            <a:off x="3124080" y="3429000"/>
            <a:ext cx="355284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67341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Alpine Mountai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0" y="2133720"/>
            <a:ext cx="746748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sa_cont"/>
          <p:cNvPicPr/>
          <p:nvPr/>
        </p:nvPicPr>
        <p:blipFill>
          <a:blip r:embed="rId1"/>
          <a:stretch/>
        </p:blipFill>
        <p:spPr>
          <a:xfrm>
            <a:off x="6477120" y="1371600"/>
            <a:ext cx="2257200" cy="32004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6"/>
          <p:cNvSpPr/>
          <p:nvPr/>
        </p:nvSpPr>
        <p:spPr>
          <a:xfrm>
            <a:off x="2286000" y="1600200"/>
            <a:ext cx="4038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Andes stretch 4,000 m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from the north to the south, thus making it the longest mountain range in the world. In Chile, it rises to over 20,000 fe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Animal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560" y="380520"/>
            <a:ext cx="929628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Jaguar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Piranha             Anaco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12-15 years 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NA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15-30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100-250 pounds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NA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up to 300 pou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Vampire Bat   Galapagos Tortoise     Alpa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9 years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        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100 years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           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24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2 ounces                     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450 pounds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130 pou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5" descr="jaguar"/>
          <p:cNvPicPr/>
          <p:nvPr/>
        </p:nvPicPr>
        <p:blipFill>
          <a:blip r:embed="rId1"/>
          <a:stretch/>
        </p:blipFill>
        <p:spPr>
          <a:xfrm>
            <a:off x="533520" y="1371600"/>
            <a:ext cx="1657080" cy="1257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PIRANHA"/>
          <p:cNvPicPr/>
          <p:nvPr/>
        </p:nvPicPr>
        <p:blipFill>
          <a:blip r:embed="rId2"/>
          <a:stretch/>
        </p:blipFill>
        <p:spPr>
          <a:xfrm>
            <a:off x="2514600" y="1371600"/>
            <a:ext cx="1828800" cy="12762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anaconda"/>
          <p:cNvPicPr/>
          <p:nvPr/>
        </p:nvPicPr>
        <p:blipFill>
          <a:blip r:embed="rId3"/>
          <a:stretch/>
        </p:blipFill>
        <p:spPr>
          <a:xfrm>
            <a:off x="4724280" y="1371600"/>
            <a:ext cx="1876680" cy="12477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vampbat"/>
          <p:cNvPicPr/>
          <p:nvPr/>
        </p:nvPicPr>
        <p:blipFill>
          <a:blip r:embed="rId4"/>
          <a:stretch/>
        </p:blipFill>
        <p:spPr>
          <a:xfrm>
            <a:off x="2590920" y="4572000"/>
            <a:ext cx="1600200" cy="1085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" descr="galapagos"/>
          <p:cNvPicPr/>
          <p:nvPr/>
        </p:nvPicPr>
        <p:blipFill>
          <a:blip r:embed="rId5"/>
          <a:stretch/>
        </p:blipFill>
        <p:spPr>
          <a:xfrm>
            <a:off x="4724280" y="4572000"/>
            <a:ext cx="1905120" cy="12477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5" descr="alpaca"/>
          <p:cNvPicPr/>
          <p:nvPr/>
        </p:nvPicPr>
        <p:blipFill>
          <a:blip r:embed="rId6"/>
          <a:stretch/>
        </p:blipFill>
        <p:spPr>
          <a:xfrm>
            <a:off x="7543800" y="4572000"/>
            <a:ext cx="13510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4114800"/>
            <a:ext cx="9144000" cy="24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4192560" y="228600"/>
            <a:ext cx="3753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Satellite 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0" descr="In Affiliation with AllPosters.co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67080" y="1066680"/>
            <a:ext cx="379728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3600" y="809280"/>
            <a:ext cx="6316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Longitude / Latitud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world image"/>
          <p:cNvPicPr/>
          <p:nvPr/>
        </p:nvPicPr>
        <p:blipFill>
          <a:blip r:embed="rId1"/>
          <a:stretch/>
        </p:blipFill>
        <p:spPr>
          <a:xfrm>
            <a:off x="2362320" y="1523880"/>
            <a:ext cx="6400800" cy="29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27440" y="837720"/>
            <a:ext cx="6316560" cy="60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Times New Roman"/>
              </a:rPr>
              <a:t>Unique Features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37920" y="13716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▄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lumbia supplies 90% of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world production of Emeralds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▄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Driest place on earth is the             Atacama Desert in Argen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▄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Venezuela has the highest                     uninterrupted water fall,                       Angel Falls at 3211 fe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emerald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467480" y="1371600"/>
            <a:ext cx="1362240" cy="10191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Salto%2520Angel%25200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010280" y="3809880"/>
            <a:ext cx="1752840" cy="13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6248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South America’s Siz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04920" y="1219320"/>
            <a:ext cx="40384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4</a:t>
            </a:r>
            <a:r>
              <a:rPr b="1" lang="en-US" sz="2400" spc="-1" strike="noStrike" baseline="30000">
                <a:solidFill>
                  <a:srgbClr val="0066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largest conti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6,879,000 sq m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12% of the earth’s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south_america_pol98"/>
          <p:cNvPicPr/>
          <p:nvPr/>
        </p:nvPicPr>
        <p:blipFill>
          <a:blip r:embed="rId1"/>
          <a:stretch/>
        </p:blipFill>
        <p:spPr>
          <a:xfrm>
            <a:off x="4419720" y="990720"/>
            <a:ext cx="42847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487692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Bodies of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0066ff"/>
                </a:solidFill>
                <a:latin typeface="Times New Roman"/>
              </a:rPr>
              <a:t>Wat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0" descr="map"/>
          <p:cNvPicPr/>
          <p:nvPr/>
        </p:nvPicPr>
        <p:blipFill>
          <a:blip r:embed="rId1"/>
          <a:stretch/>
        </p:blipFill>
        <p:spPr>
          <a:xfrm>
            <a:off x="4419720" y="533520"/>
            <a:ext cx="4203720" cy="59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6" descr="amazon-river"/>
          <p:cNvPicPr/>
          <p:nvPr/>
        </p:nvPicPr>
        <p:blipFill>
          <a:blip r:embed="rId1"/>
          <a:stretch/>
        </p:blipFill>
        <p:spPr>
          <a:xfrm>
            <a:off x="2286000" y="4572000"/>
            <a:ext cx="2362320" cy="1574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8" descr="amazon-river-map"/>
          <p:cNvPicPr/>
          <p:nvPr/>
        </p:nvPicPr>
        <p:blipFill>
          <a:blip r:embed="rId2"/>
          <a:stretch/>
        </p:blipFill>
        <p:spPr>
          <a:xfrm>
            <a:off x="4724280" y="914400"/>
            <a:ext cx="3791160" cy="32004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9"/>
          <p:cNvSpPr/>
          <p:nvPr/>
        </p:nvSpPr>
        <p:spPr>
          <a:xfrm>
            <a:off x="380880" y="24156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Amazon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800" spc="-1" strike="noStrike">
                <a:solidFill>
                  <a:srgbClr val="0066ff"/>
                </a:solidFill>
                <a:latin typeface="Times New Roman"/>
              </a:rPr>
              <a:t>Riv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2" descr="AmazonRiver1B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19520" y="1219320"/>
            <a:ext cx="1726920" cy="25905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23"/>
          <p:cNvSpPr/>
          <p:nvPr/>
        </p:nvSpPr>
        <p:spPr>
          <a:xfrm>
            <a:off x="4799160" y="4572000"/>
            <a:ext cx="421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4,300 miles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Flows through 6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No bridges cross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7000"/>
                </a:solidFill>
                <a:uFillTx/>
                <a:latin typeface="Arial"/>
                <a:hlinkClick r:id="rId5"/>
              </a:rPr>
              <a:t>Satellite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733560" y="533160"/>
            <a:ext cx="41907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Times New Roman"/>
              </a:rPr>
              <a:t>Clima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9" descr="south_america_climate"/>
          <p:cNvPicPr/>
          <p:nvPr/>
        </p:nvPicPr>
        <p:blipFill>
          <a:blip r:embed="rId1"/>
          <a:stretch/>
        </p:blipFill>
        <p:spPr>
          <a:xfrm>
            <a:off x="3809880" y="1371600"/>
            <a:ext cx="43862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42840" y="762120"/>
            <a:ext cx="746748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3300"/>
                </a:solidFill>
                <a:latin typeface="Times New Roman"/>
              </a:rPr>
              <a:t>Deser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693520" y="1600200"/>
            <a:ext cx="6326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▄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Atacama Desert is the worlds’ dri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                              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▄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Patagonian Desert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Largest in Americas/5</a:t>
            </a:r>
            <a:r>
              <a:rPr b="1" lang="en-US" sz="2400" spc="-1" strike="noStrike" baseline="30000">
                <a:solidFill>
                  <a:srgbClr val="663300"/>
                </a:solidFill>
                <a:latin typeface="Arial"/>
              </a:rPr>
              <a:t>th</a:t>
            </a: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 in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atacama-desert"/>
          <p:cNvPicPr/>
          <p:nvPr/>
        </p:nvPicPr>
        <p:blipFill>
          <a:blip r:embed="rId1"/>
          <a:stretch/>
        </p:blipFill>
        <p:spPr>
          <a:xfrm>
            <a:off x="3124080" y="2057400"/>
            <a:ext cx="2133720" cy="1494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21"/>
          <p:cNvPicPr/>
          <p:nvPr/>
        </p:nvPicPr>
        <p:blipFill>
          <a:blip r:embed="rId2"/>
          <a:stretch/>
        </p:blipFill>
        <p:spPr>
          <a:xfrm>
            <a:off x="6095880" y="2819520"/>
            <a:ext cx="236232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6T17:37:41Z</dcterms:created>
  <dc:creator>Mr. Clutter</dc:creator>
  <dc:description/>
  <dc:language>en-US</dc:language>
  <cp:lastModifiedBy>RomaK</cp:lastModifiedBy>
  <dcterms:modified xsi:type="dcterms:W3CDTF">2015-09-04T09:45:21Z</dcterms:modified>
  <cp:revision>35</cp:revision>
  <dc:subject/>
  <dc:title>South America the continent</dc:title>
</cp:coreProperties>
</file>