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4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68CE-8F2D-4640-98EB-D5F2994F5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outh Amer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 Amer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mpas - 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Just below Buenos 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verage temperature is 18°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ry season is summer (Decemb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Ombu is tree like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pas - Gras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below Buenos A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temperature is 18°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season is summer (Decemb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mbu is tree like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ciduous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outhern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Middle East coast of Para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our distinct sea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all ▼             Winter ▼      Summer 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uous 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r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East coast of Para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distinct sea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l ▼             Winter ▼      Summer 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lf of the 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world is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mazon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of the rain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world is i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az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lue Poison Dart Fr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lue/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Mac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Poison Dart Fr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/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avann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area between a rainforest            and dese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.5 million sq kilometers                       {1/4 the size of Canada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ann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ea between a rainforest            and dese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 million sq kilometers                       {1/4 the size of Canada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lpine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ndes stretch 4,000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north to the south, thus making it the longest mountain range in the world. In Chile, it rises to over 20,000 f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ine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es stretch 4,000 m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north to the south, thus making it the longest mountain range in the world. In Chile, it rises to over 20,000 fe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Jagu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Piranha             Anaco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2-15 years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▄N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▄ 15-3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00-250 poun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▄N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▄ up to 300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ampire Bat   Galapagos Tortoise     Alpa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9 yea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▄ 100 yea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▄ 24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 ounces                       ▄ 450 pound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▄130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gua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Piranha             Anaco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-15 years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▄N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▄ 15-3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-250 pound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▄N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▄ up to 300 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ampire Bat   Galapagos Tortoise     Alpa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 year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▄ 100 year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▄ 24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ounces                       ▄ 450 pound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▄130 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Unique Featu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olumbia supplies 90%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world production of Emeralds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riest place on earth is the             Atacama Desert in Argen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enezuela has the highest                     uninterrupted water fall,                       Angel Falls at 3211 feet   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que Featu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umbia supplies 90%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production of Emeralds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est place on earth is the             Atacama Desert in Argen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ezuela has the highest                     uninterrupted water fall,                       Angel Falls at 3211 feet   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outh America’s Siz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4th largest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6,879,000 sq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2% of the earth’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 America’s Siz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th largest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879,000 sq m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% of the earth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odie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d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mazon Ri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4,300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lows through 6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o bridges cros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azon Riv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,300 miles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s through 6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bridges cros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tacama Desert is the worlds’ dri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tagonian Desert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Largest in Americas/5th in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acama Desert is the worlds’ dri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agonian Desert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in Americas/5th in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EC51-7BB4-441F-A21E-B567C24F4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8A73-2D21-4EF0-B0D7-4DD78189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BAED-E687-43E1-945E-D57E66E8A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74D0-D8BC-48FA-A39E-649EACC4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502C-74C8-4976-AB1D-063494DA1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8850-AA12-44AA-B265-B293818A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B474-62A6-4456-AB23-0623C540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EF40-B8BD-4687-AE3F-4E77C201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DE4E-9B70-4880-8734-5CA7EB12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D62D-CB4E-4130-AC46-846E6972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3DEC-D5D9-4AA5-A38E-0A7258D7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B792-0BAF-4D1C-9DA6-8740661D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8FD4-3B36-41FA-99E3-4B3454B6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0B47-E6FE-4DF1-B2F6-87385E3F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8697-28D1-44C6-AA04-6D118E97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F17F-DF3F-4E51-8F8F-53BC50B4C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951F-87CC-43A6-9A46-89FA071C4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C67C-8F85-4371-9B5C-11AFCD92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BF4B-8FA3-4BCE-BA81-2C0384DA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6498-F04D-41C1-AF7E-2DA6DEAF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895E-B27E-484B-B086-0F50CE70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909D-272D-46BB-9C88-38CE0ACF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0B29-4B59-4D8A-A371-694C9426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4C02-E2B8-43AA-ADA6-70C10503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E337-7AB4-4423-B754-60937C06992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8478-99BC-4CAD-8506-0C0B2C262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B16D-6849-4A4F-8722-268125E8F8C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D722-462B-47A7-ABD4-E9590E1A5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ffiliates.allposters.com/link/redirect.asp?aid=721525&amp;c=c&amp;search=1570&amp;catupdate=1570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quality-jewelry-stores.com/templates/Aqua/img/emeralds.jpg&amp;imgrefurl=http://www.quality-jewelry-stores.com/p-emerald-birthstone-may.html&amp;h=600&amp;w=800&amp;sz=62&amp;hl=en&amp;start=3&amp;um=1&amp;usg=__RnxdI3jmkdjUgdxaJ789XAytbVk=&amp;tbnid=pl8dTz3BPgu52M:&amp;tbnh=107&amp;tbnw=143&amp;prev=/images%3Fq%3Demeralds%26um%3D1%26hl%3Den%26safe%3Dactive%26sa%3D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robertvail.ifrance.com/Salto%2520Angel%252001.jpg&amp;imgrefurl=http://gwuniversity.blogspot.com/2006/09/choron-y-canaima-venezuela.html&amp;h=758&amp;w=956&amp;sz=32&amp;hl=en&amp;start=8&amp;um=1&amp;usg=__SAmRukV6kkl4OQMcz2XYjz68nYg=&amp;tbnid=Q8GJqPudm6qrXM:&amp;tbnh=117&amp;tbnw=148&amp;prev=/images%3Fq%3Dsalto%2Bdel%2Bangel%26um%3D1%26hl%3Den%26safe%3Dactive%26sa%3DX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www.rickrichards.com/ac/AmazonRiver1B.jpg&amp;imgrefurl=http://www.rickrichards.com/ac/ac3dFawcett.html&amp;h=480&amp;w=321&amp;sz=22&amp;hl=en&amp;start=17&amp;um=1&amp;usg=__RKApm1opl9NWB6cq-ld6uikra3A=&amp;tbnid=W7abQ_6dbLFT2M:&amp;tbnh=129&amp;tbnw=86&amp;prev=/images%3Fq%3Damazon%2Briver%26um%3D1%26hl%3Den%26safe%3Dactive%26sa%3DN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maps.google.com/maps?hl=en&amp;tab=w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4876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outh America</a:t>
            </a:r>
            <a:br>
              <a:rPr sz="4800"/>
            </a:b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The Continent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29200" y="6087600"/>
            <a:ext cx="41148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VMS Library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Pampas - Grass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Just below Buenos 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verage temperature is 18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ry season is summer (Decem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◄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Ombu is tree like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ombu2"/>
          <p:cNvPicPr/>
          <p:nvPr/>
        </p:nvPicPr>
        <p:blipFill>
          <a:blip r:embed="rId1"/>
          <a:stretch/>
        </p:blipFill>
        <p:spPr>
          <a:xfrm>
            <a:off x="3048120" y="3048120"/>
            <a:ext cx="2562120" cy="1562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pampas_gauchos"/>
          <p:cNvPicPr/>
          <p:nvPr/>
        </p:nvPicPr>
        <p:blipFill>
          <a:blip r:embed="rId2"/>
          <a:stretch/>
        </p:blipFill>
        <p:spPr>
          <a:xfrm>
            <a:off x="5867280" y="4114800"/>
            <a:ext cx="25146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3ad0b"/>
                </a:solidFill>
                <a:latin typeface="Times New Roman"/>
              </a:rPr>
              <a:t>D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e</a:t>
            </a:r>
            <a:r>
              <a:rPr b="1" lang="en-US" sz="4800" spc="-1" strike="noStrike">
                <a:solidFill>
                  <a:srgbClr val="007000"/>
                </a:solidFill>
                <a:latin typeface="Times New Roman"/>
              </a:rPr>
              <a:t>c</a:t>
            </a:r>
            <a:r>
              <a:rPr b="1" lang="en-US" sz="4800" spc="-1" strike="noStrike">
                <a:solidFill>
                  <a:srgbClr val="0b7cc0"/>
                </a:solidFill>
                <a:latin typeface="Times New Roman"/>
              </a:rPr>
              <a:t>i</a:t>
            </a:r>
            <a:r>
              <a:rPr b="1" lang="en-US" sz="4800" spc="-1" strike="noStrike">
                <a:solidFill>
                  <a:srgbClr val="ccff33"/>
                </a:solidFill>
                <a:latin typeface="Times New Roman"/>
              </a:rPr>
              <a:t>d</a:t>
            </a:r>
            <a:r>
              <a:rPr b="1" lang="en-US" sz="4800" spc="-1" strike="noStrike">
                <a:solidFill>
                  <a:srgbClr val="ff9999"/>
                </a:solidFill>
                <a:latin typeface="Times New Roman"/>
              </a:rPr>
              <a:t>u</a:t>
            </a:r>
            <a:r>
              <a:rPr b="1" lang="en-US" sz="4800" spc="-1" strike="noStrike">
                <a:solidFill>
                  <a:srgbClr val="996633"/>
                </a:solidFill>
                <a:latin typeface="Times New Roman"/>
              </a:rPr>
              <a:t>o</a:t>
            </a:r>
            <a:r>
              <a:rPr b="1" lang="en-US" sz="4800" spc="-1" strike="noStrike">
                <a:solidFill>
                  <a:srgbClr val="660033"/>
                </a:solidFill>
                <a:latin typeface="Times New Roman"/>
              </a:rPr>
              <a:t>u</a:t>
            </a:r>
            <a:r>
              <a:rPr b="1" lang="en-US" sz="4800" spc="-1" strike="noStrike">
                <a:solidFill>
                  <a:srgbClr val="ff9900"/>
                </a:solidFill>
                <a:latin typeface="Times New Roman"/>
              </a:rPr>
              <a:t>s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 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743200" y="15238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outher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iddle East coast of Paragu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ur distinct s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all ▼             Winter ▼      Summer 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pictemperate"/>
          <p:cNvPicPr/>
          <p:nvPr/>
        </p:nvPicPr>
        <p:blipFill>
          <a:blip r:embed="rId1"/>
          <a:stretch/>
        </p:blipFill>
        <p:spPr>
          <a:xfrm>
            <a:off x="2514600" y="3733920"/>
            <a:ext cx="1905120" cy="1431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forest_winter"/>
          <p:cNvPicPr/>
          <p:nvPr/>
        </p:nvPicPr>
        <p:blipFill>
          <a:blip r:embed="rId2"/>
          <a:stretch/>
        </p:blipFill>
        <p:spPr>
          <a:xfrm>
            <a:off x="4800600" y="3733920"/>
            <a:ext cx="1752480" cy="137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temperate forest"/>
          <p:cNvPicPr/>
          <p:nvPr/>
        </p:nvPicPr>
        <p:blipFill>
          <a:blip r:embed="rId3"/>
          <a:stretch/>
        </p:blipFill>
        <p:spPr>
          <a:xfrm>
            <a:off x="7086600" y="3657600"/>
            <a:ext cx="1117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Rain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Half of the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rain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n the world is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mazo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s_america-map2"/>
          <p:cNvPicPr/>
          <p:nvPr/>
        </p:nvPicPr>
        <p:blipFill>
          <a:blip r:embed="rId1"/>
          <a:stretch/>
        </p:blipFill>
        <p:spPr>
          <a:xfrm>
            <a:off x="5996160" y="1981080"/>
            <a:ext cx="314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Times New Roman"/>
              </a:rPr>
              <a:t>Rain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711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                 ◄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Blue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Poison Dart Fr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◄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Blue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G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ac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gal07"/>
          <p:cNvPicPr/>
          <p:nvPr/>
        </p:nvPicPr>
        <p:blipFill>
          <a:blip r:embed="rId1"/>
          <a:stretch/>
        </p:blipFill>
        <p:spPr>
          <a:xfrm>
            <a:off x="6553080" y="2514600"/>
            <a:ext cx="2210040" cy="1415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KCH%2520Sarawak%2520-%2520Bako%2520National%2520Park%2520-%2520Tropical%2520rainforest2%25201_b"/>
          <p:cNvPicPr/>
          <p:nvPr/>
        </p:nvPicPr>
        <p:blipFill>
          <a:blip r:embed="rId2"/>
          <a:stretch/>
        </p:blipFill>
        <p:spPr>
          <a:xfrm>
            <a:off x="5486400" y="4419720"/>
            <a:ext cx="2362320" cy="1542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blue_poison_dart_frog"/>
          <p:cNvPicPr/>
          <p:nvPr/>
        </p:nvPicPr>
        <p:blipFill>
          <a:blip r:embed="rId3"/>
          <a:stretch/>
        </p:blipFill>
        <p:spPr>
          <a:xfrm>
            <a:off x="2438280" y="1600200"/>
            <a:ext cx="2619360" cy="1876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Blue &amp; Gold Macaw"/>
          <p:cNvPicPr/>
          <p:nvPr/>
        </p:nvPicPr>
        <p:blipFill>
          <a:blip r:embed="rId4"/>
          <a:stretch/>
        </p:blipFill>
        <p:spPr>
          <a:xfrm>
            <a:off x="2819520" y="3581280"/>
            <a:ext cx="14191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avanna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he area between a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rain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rest            and </a:t>
            </a: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des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2.5 million sq kilometers                       {1/4 the size of Canad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savanna3_lg"/>
          <p:cNvPicPr/>
          <p:nvPr/>
        </p:nvPicPr>
        <p:blipFill>
          <a:blip r:embed="rId1"/>
          <a:stretch/>
        </p:blipFill>
        <p:spPr>
          <a:xfrm>
            <a:off x="3124080" y="3429000"/>
            <a:ext cx="355284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67341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Alpine Mountai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2133720"/>
            <a:ext cx="7467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sa_cont"/>
          <p:cNvPicPr/>
          <p:nvPr/>
        </p:nvPicPr>
        <p:blipFill>
          <a:blip r:embed="rId1"/>
          <a:stretch/>
        </p:blipFill>
        <p:spPr>
          <a:xfrm>
            <a:off x="6477120" y="1371600"/>
            <a:ext cx="2257200" cy="3200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2286000" y="1600200"/>
            <a:ext cx="4038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ndes stretch 4,000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rom the north to the south, thus making it the longest mountain range in the world. In Chile, it rises to over 20,000 f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Anim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560" y="380520"/>
            <a:ext cx="92962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Jaguar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Piranha             Anaco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12-15 years 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NA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15-30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100-250 pounds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NA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up to 300 p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Vampire Bat   Galapagos Tortoise     Alpa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9 years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100 years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24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2 ounces        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450 pounds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130 p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jaguar"/>
          <p:cNvPicPr/>
          <p:nvPr/>
        </p:nvPicPr>
        <p:blipFill>
          <a:blip r:embed="rId1"/>
          <a:stretch/>
        </p:blipFill>
        <p:spPr>
          <a:xfrm>
            <a:off x="533520" y="1371600"/>
            <a:ext cx="1657080" cy="1257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PIRANHA"/>
          <p:cNvPicPr/>
          <p:nvPr/>
        </p:nvPicPr>
        <p:blipFill>
          <a:blip r:embed="rId2"/>
          <a:stretch/>
        </p:blipFill>
        <p:spPr>
          <a:xfrm>
            <a:off x="2514600" y="1371600"/>
            <a:ext cx="1828800" cy="1276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anaconda"/>
          <p:cNvPicPr/>
          <p:nvPr/>
        </p:nvPicPr>
        <p:blipFill>
          <a:blip r:embed="rId3"/>
          <a:stretch/>
        </p:blipFill>
        <p:spPr>
          <a:xfrm>
            <a:off x="4724280" y="1371600"/>
            <a:ext cx="1876680" cy="1247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vampbat"/>
          <p:cNvPicPr/>
          <p:nvPr/>
        </p:nvPicPr>
        <p:blipFill>
          <a:blip r:embed="rId4"/>
          <a:stretch/>
        </p:blipFill>
        <p:spPr>
          <a:xfrm>
            <a:off x="2590920" y="4572000"/>
            <a:ext cx="1600200" cy="1085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galapagos"/>
          <p:cNvPicPr/>
          <p:nvPr/>
        </p:nvPicPr>
        <p:blipFill>
          <a:blip r:embed="rId5"/>
          <a:stretch/>
        </p:blipFill>
        <p:spPr>
          <a:xfrm>
            <a:off x="4724280" y="4572000"/>
            <a:ext cx="1905120" cy="1247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alpaca"/>
          <p:cNvPicPr/>
          <p:nvPr/>
        </p:nvPicPr>
        <p:blipFill>
          <a:blip r:embed="rId6"/>
          <a:stretch/>
        </p:blipFill>
        <p:spPr>
          <a:xfrm>
            <a:off x="7543800" y="4572000"/>
            <a:ext cx="13510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4114800"/>
            <a:ext cx="9144000" cy="24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4192560" y="228600"/>
            <a:ext cx="375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atellite 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In Affiliation with AllPosters.c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1066680"/>
            <a:ext cx="3797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Longitude / Latitu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orld image"/>
          <p:cNvPicPr/>
          <p:nvPr/>
        </p:nvPicPr>
        <p:blipFill>
          <a:blip r:embed="rId1"/>
          <a:stretch/>
        </p:blipFill>
        <p:spPr>
          <a:xfrm>
            <a:off x="2362320" y="1523880"/>
            <a:ext cx="640080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27440" y="83772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Unique Features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7920" y="13716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▄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lumbia supplies 90%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world production of Emeralds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▄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Driest place on earth is the             Atacama Desert in 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▄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Venezuela has the highest                     uninterrupted water fall,                       Angel Falls at 3211 fe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emeral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137160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Salto%2520Angel%2520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10280" y="3809880"/>
            <a:ext cx="175284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outh America’s Si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4038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66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largest conti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6,879,000 sq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12% of the earth’s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south_america_pol98"/>
          <p:cNvPicPr/>
          <p:nvPr/>
        </p:nvPicPr>
        <p:blipFill>
          <a:blip r:embed="rId1"/>
          <a:stretch/>
        </p:blipFill>
        <p:spPr>
          <a:xfrm>
            <a:off x="4419720" y="990720"/>
            <a:ext cx="42847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487692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Bodies of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map"/>
          <p:cNvPicPr/>
          <p:nvPr/>
        </p:nvPicPr>
        <p:blipFill>
          <a:blip r:embed="rId1"/>
          <a:stretch/>
        </p:blipFill>
        <p:spPr>
          <a:xfrm>
            <a:off x="4419720" y="533520"/>
            <a:ext cx="420372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6" descr="amazon-river"/>
          <p:cNvPicPr/>
          <p:nvPr/>
        </p:nvPicPr>
        <p:blipFill>
          <a:blip r:embed="rId1"/>
          <a:stretch/>
        </p:blipFill>
        <p:spPr>
          <a:xfrm>
            <a:off x="2286000" y="4572000"/>
            <a:ext cx="2362320" cy="1574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amazon-river-map"/>
          <p:cNvPicPr/>
          <p:nvPr/>
        </p:nvPicPr>
        <p:blipFill>
          <a:blip r:embed="rId2"/>
          <a:stretch/>
        </p:blipFill>
        <p:spPr>
          <a:xfrm>
            <a:off x="4724280" y="914400"/>
            <a:ext cx="3791160" cy="32004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9"/>
          <p:cNvSpPr/>
          <p:nvPr/>
        </p:nvSpPr>
        <p:spPr>
          <a:xfrm>
            <a:off x="380880" y="24156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Amaz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66ff"/>
                </a:solidFill>
                <a:latin typeface="Times New Roman"/>
              </a:rPr>
              <a:t>Ri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2" descr="AmazonRiver1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1219320"/>
            <a:ext cx="1726920" cy="25905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23"/>
          <p:cNvSpPr/>
          <p:nvPr/>
        </p:nvSpPr>
        <p:spPr>
          <a:xfrm>
            <a:off x="4799160" y="4572000"/>
            <a:ext cx="421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4,300 miles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Flows through 6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o bridges cros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7000"/>
                </a:solidFill>
                <a:uFillTx/>
                <a:latin typeface="Arial"/>
                <a:hlinkClick r:id="rId5"/>
              </a:rPr>
              <a:t>Satellite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733560" y="533160"/>
            <a:ext cx="41907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Clim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south_america_climate"/>
          <p:cNvPicPr/>
          <p:nvPr/>
        </p:nvPicPr>
        <p:blipFill>
          <a:blip r:embed="rId1"/>
          <a:stretch/>
        </p:blipFill>
        <p:spPr>
          <a:xfrm>
            <a:off x="3809880" y="1371600"/>
            <a:ext cx="4386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42840" y="7621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Deser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▄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Atacama Desert is the worlds’ dr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Patagonian Desert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Largest in Americas/5</a:t>
            </a:r>
            <a:r>
              <a:rPr b="1" lang="en-US" sz="2400" spc="-1" strike="noStrike" baseline="30000">
                <a:solidFill>
                  <a:srgbClr val="6633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in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atacama-desert"/>
          <p:cNvPicPr/>
          <p:nvPr/>
        </p:nvPicPr>
        <p:blipFill>
          <a:blip r:embed="rId1"/>
          <a:stretch/>
        </p:blipFill>
        <p:spPr>
          <a:xfrm>
            <a:off x="3124080" y="2057400"/>
            <a:ext cx="2133720" cy="1494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21"/>
          <p:cNvPicPr/>
          <p:nvPr/>
        </p:nvPicPr>
        <p:blipFill>
          <a:blip r:embed="rId2"/>
          <a:stretch/>
        </p:blipFill>
        <p:spPr>
          <a:xfrm>
            <a:off x="6095880" y="2819520"/>
            <a:ext cx="23623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6T17:37:41Z</dcterms:created>
  <dc:creator>Mr. Clutter</dc:creator>
  <dc:description/>
  <dc:language>en-US</dc:language>
  <cp:lastModifiedBy>RomaK</cp:lastModifiedBy>
  <dcterms:modified xsi:type="dcterms:W3CDTF">2015-09-04T09:45:21Z</dcterms:modified>
  <cp:revision>35</cp:revision>
  <dc:subject/>
  <dc:title>South America the continent</dc:title>
</cp:coreProperties>
</file>