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laser.wav" ContentType="audio/x-wav"/>
  <Override PartName="/ppt/media/image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7FA4-0388-4D2C-A8C3-6262CAB400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0AD-6CE0-4875-9913-0EDAFC97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AAC-6E1E-47C4-8782-35AE4CB8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68A-A060-41D9-992E-2D04ECD6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963-D8E4-4162-A96F-B1B8434A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09ED4-9721-484B-80C4-F5BCF4B4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55D66-E595-444B-82D7-3A8A36F5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6ECB1-B8B1-4C67-846C-46C0581C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BC187-379A-4BC6-BF41-22A03B7E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CFC87-E9E3-4C70-9138-8D5FE29F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49FCF-59A2-4CB6-9C6A-C913071E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413B5-7D12-41D1-ACD1-4DABAFD7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21B-8CCC-4757-9E43-C10CFE64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B9118-C575-4123-8FAF-4DE7DC80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71F4D-3223-4E08-BACE-98FC1533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8F162-E2EE-4770-B7FD-37DB4C9C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060F9-87E1-4BE8-BF96-9D705AD6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60A81-3DD7-4EFB-BE93-00CCC8F5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F54-E8CD-4AD2-A086-9E76AAE6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960-404C-443C-9909-CCCB0D05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8E0-5E0A-49C7-ADF7-0C33381F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974-D516-4916-89F0-BA9A5FEB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64C-2B99-4B3A-9512-B0A30532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2F8-2801-4E57-AC22-F485CA02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70C-C63F-468B-855A-8E46CD97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C8EA-9753-452E-8B39-E473A7B439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D74A-0EFC-4583-AD0D-CAF2412130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ps.gov/nts/legisla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ppalachian Trail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Many??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36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,830 hike compl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recorded by A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7" descr="catrock3"/>
          <p:cNvPicPr/>
          <p:nvPr/>
        </p:nvPicPr>
        <p:blipFill>
          <a:blip r:embed="rId1"/>
          <a:stretch/>
        </p:blipFill>
        <p:spPr>
          <a:xfrm>
            <a:off x="2057400" y="1219320"/>
            <a:ext cx="4800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appalachian_trail_cling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gardenpath"/>
          <p:cNvPicPr/>
          <p:nvPr/>
        </p:nvPicPr>
        <p:blipFill>
          <a:blip r:embed="rId1"/>
          <a:stretch/>
        </p:blipFill>
        <p:spPr>
          <a:xfrm>
            <a:off x="2166840" y="0"/>
            <a:ext cx="486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01580"/>
          <p:cNvPicPr/>
          <p:nvPr/>
        </p:nvPicPr>
        <p:blipFill>
          <a:blip r:embed="rId1"/>
          <a:stretch/>
        </p:blipFill>
        <p:spPr>
          <a:xfrm>
            <a:off x="457200" y="558720"/>
            <a:ext cx="82296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ctsr2ezg[1]"/>
          <p:cNvPicPr/>
          <p:nvPr/>
        </p:nvPicPr>
        <p:blipFill>
          <a:blip r:embed="rId1"/>
          <a:stretch/>
        </p:blipFill>
        <p:spPr>
          <a:xfrm>
            <a:off x="2971800" y="1828800"/>
            <a:ext cx="3322800" cy="349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5 W’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The Appalachian Trail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ppalachian Tra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ontinuous marked footpath that goes from Katahdin in Maine to Springer Mountain in Georgia, a distance of about 2160 mi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h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j0286034"/>
          <p:cNvPicPr/>
          <p:nvPr/>
        </p:nvPicPr>
        <p:blipFill>
          <a:blip r:embed="rId1"/>
          <a:stretch/>
        </p:blipFill>
        <p:spPr>
          <a:xfrm>
            <a:off x="6705720" y="38088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j0286034"/>
          <p:cNvPicPr/>
          <p:nvPr/>
        </p:nvPicPr>
        <p:blipFill>
          <a:blip r:embed="rId2"/>
          <a:stretch/>
        </p:blipFill>
        <p:spPr>
          <a:xfrm>
            <a:off x="1523880" y="38088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j0297551"/>
          <p:cNvPicPr/>
          <p:nvPr/>
        </p:nvPicPr>
        <p:blipFill>
          <a:blip r:embed="rId1"/>
          <a:stretch/>
        </p:blipFill>
        <p:spPr>
          <a:xfrm>
            <a:off x="6796080" y="2895480"/>
            <a:ext cx="2347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5" descr="at-map"/>
          <p:cNvPicPr/>
          <p:nvPr/>
        </p:nvPicPr>
        <p:blipFill>
          <a:blip r:embed="rId1"/>
          <a:stretch/>
        </p:blipFill>
        <p:spPr>
          <a:xfrm>
            <a:off x="2057400" y="1143000"/>
            <a:ext cx="5334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and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National Trails System 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dopted late in 1968, made for a series of "national scenic trails" within the national park and forest sys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20:06:50Z</dcterms:created>
  <dc:creator>Earl F. Armstrong Jr.</dc:creator>
  <dc:description/>
  <dc:language>en-US</dc:language>
  <cp:lastModifiedBy>RomaK</cp:lastModifiedBy>
  <dcterms:modified xsi:type="dcterms:W3CDTF">2015-09-04T09:45:29Z</dcterms:modified>
  <cp:revision>12</cp:revision>
  <dc:subject/>
  <dc:title>The Appalachian Trail </dc:title>
</cp:coreProperties>
</file>