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laser.wav" ContentType="audio/x-wav"/>
  <Override PartName="/ppt/media/image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3E1-CA1C-428D-BCF4-046BD3C5F9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r. Arm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36, 7,830 hike completions have been recorded by A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000-Milers By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-19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-19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0-195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-19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0-197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4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-199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-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6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5 W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is a continuous marked footpath that goes from Katahdin in Maine to Springer Mountain in Georgia, a distance of about 2160 m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The trail is 216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he published his i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&amp;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ugust 14, 1937, the Appalachian Trail became a re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walk the whole trail or do a “thru hike” was Earl Sha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nd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Trails System Act, adopted late in 1968, made for a series of "national scenic trails" within the national park and forest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alachian Trail was the first trail to fall under this 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683-1B79-4D6F-869E-3A92E4FB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967-3C2F-46C3-8326-934F99D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D0E-262E-4A82-BC42-3110A672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FE7-F31C-4202-8134-AC4FD95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9A52C-4869-41E4-BDA0-2B1F965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63069-E8B1-4F1E-B305-04D26744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5FCED-0ED8-47A8-9A96-616B2C2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2BE6B-A609-43AB-895E-437FC717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FE80F-65CA-4176-AC02-88784EC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F1AD-891B-4C5E-A39B-88EAAF4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4C17D-0629-4C6C-8BCE-5DAB31C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3A8-3BFA-4F12-AA15-FEBD384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FB3E4-ABFD-4F39-B980-EDD6F39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630C8-C3F8-4D43-AE95-29265A3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C6DB-DDF2-4C31-8276-2CADB7D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D66FF-C499-4A2B-B2D0-5C7ABAE2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708F-EA7B-4FCB-9E3C-165B5615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B9A-833E-46C6-A6C1-9C4B112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AEB-5E09-4413-9D45-9C3D8D42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12B-96C4-4947-8751-D569B97A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17B-A302-418F-9CFD-0676AB61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3B9-6C96-4696-A8CA-A50B00F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25-571C-4B65-BFB2-9DF4AD1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3B3-0E4B-4B9F-9304-91D5B93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E17-1280-43BC-8931-B529B43F01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FD47-F8DC-44B6-9024-C144B2D08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ps.gov/nts/legisl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ppalachian Trail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Arm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Many??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1936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,830 hike comple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recorded by A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,000-Milers By Dec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0-19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0-194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-195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60-196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197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198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4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0-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-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361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7" descr="catrock3"/>
          <p:cNvPicPr/>
          <p:nvPr/>
        </p:nvPicPr>
        <p:blipFill>
          <a:blip r:embed="rId1"/>
          <a:stretch/>
        </p:blipFill>
        <p:spPr>
          <a:xfrm>
            <a:off x="2057400" y="12193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appalachian_trail_cling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gardenpath"/>
          <p:cNvPicPr/>
          <p:nvPr/>
        </p:nvPicPr>
        <p:blipFill>
          <a:blip r:embed="rId1"/>
          <a:stretch/>
        </p:blipFill>
        <p:spPr>
          <a:xfrm>
            <a:off x="2166840" y="0"/>
            <a:ext cx="486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01580"/>
          <p:cNvPicPr/>
          <p:nvPr/>
        </p:nvPicPr>
        <p:blipFill>
          <a:blip r:embed="rId1"/>
          <a:stretch/>
        </p:blipFill>
        <p:spPr>
          <a:xfrm>
            <a:off x="457200" y="558720"/>
            <a:ext cx="8229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ctsr2ezg[1]"/>
          <p:cNvPicPr/>
          <p:nvPr/>
        </p:nvPicPr>
        <p:blipFill>
          <a:blip r:embed="rId1"/>
          <a:stretch/>
        </p:blipFill>
        <p:spPr>
          <a:xfrm>
            <a:off x="2971800" y="1828800"/>
            <a:ext cx="3322800" cy="3492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5 W’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The Appalachian Trail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ppalachian Tra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ontinuous marked footpath that goes from Katahdin in Maine to Springer Mountain in Georgia, a distance of about 2160 mi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t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how many days would it take you to complete the Appalachian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t: The trail is 2160 miles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j0286034"/>
          <p:cNvPicPr/>
          <p:nvPr/>
        </p:nvPicPr>
        <p:blipFill>
          <a:blip r:embed="rId1"/>
          <a:stretch/>
        </p:blipFill>
        <p:spPr>
          <a:xfrm>
            <a:off x="6705720" y="38088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j0286034"/>
          <p:cNvPicPr/>
          <p:nvPr/>
        </p:nvPicPr>
        <p:blipFill>
          <a:blip r:embed="rId2"/>
          <a:stretch/>
        </p:blipFill>
        <p:spPr>
          <a:xfrm>
            <a:off x="1523880" y="380880"/>
            <a:ext cx="91944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lked 10 miles a day, it would take you 216 days or 7.2 months to complete the Appalachian Tr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j0297551"/>
          <p:cNvPicPr/>
          <p:nvPr/>
        </p:nvPicPr>
        <p:blipFill>
          <a:blip r:embed="rId1"/>
          <a:stretch/>
        </p:blipFill>
        <p:spPr>
          <a:xfrm>
            <a:off x="6796080" y="2895480"/>
            <a:ext cx="23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at-map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"brainchild" of Benton MacKaye, educated as a forester, who proposed connecting thread of already existing trai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1 he published his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&amp;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ugust 14, 1937, the Appalachian Trail became a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, however, the trail was no longer continuous. A hurricane destroyed much of it in 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person to walk the whole trail or do a “thru hike” was Earl Sha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o and Wh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National Trails System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opted late in 1968, made for a series of "national scenic trails" within the national park and forest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alachian Trail was the first trail to fall under this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20:06:50Z</dcterms:created>
  <dc:creator>Earl F. Armstrong Jr.</dc:creator>
  <dc:description/>
  <dc:language>en-US</dc:language>
  <cp:lastModifiedBy>RomaK</cp:lastModifiedBy>
  <dcterms:modified xsi:type="dcterms:W3CDTF">2015-09-04T09:45:29Z</dcterms:modified>
  <cp:revision>12</cp:revision>
  <dc:subject/>
  <dc:title>The Appalachian Trail </dc:title>
</cp:coreProperties>
</file>