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laser.wav" ContentType="audio/x-wav"/>
  <Override PartName="/ppt/media/image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45B0-7D84-4136-A9F6-30758CD00E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B36-67EC-40BA-9E20-62EEB571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A50-3D8A-47AC-902F-DDEC5947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50B-FE81-4259-9E06-4FA117EA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149-F6E8-4F33-9481-A4B7D03D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DCB9D-500A-4E3D-959F-B5B5C2C0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49356-4588-4389-8B65-A49F97A7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A7260-05C0-4930-AF2E-A51299E7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422CD-3FD9-4EFB-9B84-BF52A21A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4F003-2D22-4C01-A1A3-B7D0299D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619D7-6F0A-4D95-A4FA-4B44B4F5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7E923-E9C6-4791-BD84-148FDB82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493-42DA-43E2-A11A-C2ADBE9F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6B81F-68C9-4678-A39D-3C51F9A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91606-845E-4524-AB1D-FF694B1E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08D03-EFB3-4FC7-AC23-FE95FF58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D25B6-A3C7-470E-A871-70710299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9B539-93B6-45C5-AD60-1637E572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5A8-F23F-4CEC-BBE0-CBEBCC53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F8F-105A-421E-B195-F90CA34F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780-61DE-4F21-AD9B-2D26E82F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398-9737-4A83-B8E1-50C623CC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556-5450-47B2-92B9-61C0D7D5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8AF-36CA-4E06-B193-54A73C1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29F-4DF5-41A2-B131-B4D56D41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34D8-DB5A-408D-993B-C39ED0E276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1DBB-5C35-4DF4-AEE4-B923ACBEC0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ps.gov/nts/legisla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ppalachian Trail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Many??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36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,830 hike compl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recorded by A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7" descr="catrock3"/>
          <p:cNvPicPr/>
          <p:nvPr/>
        </p:nvPicPr>
        <p:blipFill>
          <a:blip r:embed="rId1"/>
          <a:stretch/>
        </p:blipFill>
        <p:spPr>
          <a:xfrm>
            <a:off x="2057400" y="1219320"/>
            <a:ext cx="4800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appalachian_trail_cling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gardenpath"/>
          <p:cNvPicPr/>
          <p:nvPr/>
        </p:nvPicPr>
        <p:blipFill>
          <a:blip r:embed="rId1"/>
          <a:stretch/>
        </p:blipFill>
        <p:spPr>
          <a:xfrm>
            <a:off x="2166840" y="0"/>
            <a:ext cx="486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01580"/>
          <p:cNvPicPr/>
          <p:nvPr/>
        </p:nvPicPr>
        <p:blipFill>
          <a:blip r:embed="rId1"/>
          <a:stretch/>
        </p:blipFill>
        <p:spPr>
          <a:xfrm>
            <a:off x="457200" y="558720"/>
            <a:ext cx="82296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ctsr2ezg[1]"/>
          <p:cNvPicPr/>
          <p:nvPr/>
        </p:nvPicPr>
        <p:blipFill>
          <a:blip r:embed="rId1"/>
          <a:stretch/>
        </p:blipFill>
        <p:spPr>
          <a:xfrm>
            <a:off x="2971800" y="1828800"/>
            <a:ext cx="3322800" cy="349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5 W’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The Appalachian Trail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ppalachian Tra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ontinuous marked footpath that goes from Katahdin in Maine to Springer Mountain in Georgia, a distance of about 2160 mi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h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j0286034"/>
          <p:cNvPicPr/>
          <p:nvPr/>
        </p:nvPicPr>
        <p:blipFill>
          <a:blip r:embed="rId1"/>
          <a:stretch/>
        </p:blipFill>
        <p:spPr>
          <a:xfrm>
            <a:off x="6705720" y="38088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j0286034"/>
          <p:cNvPicPr/>
          <p:nvPr/>
        </p:nvPicPr>
        <p:blipFill>
          <a:blip r:embed="rId2"/>
          <a:stretch/>
        </p:blipFill>
        <p:spPr>
          <a:xfrm>
            <a:off x="1523880" y="38088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j0297551"/>
          <p:cNvPicPr/>
          <p:nvPr/>
        </p:nvPicPr>
        <p:blipFill>
          <a:blip r:embed="rId1"/>
          <a:stretch/>
        </p:blipFill>
        <p:spPr>
          <a:xfrm>
            <a:off x="6796080" y="2895480"/>
            <a:ext cx="2347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5" descr="at-map"/>
          <p:cNvPicPr/>
          <p:nvPr/>
        </p:nvPicPr>
        <p:blipFill>
          <a:blip r:embed="rId1"/>
          <a:stretch/>
        </p:blipFill>
        <p:spPr>
          <a:xfrm>
            <a:off x="2057400" y="1143000"/>
            <a:ext cx="5334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and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National Trails System 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dopted late in 1968, made for a series of "national scenic trails" within the national park and forest sys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20:06:50Z</dcterms:created>
  <dc:creator>Earl F. Armstrong Jr.</dc:creator>
  <dc:description/>
  <dc:language>en-US</dc:language>
  <cp:lastModifiedBy>RomaK</cp:lastModifiedBy>
  <dcterms:modified xsi:type="dcterms:W3CDTF">2015-09-04T09:45:29Z</dcterms:modified>
  <cp:revision>12</cp:revision>
  <dc:subject/>
  <dc:title>The Appalachian Trail </dc:title>
</cp:coreProperties>
</file>