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7BC5-B1D5-44AB-8E1D-3D3C5560E7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functions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functions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Suspe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of the load like silt and clay (fine-grained) will float alo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may only be deposited when stream velocity reaches near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urbulence in the water is crucial in holding a load of sedi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usp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load like silt and clay (fine-grained) will float a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only be deposited when stream velocity reaches near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bulence in the water is crucial in holding a load of sed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minerals are transported in dissolved for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are transported in dissolve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 will drop its load wh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lume decr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decr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 will drop its load w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’s volume decreases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y seas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y region with high evap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ce of permeable ro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ding flood wa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’s volume decrease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region with high eva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permeabl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ding floo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’s speed decreases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la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calm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gently sloping pl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’s speed decrease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calm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gently sloping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a river depends on its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a function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lume of w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of water flow (dependent on gradi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a river depends on it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a function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water flow (dependent on gradi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 may erode in 4 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rasion/corra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ad carried by a river will grind against its bed and sid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rocess slowly wears the bed and sides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 may erode in 4 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rasion/corra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carried by a river will grind against its bed and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slowly wears the bed and sides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Attr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tr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Hydraulic 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turbulence in the wat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nning water causes friction in the joints of rocks in a stream chann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oints may be enlar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osened fragments of rocks get swept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Hydraulic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turbulence in th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 water causes friction in the joints of rocks in a stream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s may be enl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ned fragments of rocks get swept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Solution/Cor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ain minerals in rocks like limestone can be dissolved in wat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cks are then erod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olution/Cor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 minerals in rocks like limestone can be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are then ero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onship of velocity and sediment size to 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of velocity and sediment size to 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r and heavier rocks/gravels are dragged or rolled along the 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and heavier rocks/gravels are dragged or rolled along the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Saltation (saltim: by leaps/jum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altation (saltim: by leaps/jum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1CE-9141-4D17-8022-9203BF7D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6EF-CB34-4C59-B773-3F15C071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8CB-8192-49C1-8380-F5BEEB5C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6B67-0E06-4DA6-894C-602C6C76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74C3-F2FB-40BE-9B76-4BA567C3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CDF0-0C9C-464F-AB79-F9760FDB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882C-5504-43CB-B253-CB75565D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8DBE-4B29-47C1-9962-90E30E89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8056-1EF5-42FB-90C8-D3BE4195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366A-4B6A-4378-BE7B-0B77E6F8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0E8D-6C5C-4901-8B56-372B267F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9270-981F-4237-ABC0-F95BB31A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9B65-D58F-4ADC-B79D-26D6775D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4DE6-FCFD-4E39-8A62-789FBC03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1561-AAAB-4787-9AB5-D7C7085C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4669-D1C1-4B21-B692-E0EE956D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CDA5-1B13-41B6-B7D8-7C5E6E59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3900-C34F-4268-BF4D-795D5316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7A62-F310-4DED-AD03-C6350375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5D00-4554-40E7-B272-A12307C8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07BB-C946-4967-BDBC-06723ED5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7662-3112-4FC1-A8B7-BF42F500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C082-60B0-4101-8EFC-F7D928EB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67B4-F92C-4551-906C-E7C77F23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C2CB-6521-4AB1-97B0-9CA78A8E8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BAD1-104B-46B0-AE25-6721373E8D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09480" y="1676520"/>
            <a:ext cx="76964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functions of ri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2590920"/>
            <a:ext cx="80773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p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of the load like silt and clay (fine-grained) will float al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ay only be deposited when stream velocity reaches near 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bulence in the water is crucial in holding a load of sedi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7200" y="259092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minerals are transported in dissolved 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0880" y="1828800"/>
            <a:ext cx="8229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 will drop its load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de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de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80880" y="1828800"/>
            <a:ext cx="82296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’s volume decreases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y sea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y region with high 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ce of permeable r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ding flood wa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80880" y="1828800"/>
            <a:ext cx="8229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’s speed decreases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l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calm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gently sloping pl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80880" y="1828800"/>
            <a:ext cx="8229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rk of a river depends on its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a function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of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of water flow (dependent on gradi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09480" y="1676520"/>
            <a:ext cx="76964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 may erode in 4 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rasion/corra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 carried by a river will grind against its bed and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ocess slowly wears the bed and sides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Text Box 1027"/>
          <p:cNvSpPr/>
          <p:nvPr/>
        </p:nvSpPr>
        <p:spPr>
          <a:xfrm>
            <a:off x="609480" y="1676520"/>
            <a:ext cx="76964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tr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1676520"/>
            <a:ext cx="769644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draulic 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rk of turbulence in the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ning water causes friction in the joints of rocks in a stream cha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s may be enlar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sened fragments of rocks get swept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09480" y="1676520"/>
            <a:ext cx="7696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/Cor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tain minerals in rocks like limestone can be dissolved in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cks are then ero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1219320"/>
            <a:ext cx="8534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onship of velocity and sediment size to 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river (velocity &amp; load)"/>
          <p:cNvPicPr/>
          <p:nvPr/>
        </p:nvPicPr>
        <p:blipFill>
          <a:blip r:embed="rId1"/>
          <a:stretch/>
        </p:blipFill>
        <p:spPr>
          <a:xfrm>
            <a:off x="1143000" y="2362320"/>
            <a:ext cx="662940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6" descr="river (transport)"/>
          <p:cNvPicPr/>
          <p:nvPr/>
        </p:nvPicPr>
        <p:blipFill>
          <a:blip r:embed="rId1"/>
          <a:stretch/>
        </p:blipFill>
        <p:spPr>
          <a:xfrm>
            <a:off x="990720" y="2514600"/>
            <a:ext cx="6933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57200" y="2590920"/>
            <a:ext cx="8077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r and heavier rocks/gravels are dragged or rolled along the b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7200" y="259092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ltation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altim: by leaps/jum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12:44:59Z</dcterms:created>
  <dc:creator>Melvin Chng</dc:creator>
  <dc:description/>
  <dc:language>en-US</dc:language>
  <cp:lastModifiedBy>RomaK</cp:lastModifiedBy>
  <dcterms:modified xsi:type="dcterms:W3CDTF">2015-09-04T09:45:48Z</dcterms:modified>
  <cp:revision>7</cp:revision>
  <dc:subject/>
  <dc:title>The Work of Rivers</dc:title>
</cp:coreProperties>
</file>