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4C10-EAF6-4872-9AEB-67BB839EAE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rosional work of streams/rivers carves and shapes the landscape through which they flo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functions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rosional work of streams/rivers carves and shapes the landscape through which they f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functions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Suspen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of the load like silt and clay (fine-grained) will float alo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may only be deposited when stream velocity reaches near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urbulence in the water is crucial in holding a load of sedi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usp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 load like silt and clay (fine-grained) will float a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only be deposited when stream velocity reaches near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bulence in the water is crucial in holding a load of sed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minerals are transported in dissolved for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specially chemical solution derived from minerals like limestone or dolomi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are transported in dissolved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chemical solution derived from minerals like limestone or dolom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 will drop its load wh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olume decre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ed decre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 will drop its load w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’s volume decreases wh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y seas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y region with high evap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ce of permeable ro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ceding flood wa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’s volume decrease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region with high eva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permeabl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ding flood w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’s speed decreases wh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enters a lak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enters a calm s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enters a gently sloping pl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’s speed decrease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enters a 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enters a calm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enters a gently sloping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a river depends on its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a function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olume of wa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ed of water flow (dependent on gradie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a river depends on its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a function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of water flow (dependent on gradi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 may erode in 4 w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rasion/corra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ad carried by a river will grind against its bed and sid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process slowly wears the bed and sides a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 may erode in 4 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rasion/corra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carried by a river will grind against its bed and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slowly wears the bed and sides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Attr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thrown against the sides and bed of rivers, the load gets broken into smaller piec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tr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rown against the sides and bed of rivers, the load gets broken into smaller pie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Hydraulic 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turbulence in the wat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nning water causes friction in the joints of rocks in a stream chann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oints may be enlarg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osened fragments of rocks get swept a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Hydraulic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turbulence in th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ing water causes friction in the joints of rocks in a stream 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ts may be enl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ned fragments of rocks get swept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Solution/Cor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rtain minerals in rocks like limestone can be dissolved in wat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cks are then erod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Solution/Cor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tain minerals in rocks like limestone can be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are then ero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tionship of velocity and sediment size to 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 of velocity and sediment size to 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rger and heavier rocks/gravels are dragged or rolled along the b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and heavier rocks/gravels are dragged or rolled along the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Saltation (saltim: by leaps/jump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aller and lighter rock fragments and sand hop and bounce along the river b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times, the distinction between traction and saltation may be difficult to determ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altation (saltim: by leaps/jum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r and lighter rock fragments and sand hop and bounce along the river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imes, the distinction between traction and saltation may be difficult to deter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5CCF-9BC6-45F5-BF2D-CB886FD7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1014-AA6A-47DD-AECD-916F3DCE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C320-C50A-4107-91AA-AAB43CCE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D523-3DDE-4EE3-8648-3116058A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4E1D-12B5-4028-8484-B924F1E1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558D-43D5-44B8-9F88-86667707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964B-9D11-4768-B531-E9BB5B8A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5BC4-A013-4854-BC41-BFC078EA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A5FE-AD6B-4F0A-887B-13D8AA5A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DAF3-F569-4ED9-B10C-5C6F3C06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0E8F-497B-4AAF-AC2E-55562DE1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5632-FF69-4DC3-BD35-F7D5BAC0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8EDD-1AC4-41D0-8018-E68E7465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2C95-CD9F-4462-86CA-2C6258A7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271A-3766-4C7A-96C3-0618C5C3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7459-0E4F-4813-B360-C875F98D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1E24-5B76-40DA-98F1-AECC6D86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B8BF-A6CE-4C96-88C0-F50D317A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7246-AE75-4D68-A7D6-A4102040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AE3F-C682-4298-94B1-51B17E2C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5E05-BAE3-40F0-99D7-ED4768DF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7B61-AD9C-40E1-BD67-C9F2A6C1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8409-DD03-462D-A9F2-7B3E5FBC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7581-AE8A-4DF8-9858-1AC0CE83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A05F-1597-42E5-9AA8-733182333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8FB6-596E-431A-B866-62623F9D12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09480" y="1676520"/>
            <a:ext cx="76964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rosional work of streams/rivers carves and shapes the landscape through which they fl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functions of riv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" y="2590920"/>
            <a:ext cx="80773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sp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of the load like silt and clay (fine-grained) will float al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may only be deposited when stream velocity reaches near 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bulence in the water is crucial in holding a load of sedim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457200" y="2590920"/>
            <a:ext cx="80773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minerals are transported in dissolved 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pecially chemical solution derived from minerals like limestone or dolom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0880" y="1828800"/>
            <a:ext cx="8229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 will drop its load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decre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d decre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80880" y="1828800"/>
            <a:ext cx="82296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’s volume decreases w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y sea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y region with high eva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ce of permeable r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ding flood wa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80880" y="1828800"/>
            <a:ext cx="8229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’s speed decreases w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enters a la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enters a calm s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enters a gently sloping pl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80880" y="1828800"/>
            <a:ext cx="8229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rk of a river depends on its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a function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of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d of water flow (dependent on gradi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09480" y="1676520"/>
            <a:ext cx="76964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 may erode in 4 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brasion/corra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 carried by a river will grind against its bed and s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ocess slowly wears the bed and sides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Text Box 1027"/>
          <p:cNvSpPr/>
          <p:nvPr/>
        </p:nvSpPr>
        <p:spPr>
          <a:xfrm>
            <a:off x="609480" y="1676520"/>
            <a:ext cx="769644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tr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rown against the sides and bed of rivers, the load gets broken into smaller pie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09480" y="1676520"/>
            <a:ext cx="769644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draulic 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rk of turbulence in the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ning water causes friction in the joints of rocks in a stream chan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s may be enlarg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sened fragments of rocks get swept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09480" y="1676520"/>
            <a:ext cx="76964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ion/Cor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tain minerals in rocks like limestone can be dissolved in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cks are then ero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4920" y="1219320"/>
            <a:ext cx="85341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onship of velocity and sediment size to 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river (velocity &amp; load)"/>
          <p:cNvPicPr/>
          <p:nvPr/>
        </p:nvPicPr>
        <p:blipFill>
          <a:blip r:embed="rId1"/>
          <a:stretch/>
        </p:blipFill>
        <p:spPr>
          <a:xfrm>
            <a:off x="1143000" y="2362320"/>
            <a:ext cx="662940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6" descr="river (transport)"/>
          <p:cNvPicPr/>
          <p:nvPr/>
        </p:nvPicPr>
        <p:blipFill>
          <a:blip r:embed="rId1"/>
          <a:stretch/>
        </p:blipFill>
        <p:spPr>
          <a:xfrm>
            <a:off x="990720" y="2514600"/>
            <a:ext cx="6933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57200" y="2590920"/>
            <a:ext cx="8077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r and heavier rocks/gravels are dragged or rolled along the b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57200" y="2590920"/>
            <a:ext cx="80773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ltation 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altim: by leaps/jump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er and lighter rock fragments and sand hop and bounce along the river b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t times, the distinction between traction and saltation may be difficult to determi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1T12:44:59Z</dcterms:created>
  <dc:creator>Melvin Chng</dc:creator>
  <dc:description/>
  <dc:language>en-US</dc:language>
  <cp:lastModifiedBy>RomaK</cp:lastModifiedBy>
  <dcterms:modified xsi:type="dcterms:W3CDTF">2015-09-04T09:45:48Z</dcterms:modified>
  <cp:revision>7</cp:revision>
  <dc:subject/>
  <dc:title>The Work of Rivers</dc:title>
</cp:coreProperties>
</file>