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E40F-7A22-41A4-BA8F-A52B5AC42F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9D8-7B7F-46F4-844A-EAB5764B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5F2-F6CE-47E7-88AE-76E82F7A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101-1B07-4998-928A-F04CD6BD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6BD-17F5-4B0A-87B1-FE6E4D04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90E0-8458-4818-913A-00199DCA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199C-8B22-4CFA-B0F2-BC62EE12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0861-DD00-4DAC-ADBF-61ED6AAC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27CA-CBE1-4C51-BB79-3631A725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E72B-8939-4519-BDB1-94A6521D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855B-55F4-4FBE-AF51-CDD6FACC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28D4-5870-4D68-9ED5-C964C5B5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0ED-1182-45F5-8EF8-058C159F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4A02-4A9F-4871-BD19-9EF6B5CC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1E8A-DA13-4C75-B00F-F79A2896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A822-5E61-4FD3-A9F3-2B2D74ED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303B-B908-4664-B0B8-BEAA6692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B97C-0BBD-4E08-BB25-3D6C6389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B2C-4FEC-4081-8801-BA7B2ED3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D69-4337-46B4-9D1E-182EC854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F71-39B4-47A6-A4E9-41A297E7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F3F-3085-4009-B28E-E83C2F37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F20-9585-43DE-A49D-8F0B2284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7E7-56AB-4821-A8C1-2B22F663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D75-8E21-4BD3-A420-A5FA39B8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59A1-53AD-47D8-B1B1-E56038CE1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9EA7-841C-4051-BDE9-48576AA1E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259092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p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80880" y="1828800"/>
            <a:ext cx="8229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82880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609480" y="1676520"/>
            <a:ext cx="7696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r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76964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aulic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1676520"/>
            <a:ext cx="7696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/Cor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1219320"/>
            <a:ext cx="8534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river (velocity &amp; load)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river (transport)"/>
          <p:cNvPicPr/>
          <p:nvPr/>
        </p:nvPicPr>
        <p:blipFill>
          <a:blip r:embed="rId1"/>
          <a:stretch/>
        </p:blipFill>
        <p:spPr>
          <a:xfrm>
            <a:off x="990720" y="251460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" y="25909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tation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altim: by leaps/jum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2:44:59Z</dcterms:created>
  <dc:creator>Melvin Chng</dc:creator>
  <dc:description/>
  <dc:language>en-US</dc:language>
  <cp:lastModifiedBy>RomaK</cp:lastModifiedBy>
  <dcterms:modified xsi:type="dcterms:W3CDTF">2015-09-04T09:45:48Z</dcterms:modified>
  <cp:revision>7</cp:revision>
  <dc:subject/>
  <dc:title>The Work of Rivers</dc:title>
</cp:coreProperties>
</file>