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.gif" ContentType="image/gif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2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7.jpeg" ContentType="image/jpeg"/>
  <Override PartName="/ppt/media/image2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B5C6-1B3A-4663-B0B4-51EA582586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ORNADO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RNAD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Strong Are Tornad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ength is measured by the Fujita Scale.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0 = weakest, F5 = Strong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Strong Are Tornado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ngth is measured by the Fujita Scal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0 = weakest, F5 = Strong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Most Tornados Stro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tornados are potentially deadly, but most are actually relatively weak (74%)…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ly 1% of all tornados fall in the F4 – F5 ran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Most Tornados Stro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ornados are potentially deadly, but most are actually relatively weak (74%)…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1% of all tornados fall in the F4 – F5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’s Up With Xenia, OH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enia has been the target of several major tornados down through the year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recent: Sept. 2000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Notable: April 3, 1974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Up With Xenia, O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enia has been the target of several major tornados down through the year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recent: Sept. 2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Notable: April 3, 197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pt. 2000 Dam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re do you  think this Tornado ranked on the Fujita Scal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. 2000 Da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you  think this Tornado ranked on the Fujita Sc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pril 3, 1974 Torna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ril 3, 1974 Torn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ril 3, 1974 Dam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re do you think this tornado ranked on the Fujita Scal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ril 3, 1974 Da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you think this tornado ranked on the Fujita Sc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pt. 2000 = F3-F4 (Severe/Devastating Damage; Winds of 200-260 mph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ril 1974 = F5 (Incredible Damage; Winds of 260-300+ mph!!!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. 2000 = F3-F4 (Severe/Devastating Damage; Winds of 200-260 mp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ril 1974 = F5 (Incredible Damage; Winds of 260-300+ mph!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ck Revi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most tornados strong or weak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would cause more damage, an F1 or an F5 torna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uring which season do most tornados occur in the U.S.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the nickname of the region in the U.S. where many tornados occu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used to classify the intensity of tornad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nus**: How do experts think tornados for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most tornados strong or wea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would cause more damage, an F1 or an F5 torna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which season do most tornados occur in the U.S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ickname of the region in the U.S. where many tornados occu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used to classify the intensity of tornado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us**: How do experts think tornados for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ornados Really Sound Like Freight Trains?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interaxs.net/pub/hgr/xenia_tornado.mp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you think after listening to the Xenia Tornado of April 3, 1974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ornados Really Sound Like Freight Train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interaxs.net/pub/hgr/xenia_tornado.mp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after listening to the Xenia Tornado of April 3, 1974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s can exceed 300 mph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ound 1,000 occur on average each year in the U.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ll 80, injure 1,500 people each year on aver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have a path up to a mile wide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occur any time of the year, but peak during the spring (March-Jun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r most frequently in the central U.S. in a region nicknamed “Tornado Alley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rnado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s can exceed 300 mph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1,000 occur on average each year in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l 80, injure 1,500 people each year on a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have a path up to a mile wide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occur any time of the year, but peak during the spring (March-Ju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 most frequently in the central U.S. in a region nicknamed “Tornado Alle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rnado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Exactly Is A Torna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olently rotating column of air (Vortex) extending from a thunderstorm to the grou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xactly Is A Torna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tly rotating column of air (Vortex) extending from a thunderstorm to the 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 They For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ually, no one knows for sur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…We have a pretty good idea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y For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ually, no one knows for s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…We have a pretty good idea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p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fore a t-storm, a change in wind direction and an increase in speed forms an invisible, horizontal spinning effect in the lower atmosphere (at the base of the stor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a t-storm, a change in wind direction and an increase in speed forms an invisible, horizontal spinning effect in the lower atmosphere (at the base of the sto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p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sing air within the t-storm (updrafts) tilts the rotating air from horizontal to ver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ing air within the t-storm (updrafts) tilts the rotating air from horizontal to ver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p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tical rotation now extends 2-6 miles up into the t-storm. Now a tornado may form and extend from this area of rotation to the groun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ical rotation now extends 2-6 miles up into the t-storm. Now a tornado may form and extend from this area of rotation to the 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vection Dem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e basic principle behind a tornado vortex (funnel; column of fire in this cas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rm air moves up the vortex (updraf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ols and sinks as it funnels out of the top (downdraf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re air drawn in = faster and tighter sp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called a convection cy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cti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basic principle behind a tornado vortex (funnel; column of fire in this c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air moves up the vortex (updra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s and sinks as it funnels out of the top (downdra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e air drawn in = faster and tighter sp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called a convection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EC99-3806-44DA-9CB0-2E49FE370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970E-ACEB-4D20-9FC0-D79C3026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C70E-699F-4F0D-BD15-5D4E037D0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5E7C-98D6-4DB2-8355-2B2134375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A276-B547-4BDF-8A06-2D2776E2B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9CE4-5B26-4A85-AD5D-0B5394F1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D7E3-0E94-4945-8CE9-BB3FBAC1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E2F7-5DF9-4BD2-9037-9273BDE3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6743B-B539-4A4D-8535-F9E65350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4CB0-D70F-4735-9FC4-D4F7BA32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DAF9-0FE4-40B8-9232-08E4688A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40BB-42F5-4B5D-BE4F-7389BDEE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989D-91F4-4AD2-86AD-B9EEF59A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643F-CBA6-460A-9A01-0E21EEEA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A6B0-8FD4-4590-A8A7-3BDD5E4D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36BC-F293-4E72-87B5-1F2C33F1B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794F-25D6-48E6-AD02-16ABC8E26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73D7-4D20-43F4-A4CE-BBE3D3FD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03C4-FD1F-492D-A3E9-F20D1916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7FEF-C5AC-4465-BFBB-1FCF5303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3515-6A11-46D7-A26E-4A559D56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1762-642A-4365-99C0-8B0B9D15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87ED-B64B-4563-B3F0-328213D2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EB67-2DED-48C0-A5ED-EE7C5A21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70DC-343F-44C5-AB39-CA3380FA85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D9BF-7564-412A-BC74-7AB56EE480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nteraxs.net/pub/hgr/xenia_tornado.mp3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0021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WordArt 5"/>
          <p:cNvSpPr txBox="1"/>
          <p:nvPr/>
        </p:nvSpPr>
        <p:spPr>
          <a:xfrm>
            <a:off x="2286000" y="1752480"/>
            <a:ext cx="4800600" cy="232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ORNADO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ow Strong Are Tornados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ength is measured by the Fujita Scal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0 = weakest, F5 = Strong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fujita"/>
          <p:cNvPicPr/>
          <p:nvPr/>
        </p:nvPicPr>
        <p:blipFill>
          <a:blip r:embed="rId1"/>
          <a:stretch/>
        </p:blipFill>
        <p:spPr>
          <a:xfrm>
            <a:off x="838080" y="2666880"/>
            <a:ext cx="70866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re Most Tornados Strong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tornados are potentially deadly, but most are actually relatively weak (74%)…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y 1% of all tornados fall in the F4 – F5 r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0" descr="fujpie"/>
          <p:cNvPicPr/>
          <p:nvPr/>
        </p:nvPicPr>
        <p:blipFill>
          <a:blip r:embed="rId1"/>
          <a:stretch/>
        </p:blipFill>
        <p:spPr>
          <a:xfrm>
            <a:off x="1447920" y="3352680"/>
            <a:ext cx="6095880" cy="3353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’s Up With Xenia, OH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enia has been the target of several major tornados down through the year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recent: Sept. 200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Notable: April 3, 1974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0" descr="House%20gutted"/>
          <p:cNvPicPr/>
          <p:nvPr/>
        </p:nvPicPr>
        <p:blipFill>
          <a:blip r:embed="rId1"/>
          <a:stretch/>
        </p:blipFill>
        <p:spPr>
          <a:xfrm>
            <a:off x="4724280" y="3733920"/>
            <a:ext cx="3048120" cy="2189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Survived%20in%20bathroom"/>
          <p:cNvPicPr/>
          <p:nvPr/>
        </p:nvPicPr>
        <p:blipFill>
          <a:blip r:embed="rId2"/>
          <a:stretch/>
        </p:blipFill>
        <p:spPr>
          <a:xfrm>
            <a:off x="1295280" y="3733920"/>
            <a:ext cx="3200400" cy="2189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Dollar%20Tree"/>
          <p:cNvPicPr/>
          <p:nvPr/>
        </p:nvPicPr>
        <p:blipFill>
          <a:blip r:embed="rId3"/>
          <a:stretch/>
        </p:blipFill>
        <p:spPr>
          <a:xfrm>
            <a:off x="1295280" y="1295280"/>
            <a:ext cx="3200400" cy="2189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richard5"/>
          <p:cNvPicPr/>
          <p:nvPr/>
        </p:nvPicPr>
        <p:blipFill>
          <a:blip r:embed="rId4"/>
          <a:stretch/>
        </p:blipFill>
        <p:spPr>
          <a:xfrm>
            <a:off x="4724280" y="1295280"/>
            <a:ext cx="3048120" cy="21891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ept. 2000 Dama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4495680" y="62784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533520" y="6008760"/>
            <a:ext cx="133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do you  think this Tornado ranked on the Fujita Sca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pril 3, 1974 Tornad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2" name="Picture 6" descr="xenia060"/>
          <p:cNvPicPr/>
          <p:nvPr/>
        </p:nvPicPr>
        <p:blipFill>
          <a:blip r:embed="rId1"/>
          <a:stretch/>
        </p:blipFill>
        <p:spPr>
          <a:xfrm>
            <a:off x="838080" y="2209680"/>
            <a:ext cx="4038840" cy="3353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xenia03"/>
          <p:cNvPicPr/>
          <p:nvPr/>
        </p:nvPicPr>
        <p:blipFill>
          <a:blip r:embed="rId2"/>
          <a:stretch/>
        </p:blipFill>
        <p:spPr>
          <a:xfrm>
            <a:off x="5095800" y="1600200"/>
            <a:ext cx="3141720" cy="21891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xenia04"/>
          <p:cNvPicPr/>
          <p:nvPr/>
        </p:nvPicPr>
        <p:blipFill>
          <a:blip r:embed="rId3"/>
          <a:stretch/>
        </p:blipFill>
        <p:spPr>
          <a:xfrm>
            <a:off x="5079960" y="3941640"/>
            <a:ext cx="31734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pril 3, 1974 Dama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6" name="Picture 4" descr="xen8"/>
          <p:cNvPicPr/>
          <p:nvPr/>
        </p:nvPicPr>
        <p:blipFill>
          <a:blip r:embed="rId1"/>
          <a:stretch/>
        </p:blipFill>
        <p:spPr>
          <a:xfrm>
            <a:off x="76320" y="1219320"/>
            <a:ext cx="3024000" cy="2189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xen12"/>
          <p:cNvPicPr/>
          <p:nvPr/>
        </p:nvPicPr>
        <p:blipFill>
          <a:blip r:embed="rId2"/>
          <a:stretch/>
        </p:blipFill>
        <p:spPr>
          <a:xfrm>
            <a:off x="3151080" y="1219320"/>
            <a:ext cx="3021120" cy="21891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xen17"/>
          <p:cNvPicPr/>
          <p:nvPr/>
        </p:nvPicPr>
        <p:blipFill>
          <a:blip r:embed="rId3"/>
          <a:stretch/>
        </p:blipFill>
        <p:spPr>
          <a:xfrm>
            <a:off x="76320" y="3505320"/>
            <a:ext cx="2971800" cy="2189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" descr="xen9"/>
          <p:cNvPicPr/>
          <p:nvPr/>
        </p:nvPicPr>
        <p:blipFill>
          <a:blip r:embed="rId4"/>
          <a:stretch/>
        </p:blipFill>
        <p:spPr>
          <a:xfrm>
            <a:off x="3124080" y="3505320"/>
            <a:ext cx="3021120" cy="21891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5" descr="xen22"/>
          <p:cNvPicPr/>
          <p:nvPr/>
        </p:nvPicPr>
        <p:blipFill>
          <a:blip r:embed="rId5"/>
          <a:stretch/>
        </p:blipFill>
        <p:spPr>
          <a:xfrm>
            <a:off x="6248520" y="1238400"/>
            <a:ext cx="2895480" cy="2190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xen6"/>
          <p:cNvPicPr/>
          <p:nvPr/>
        </p:nvPicPr>
        <p:blipFill>
          <a:blip r:embed="rId6"/>
          <a:stretch/>
        </p:blipFill>
        <p:spPr>
          <a:xfrm>
            <a:off x="6248520" y="3505320"/>
            <a:ext cx="2895480" cy="22096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7"/>
          <p:cNvSpPr/>
          <p:nvPr/>
        </p:nvSpPr>
        <p:spPr>
          <a:xfrm>
            <a:off x="380880" y="59072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do you think this tornado ranked on the Fujita Sca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t. 2000 =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3-F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Severe/Devastating Damage; Winds of 200-260 mp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ril 1974 =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Incredible Damage; Winds of 260-300+ mph!!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4" descr="twister2"/>
          <p:cNvPicPr/>
          <p:nvPr/>
        </p:nvPicPr>
        <p:blipFill>
          <a:blip r:embed="rId1"/>
          <a:stretch/>
        </p:blipFill>
        <p:spPr>
          <a:xfrm>
            <a:off x="6105600" y="2260440"/>
            <a:ext cx="1123920" cy="866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twister2"/>
          <p:cNvPicPr/>
          <p:nvPr/>
        </p:nvPicPr>
        <p:blipFill>
          <a:blip r:embed="rId2"/>
          <a:stretch/>
        </p:blipFill>
        <p:spPr>
          <a:xfrm>
            <a:off x="6105600" y="4602240"/>
            <a:ext cx="112392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6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1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Quick Review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most tornados strong or wea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would cause more damage, an F1 or an F5 tornad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which season do most tornados occur in the U.S.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nickname of the region in the U.S. where many tornados occu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used to classify the intensity of tornado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nus**: How do experts think tornados for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0" name="Picture 5" descr="twister4"/>
          <p:cNvPicPr/>
          <p:nvPr/>
        </p:nvPicPr>
        <p:blipFill>
          <a:blip r:embed="rId1"/>
          <a:stretch/>
        </p:blipFill>
        <p:spPr>
          <a:xfrm>
            <a:off x="380880" y="1371600"/>
            <a:ext cx="2133720" cy="2874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twister1"/>
          <p:cNvPicPr/>
          <p:nvPr/>
        </p:nvPicPr>
        <p:blipFill>
          <a:blip r:embed="rId2"/>
          <a:stretch/>
        </p:blipFill>
        <p:spPr>
          <a:xfrm>
            <a:off x="4648320" y="1760400"/>
            <a:ext cx="4038480" cy="1868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twister3"/>
          <p:cNvPicPr/>
          <p:nvPr/>
        </p:nvPicPr>
        <p:blipFill>
          <a:blip r:embed="rId3"/>
          <a:stretch/>
        </p:blipFill>
        <p:spPr>
          <a:xfrm>
            <a:off x="0" y="4419720"/>
            <a:ext cx="4038480" cy="1868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intwist"/>
          <p:cNvPicPr/>
          <p:nvPr/>
        </p:nvPicPr>
        <p:blipFill>
          <a:blip r:embed="rId4"/>
          <a:stretch/>
        </p:blipFill>
        <p:spPr>
          <a:xfrm>
            <a:off x="6141960" y="4038480"/>
            <a:ext cx="3002040" cy="2189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orainbow"/>
          <p:cNvPicPr/>
          <p:nvPr/>
        </p:nvPicPr>
        <p:blipFill>
          <a:blip r:embed="rId5"/>
          <a:stretch/>
        </p:blipFill>
        <p:spPr>
          <a:xfrm>
            <a:off x="2819520" y="3352680"/>
            <a:ext cx="3340080" cy="24955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wizard"/>
          <p:cNvPicPr/>
          <p:nvPr/>
        </p:nvPicPr>
        <p:blipFill>
          <a:blip r:embed="rId6"/>
          <a:stretch/>
        </p:blipFill>
        <p:spPr>
          <a:xfrm>
            <a:off x="2362320" y="1295280"/>
            <a:ext cx="2832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o Tornados Really Sound Like Freight Trains?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interaxs.net/pub/hgr/xenia_tornado.mp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 you think after listening to the Xenia Tornado of April 3, 1974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twister2"/>
          <p:cNvPicPr/>
          <p:nvPr/>
        </p:nvPicPr>
        <p:blipFill>
          <a:blip r:embed="rId1"/>
          <a:stretch/>
        </p:blipFill>
        <p:spPr>
          <a:xfrm>
            <a:off x="533520" y="380880"/>
            <a:ext cx="1123920" cy="866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twister2"/>
          <p:cNvPicPr/>
          <p:nvPr/>
        </p:nvPicPr>
        <p:blipFill>
          <a:blip r:embed="rId2"/>
          <a:stretch/>
        </p:blipFill>
        <p:spPr>
          <a:xfrm>
            <a:off x="7378560" y="380880"/>
            <a:ext cx="1135080" cy="8636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s can exceed 300 mph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ound 1,000 occur on average each year in the U.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ll 80, injure 1,500 people each year on ave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have a path up to a mile wide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occur any time of the year, but peak during the spring (March-Ju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r most frequently in the central U.S. in a region nicknamed “Tornado Alle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WordArt 11"/>
          <p:cNvSpPr txBox="1"/>
          <p:nvPr/>
        </p:nvSpPr>
        <p:spPr>
          <a:xfrm>
            <a:off x="3048120" y="609480"/>
            <a:ext cx="2590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Tornado Fac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2" descr="002171"/>
          <p:cNvPicPr/>
          <p:nvPr/>
        </p:nvPicPr>
        <p:blipFill>
          <a:blip r:embed="rId1"/>
          <a:stretch/>
        </p:blipFill>
        <p:spPr>
          <a:xfrm>
            <a:off x="3240" y="0"/>
            <a:ext cx="9140760" cy="70102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Exactly Is A Tornado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olently rotating column of air (Vortex) extending from a thunderstorm to the g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18" descr="g-torn2"/>
          <p:cNvPicPr/>
          <p:nvPr/>
        </p:nvPicPr>
        <p:blipFill>
          <a:blip r:embed="rId2"/>
          <a:stretch/>
        </p:blipFill>
        <p:spPr>
          <a:xfrm>
            <a:off x="380880" y="3886200"/>
            <a:ext cx="2772000" cy="1924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0" descr="torn2"/>
          <p:cNvPicPr/>
          <p:nvPr/>
        </p:nvPicPr>
        <p:blipFill>
          <a:blip r:embed="rId3"/>
          <a:srcRect l="6533" t="2925" r="6533" b="5905"/>
          <a:stretch/>
        </p:blipFill>
        <p:spPr>
          <a:xfrm>
            <a:off x="5105520" y="2133720"/>
            <a:ext cx="30477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ow Do They Form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ually, no one knows for sur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…We have a pretty good idea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9" descr="form1"/>
          <p:cNvPicPr/>
          <p:nvPr/>
        </p:nvPicPr>
        <p:blipFill>
          <a:blip r:embed="rId1"/>
          <a:stretch/>
        </p:blipFill>
        <p:spPr>
          <a:xfrm>
            <a:off x="0" y="3962520"/>
            <a:ext cx="3048120" cy="2590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twister2"/>
          <p:cNvPicPr/>
          <p:nvPr/>
        </p:nvPicPr>
        <p:blipFill>
          <a:blip r:embed="rId2"/>
          <a:stretch/>
        </p:blipFill>
        <p:spPr>
          <a:xfrm>
            <a:off x="533520" y="304920"/>
            <a:ext cx="1123920" cy="866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twister2"/>
          <p:cNvPicPr/>
          <p:nvPr/>
        </p:nvPicPr>
        <p:blipFill>
          <a:blip r:embed="rId3"/>
          <a:stretch/>
        </p:blipFill>
        <p:spPr>
          <a:xfrm>
            <a:off x="7543800" y="304920"/>
            <a:ext cx="1123920" cy="866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form2"/>
          <p:cNvPicPr/>
          <p:nvPr/>
        </p:nvPicPr>
        <p:blipFill>
          <a:blip r:embed="rId4"/>
          <a:stretch/>
        </p:blipFill>
        <p:spPr>
          <a:xfrm>
            <a:off x="3048120" y="3962520"/>
            <a:ext cx="3047760" cy="2590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" descr="form3"/>
          <p:cNvPicPr/>
          <p:nvPr/>
        </p:nvPicPr>
        <p:blipFill>
          <a:blip r:embed="rId5"/>
          <a:stretch/>
        </p:blipFill>
        <p:spPr>
          <a:xfrm>
            <a:off x="6095880" y="3962520"/>
            <a:ext cx="30481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ep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fore a t-storm, a change in wind direction and an increase in speed forms an invisible, horizontal spinning effect in the lower atmosphere (at the base of the stor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form1"/>
          <p:cNvPicPr/>
          <p:nvPr/>
        </p:nvPicPr>
        <p:blipFill>
          <a:blip r:embed="rId1"/>
          <a:stretch/>
        </p:blipFill>
        <p:spPr>
          <a:xfrm>
            <a:off x="4038480" y="1828800"/>
            <a:ext cx="4724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ep 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ing air within the t-storm (updrafts) tilts the rotating air from horizontal to vert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form2"/>
          <p:cNvPicPr/>
          <p:nvPr/>
        </p:nvPicPr>
        <p:blipFill>
          <a:blip r:embed="rId1"/>
          <a:stretch/>
        </p:blipFill>
        <p:spPr>
          <a:xfrm>
            <a:off x="4495680" y="1828800"/>
            <a:ext cx="441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ep 3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tical rotation now extends 2-6 miles up into the t-storm. Now a tornado may form and extend from this area of rotation to the grou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form3"/>
          <p:cNvPicPr/>
          <p:nvPr/>
        </p:nvPicPr>
        <p:blipFill>
          <a:blip r:embed="rId1"/>
          <a:stretch/>
        </p:blipFill>
        <p:spPr>
          <a:xfrm>
            <a:off x="4495680" y="1828800"/>
            <a:ext cx="46483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nvection Dem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e basic principle behind a tornado vortex (funnel; column of fire in this ca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m air moves up the vortex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(updraf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ls and sinks as it funnels out of the top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(downdraf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re air drawn in = faster and tighter sp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called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nvection cy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15:30:45Z</dcterms:created>
  <dc:creator>s1250620</dc:creator>
  <dc:description/>
  <dc:language>en-US</dc:language>
  <cp:lastModifiedBy>RomaK</cp:lastModifiedBy>
  <dcterms:modified xsi:type="dcterms:W3CDTF">2015-09-04T09:45:56Z</dcterms:modified>
  <cp:revision>2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