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2.gif" ContentType="image/gif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0.jpeg" ContentType="image/jpeg"/>
  <Override PartName="/ppt/media/image4.wmf" ContentType="image/x-wmf"/>
  <Override PartName="/ppt/media/image6.png" ContentType="image/png"/>
  <Override PartName="/ppt/media/image36.jpeg" ContentType="image/jpeg"/>
  <Override PartName="/ppt/media/image40.png" ContentType="image/png"/>
  <Override PartName="/ppt/media/image11.jpeg" ContentType="image/jpeg"/>
  <Override PartName="/ppt/media/image9.jpeg" ContentType="image/jpeg"/>
  <Override PartName="/ppt/media/image41.png" ContentType="image/png"/>
  <Override PartName="/ppt/media/image30.png" ContentType="image/png"/>
  <Override PartName="/ppt/media/image8.jpeg" ContentType="image/jpeg"/>
  <Override PartName="/ppt/media/image42.png" ContentType="image/png"/>
  <Override PartName="/ppt/media/image44.jpeg" ContentType="image/jpeg"/>
  <Override PartName="/ppt/media/image34.png" ContentType="image/png"/>
  <Override PartName="/ppt/media/image35.png" ContentType="image/png"/>
  <Override PartName="/ppt/media/image45.jpeg" ContentType="image/jpeg"/>
  <Override PartName="/ppt/media/image46.png" ContentType="image/png"/>
  <Override PartName="/ppt/media/image31.png" ContentType="image/png"/>
  <Override PartName="/ppt/media/image43.png" ContentType="image/png"/>
  <Override PartName="/ppt/media/image47.jpeg" ContentType="image/jpeg"/>
  <Override PartName="/ppt/media/image13.jpeg" ContentType="image/jpeg"/>
  <Override PartName="/ppt/media/image20.jpeg" ContentType="image/jpeg"/>
  <Override PartName="/ppt/media/image37.png" ContentType="image/png"/>
  <Override PartName="/ppt/media/image7.png" ContentType="image/png"/>
  <Override PartName="/ppt/media/image1.jpeg" ContentType="image/jpeg"/>
  <Override PartName="/ppt/media/image39.png" ContentType="image/png"/>
  <Override PartName="/ppt/media/image22.jpeg" ContentType="image/jpeg"/>
  <Override PartName="/ppt/media/image38.jpeg" ContentType="image/jpeg"/>
  <Override PartName="/ppt/media/image5.gif" ContentType="image/gif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4BBA-3C71-4F60-BB43-93F1699967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to- means “layer-like” or “sheet-lik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-lying, dull-colored clouds that form in layers or shee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ually bring drizzling rain or light-falling snow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- means “layer-like” or “sheet-lik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ying, dull-colored clouds that form in layers or sh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bring drizzling rain or light-falling s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refix meaning “middle range of clouds “ and used to describe clouds that lie from 6,500-18,500 ft. (1,980-5,640m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fix meaning “middle range of clouds “ and used to describe clouds that lie from 6,500-18,500 ft. (1,980-5,640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imb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 rain clou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m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rain cl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Other Cloud 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irro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irro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Strato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umulonimb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ther Clou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rro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rro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rato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umulonim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re Cloud 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to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to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imbo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Clou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o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o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mbo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cipi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that falls from the clou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temperature determines the form of precipitation that f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main types of Precipitation:  Rain, Sleet, Snow and H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that falls from the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temperature determines the form of precipitation that 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ain types of Precipitation:  Rain, Sleet, Snow and H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recipi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ecip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Ma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arge body of air that has properties similar to the part of the Earth’s surface over which it develop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rge body of air that has properties similar to the part of the Earth’s surface over which it develo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weath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fers to the state of the atmosphere at a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fic time and pla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ne thing that you can talk to anybody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don’t like the weather just wait around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ill change in Tex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some of the factors that affect 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th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wea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s to the state of the atmosphere at a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ime and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e thing that you can talk to anybod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don’t like the weather just wait arou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ill change in 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f the factors that affec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ir Mass M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r Mass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oundary between two air masses of different density, moisture, or tempera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undary between two air masses of different density, moisture, or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ld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d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arm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rm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ccluded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luded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tionary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onary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e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underst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rnado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e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nder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na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Severe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rric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izz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evere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z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e Weather Safe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ches- conditions are favorabl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nings- conditions already ex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- Tornadoes, Flooding, Thunderstorms, Blizzards, Winter Mixes and Hurric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e Weather Saf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es- conditions are favor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nings- conditions already ex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- Tornadoes, Flooding, Thunderstorms, Blizzards, Winter Mixes and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Temper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mperature is the measure of the average amount of motion in partic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is the measure of the average amount of motion in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rnado All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rnado 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ujiti Sc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jiti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eather M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ather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urric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rric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urricane Sc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rricane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urricane Charl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rricane Char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sources of forecasting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 collected from upper atmo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 collected on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sources of forecasting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collected from upper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collected on the Earth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natural movement of air of any velocity; especially : the earth's air or the gas surrounding a planet in natural motion horizontall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movement of air of any velocity; especially : the earth's air or the gas surrounding a planet in natural motion horizonta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eather Station Mo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ather Sta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b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bars-connect points of the “sam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: temperature and wind sp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urther away the lines the lower the wind sp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b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bars-connect points of the “sam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temperature and wind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rther away the lines the lower the wind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i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ount of water vapor present in the 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ative Humidity -is a measure of the amount of water vapor present in the air compared to the amount needed for saturation at a specific temper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water vapor present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Humidity -is a measure of the amount of water vapor present in the air compared to the amount needed for saturation at a specific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u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of small water droplets or tiny ice crystals that float in the ai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main types are cirrus, cumulus, and strat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clouds are a mixture of these three main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es of small water droplets or tiny ice crystals that float in the 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types are cirrus, cumulus, and stra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clouds are a mixture of these three main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ud For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u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ro- means “curled” or “feathery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 highest in the sky; are made up of ice crystals; and appear as curls, tufts, or wis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ually signal the end of clear weat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ro- means “curled” or “feather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highest in the sky; are made up of ice crystals; and appear as curls, tufts, or wis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signal the end of clear we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mulo- means “heaped” or “piled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ttony clouds with flat, usually gray bases, and puffy, bright to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ually signal good weather, but if atmosphere is unstable, can build into towering clouds that produce showers and thunderstor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mulo- means “heaped” or “pil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y clouds with flat, usually gray bases, and puffy, bright 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signal good weather, but if atmosphere is unstable, can build into towering clouds that produce showers and thundersto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7035-C674-4577-9364-DA803F0F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E18B-486B-4C12-B7F2-919AA0D6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4BF1-6129-4E81-BD85-920CC41F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D8B-C3D2-45C3-8FEE-6FEE096B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D831-1361-4B09-9E98-302E00C1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CF95-9111-4484-86E8-0B2DB0E3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E002-E079-4D94-96D9-F5310C70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0277-39B3-40A5-B2E0-63C6D086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75ED-DA48-422D-8CEB-C077CF21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5389-9E33-4F86-90F4-02D35B52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AA46-C3AE-4BD8-B3DB-8089DC93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53A7-EE69-49DD-8165-C4A56D45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2B99-355A-4AE5-965A-6225F58A42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nws.noaa.gov/pa/aboutnws.html" TargetMode="External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685800" y="1905120"/>
            <a:ext cx="7391520" cy="29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4428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ester"/>
              </a:rPr>
              <a:t>Weather</a:t>
            </a:r>
            <a:endParaRPr b="0" lang="en-US" sz="1800" spc="1" strike="noStrike">
              <a:ln cap="rnd" w="44280">
                <a:solidFill>
                  <a:srgbClr val="000099"/>
                </a:solidFill>
                <a:custDash>
                  <a:ds d="100000" sp="1000"/>
                </a:custDash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ester"/>
              <a:ea typeface="Jes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rat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o- means “layer-like” or “sheet-lik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-lying, dull-colored clouds that form in layers or she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bring drizzling rain or light-falling s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lt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efix meaning “middle range of clouds “ and used to describe clouds that lie from 6,500-18,500 ft. (1,980-5,640m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imb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ain clo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ther Cloud Typ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4" name="Picture 9" descr="cirrucumulus"/>
          <p:cNvPicPr/>
          <p:nvPr/>
        </p:nvPicPr>
        <p:blipFill>
          <a:blip r:embed="rId1"/>
          <a:stretch/>
        </p:blipFill>
        <p:spPr>
          <a:xfrm>
            <a:off x="457200" y="1447920"/>
            <a:ext cx="3427560" cy="228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cirrostratus"/>
          <p:cNvPicPr/>
          <p:nvPr/>
        </p:nvPicPr>
        <p:blipFill>
          <a:blip r:embed="rId2"/>
          <a:stretch/>
        </p:blipFill>
        <p:spPr>
          <a:xfrm>
            <a:off x="4724280" y="1447920"/>
            <a:ext cx="3429000" cy="226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cumulonimbus"/>
          <p:cNvPicPr/>
          <p:nvPr/>
        </p:nvPicPr>
        <p:blipFill>
          <a:blip r:embed="rId3"/>
          <a:stretch/>
        </p:blipFill>
        <p:spPr>
          <a:xfrm>
            <a:off x="4800600" y="3886200"/>
            <a:ext cx="3351240" cy="2287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stratocumulus"/>
          <p:cNvPicPr/>
          <p:nvPr/>
        </p:nvPicPr>
        <p:blipFill>
          <a:blip r:embed="rId4"/>
          <a:stretch/>
        </p:blipFill>
        <p:spPr>
          <a:xfrm>
            <a:off x="457200" y="3962520"/>
            <a:ext cx="3505320" cy="21668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5"/>
          <p:cNvSpPr/>
          <p:nvPr/>
        </p:nvSpPr>
        <p:spPr>
          <a:xfrm>
            <a:off x="1447920" y="3352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irrocumu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6095880" y="3352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irrost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1523880" y="5715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tratocumu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5715000" y="5715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umulonimb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re Cloud Typ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Picture 9" descr="altocumuls"/>
          <p:cNvPicPr/>
          <p:nvPr/>
        </p:nvPicPr>
        <p:blipFill>
          <a:blip r:embed="rId1"/>
          <a:stretch/>
        </p:blipFill>
        <p:spPr>
          <a:xfrm>
            <a:off x="228600" y="2286000"/>
            <a:ext cx="4194000" cy="3146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ltostratus"/>
          <p:cNvPicPr/>
          <p:nvPr/>
        </p:nvPicPr>
        <p:blipFill>
          <a:blip r:embed="rId2"/>
          <a:stretch/>
        </p:blipFill>
        <p:spPr>
          <a:xfrm>
            <a:off x="5159520" y="1676520"/>
            <a:ext cx="3170160" cy="2135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nimbostratus"/>
          <p:cNvPicPr/>
          <p:nvPr/>
        </p:nvPicPr>
        <p:blipFill>
          <a:blip r:embed="rId3"/>
          <a:stretch/>
        </p:blipFill>
        <p:spPr>
          <a:xfrm>
            <a:off x="4716360" y="3963960"/>
            <a:ext cx="4057920" cy="2135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1828800" y="47242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1295280" y="4800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ltocumu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6248520" y="3276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ltost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6095880" y="5638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Nimbost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ecipi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that falls from the clou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temperature determines the form of precipitation that 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main types of Precipitation:  Rain, Sleet, Snow and H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azooka"/>
              </a:rPr>
              <a:t>Types of</a:t>
            </a:r>
            <a:r>
              <a:rPr b="0" lang="en-US" sz="5400" spc="-1" strike="noStrike">
                <a:solidFill>
                  <a:srgbClr val="ffffff"/>
                </a:solidFill>
                <a:latin typeface="Bazook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Bazooka"/>
              </a:rPr>
              <a:t>Precipitation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Picture 13" descr="rain"/>
          <p:cNvPicPr/>
          <p:nvPr/>
        </p:nvPicPr>
        <p:blipFill>
          <a:blip r:embed="rId1"/>
          <a:stretch/>
        </p:blipFill>
        <p:spPr>
          <a:xfrm>
            <a:off x="609480" y="1676520"/>
            <a:ext cx="1981440" cy="1963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4"/>
          <p:cNvSpPr/>
          <p:nvPr/>
        </p:nvSpPr>
        <p:spPr>
          <a:xfrm>
            <a:off x="2819520" y="2362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5" descr="sleet"/>
          <p:cNvPicPr/>
          <p:nvPr/>
        </p:nvPicPr>
        <p:blipFill>
          <a:blip r:embed="rId2"/>
          <a:stretch/>
        </p:blipFill>
        <p:spPr>
          <a:xfrm>
            <a:off x="4876920" y="1752480"/>
            <a:ext cx="1927080" cy="1981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6"/>
          <p:cNvSpPr/>
          <p:nvPr/>
        </p:nvSpPr>
        <p:spPr>
          <a:xfrm>
            <a:off x="7086600" y="24382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Sl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7" descr="snow"/>
          <p:cNvPicPr/>
          <p:nvPr/>
        </p:nvPicPr>
        <p:blipFill>
          <a:blip r:embed="rId3"/>
          <a:stretch/>
        </p:blipFill>
        <p:spPr>
          <a:xfrm>
            <a:off x="609480" y="41911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8"/>
          <p:cNvSpPr/>
          <p:nvPr/>
        </p:nvSpPr>
        <p:spPr>
          <a:xfrm>
            <a:off x="2895480" y="50292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Sn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9" descr="hail"/>
          <p:cNvPicPr/>
          <p:nvPr/>
        </p:nvPicPr>
        <p:blipFill>
          <a:blip r:embed="rId4"/>
          <a:stretch/>
        </p:blipFill>
        <p:spPr>
          <a:xfrm>
            <a:off x="4876920" y="41911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0"/>
          <p:cNvSpPr/>
          <p:nvPr/>
        </p:nvSpPr>
        <p:spPr>
          <a:xfrm>
            <a:off x="7162920" y="51055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Hai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ir Mass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A large body of air that has properties similar to the part of the Earth’s surface over which it develops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hat is weather?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s to the state of the atmosphere at a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ic time and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e thing that you can talk to anybod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don’t like the weather just wait arou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ill change in Tex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some of the factors that affect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Mass Ma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Picture 5" descr="airmasses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o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oundary between two air masses of different density, moisture, or temperatur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d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Picture 9" descr="cold front"/>
          <p:cNvPicPr/>
          <p:nvPr/>
        </p:nvPicPr>
        <p:blipFill>
          <a:blip r:embed="rId1"/>
          <a:stretch/>
        </p:blipFill>
        <p:spPr>
          <a:xfrm>
            <a:off x="301680" y="1727280"/>
            <a:ext cx="8540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arm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Picture 5" descr="warm front"/>
          <p:cNvPicPr/>
          <p:nvPr/>
        </p:nvPicPr>
        <p:blipFill>
          <a:blip r:embed="rId1"/>
          <a:stretch/>
        </p:blipFill>
        <p:spPr>
          <a:xfrm>
            <a:off x="301680" y="1727280"/>
            <a:ext cx="8540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ccluded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Picture 5" descr="cold front"/>
          <p:cNvPicPr/>
          <p:nvPr/>
        </p:nvPicPr>
        <p:blipFill>
          <a:blip r:embed="rId1"/>
          <a:stretch/>
        </p:blipFill>
        <p:spPr>
          <a:xfrm>
            <a:off x="301680" y="1727280"/>
            <a:ext cx="8540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ationary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Picture 5" descr="stationary front"/>
          <p:cNvPicPr/>
          <p:nvPr/>
        </p:nvPicPr>
        <p:blipFill>
          <a:blip r:embed="rId1"/>
          <a:stretch/>
        </p:blipFill>
        <p:spPr>
          <a:xfrm>
            <a:off x="838080" y="1447920"/>
            <a:ext cx="7772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vere Weath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Picture 10" descr="thunderstorm"/>
          <p:cNvPicPr/>
          <p:nvPr/>
        </p:nvPicPr>
        <p:blipFill>
          <a:blip r:embed="rId1"/>
          <a:stretch/>
        </p:blipFill>
        <p:spPr>
          <a:xfrm>
            <a:off x="228600" y="1981080"/>
            <a:ext cx="2948040" cy="487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thunderstorm"/>
          <p:cNvPicPr/>
          <p:nvPr/>
        </p:nvPicPr>
        <p:blipFill>
          <a:blip r:embed="rId2"/>
          <a:stretch/>
        </p:blipFill>
        <p:spPr>
          <a:xfrm>
            <a:off x="5867280" y="1295280"/>
            <a:ext cx="3276720" cy="2514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tornado"/>
          <p:cNvPicPr/>
          <p:nvPr/>
        </p:nvPicPr>
        <p:blipFill>
          <a:blip r:embed="rId3"/>
          <a:stretch/>
        </p:blipFill>
        <p:spPr>
          <a:xfrm>
            <a:off x="5867280" y="3886200"/>
            <a:ext cx="327672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5"/>
          <p:cNvSpPr/>
          <p:nvPr/>
        </p:nvSpPr>
        <p:spPr>
          <a:xfrm>
            <a:off x="3049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Thunderst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4038480" y="2590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Light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3886200" y="5334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Torna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stormy_weather.mp3" descr=""/>
          <p:cNvPicPr/>
          <p:nvPr/>
        </p:nvPicPr>
        <p:blipFill>
          <a:blip r:embed="rId4"/>
          <a:stretch/>
        </p:blipFill>
        <p:spPr>
          <a:xfrm>
            <a:off x="85345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re Severe Weath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4" name="Picture 9" descr="blizzard"/>
          <p:cNvPicPr/>
          <p:nvPr/>
        </p:nvPicPr>
        <p:blipFill>
          <a:blip r:embed="rId1"/>
          <a:stretch/>
        </p:blipFill>
        <p:spPr>
          <a:xfrm>
            <a:off x="4648320" y="18288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990720" y="60199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zooka"/>
              </a:rPr>
              <a:t>Hurrica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5486400" y="6019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zooka"/>
              </a:rPr>
              <a:t>Blizza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9" descr="hurricane"/>
          <p:cNvPicPr/>
          <p:nvPr/>
        </p:nvPicPr>
        <p:blipFill>
          <a:blip r:embed="rId2"/>
          <a:stretch/>
        </p:blipFill>
        <p:spPr>
          <a:xfrm>
            <a:off x="30492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vere Weather Safe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es- conditions are favor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nings- conditions already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- Tornadoes, Flooding, Thunderstorms, Blizzards, Winter Mixes and Hurric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1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2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500" autoRev="1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7" dur="500" autoRev="1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8" dur="500" autoRev="1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50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3" dur="50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4" dur="50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ir Temperature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419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ure is the measure of the average amount of motion in partic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MCj01498620000[1]"/>
          <p:cNvPicPr/>
          <p:nvPr/>
        </p:nvPicPr>
        <p:blipFill>
          <a:blip r:embed="rId2"/>
          <a:stretch/>
        </p:blipFill>
        <p:spPr>
          <a:xfrm>
            <a:off x="5181480" y="1523880"/>
            <a:ext cx="2224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ightn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1" name="Picture 5" descr="lighting"/>
          <p:cNvPicPr/>
          <p:nvPr/>
        </p:nvPicPr>
        <p:blipFill>
          <a:blip r:embed="rId1"/>
          <a:stretch/>
        </p:blipFill>
        <p:spPr>
          <a:xfrm>
            <a:off x="1828800" y="1600200"/>
            <a:ext cx="5486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rnado Alle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3" name="Picture 6" descr="tornado alley"/>
          <p:cNvPicPr/>
          <p:nvPr/>
        </p:nvPicPr>
        <p:blipFill>
          <a:blip r:embed="rId1"/>
          <a:stretch/>
        </p:blipFill>
        <p:spPr>
          <a:xfrm>
            <a:off x="685800" y="1676520"/>
            <a:ext cx="7848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ujiti Sca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5" name="Picture 6" descr="fuji scale"/>
          <p:cNvPicPr/>
          <p:nvPr/>
        </p:nvPicPr>
        <p:blipFill>
          <a:blip r:embed="rId1"/>
          <a:stretch/>
        </p:blipFill>
        <p:spPr>
          <a:xfrm>
            <a:off x="609480" y="1951200"/>
            <a:ext cx="80773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ornado video.ASF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1378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6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9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Weather Map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8" name="Picture 6" descr="Weather map"/>
          <p:cNvPicPr/>
          <p:nvPr/>
        </p:nvPicPr>
        <p:blipFill>
          <a:blip r:embed="rId1"/>
          <a:stretch/>
        </p:blipFill>
        <p:spPr>
          <a:xfrm>
            <a:off x="838080" y="2133720"/>
            <a:ext cx="73915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166 -0.56624 C -0.48281 -0.58197 -0.44948 -0.59723 -0.43767 -0.59723 C -0.36423 -0.59723 -0.28923 -0.35306 -0.28923 -0.1089 C -0.28923 -0.23214 -0.25104 -0.35306 -0.2158 -0.35306 C -0.17812 -0.35306 -0.14201 -0.23006 -0.14201 -0.1089 C -0.14201 -0.16994 -0.12309 -0.23214 -0.10416 -0.23214 C -0.08524 -0.23214 -0.06649 -0.17156 -0.06649 -0.1089 C -0.06649 -0.14035 -0.05694 -0.16994 -0.04757 -0.16994 C -0.03819 -0.16994 -0.02864 -0.1385 -0.02864 -0.1089 C -0.02864 -0.12462 -0.02378 -0.14035 -0.01927 -0.14035 C -0.01684 -0.14035 -0.00989 -0.12462 -0.00989 -0.1089 C -0.00989 -0.11699 -0.00729 -0.12462 -0.00486 -0.12462 C -0.00486 -0.12254 -3.33333E-006 -0.11699 -3.33333E-006 -0.1089 C -3.33333E-006 -0.11306 -3.33332999999988E-006 -0.11699 0.00243 -0.11699 C 0.00243 -0.11491 0.00486 -0.11283 0.00486 -0.1089 C 0.00486 -0.11098 0.00486 -0.11306 0.00486 -0.11491 C 0.00747 -0.11491 0.00747 -0.11283 0.00747 -0.11075 C 0.0099 -0.11075 0.0099 -0.11283 0.0099 -0.11491 C 0.0125 -0.11491 0.0125 -0.11283 0.0125 -0.11075 E">
                                      <p:cBhvr>
                                        <p:cTn id="215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urrica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0" name="Picture 11" descr="hurricane diagram"/>
          <p:cNvPicPr/>
          <p:nvPr/>
        </p:nvPicPr>
        <p:blipFill>
          <a:blip r:embed="rId1"/>
          <a:stretch/>
        </p:blipFill>
        <p:spPr>
          <a:xfrm>
            <a:off x="1143000" y="1371600"/>
            <a:ext cx="71629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zooka"/>
              </a:rPr>
              <a:t>Hurricane Scale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2" name="Picture 6" descr="hurricane_sign"/>
          <p:cNvPicPr/>
          <p:nvPr/>
        </p:nvPicPr>
        <p:blipFill>
          <a:blip r:embed="rId1"/>
          <a:stretch/>
        </p:blipFill>
        <p:spPr>
          <a:xfrm>
            <a:off x="762120" y="205740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urricane Charle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Hurricane charley.wmv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110666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3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sources of forecasting we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llected from upper atmo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llected on the Earth’s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8" descr="NW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676520"/>
            <a:ext cx="2209680" cy="2135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nws2"/>
          <p:cNvPicPr/>
          <p:nvPr/>
        </p:nvPicPr>
        <p:blipFill>
          <a:blip r:embed="rId3"/>
          <a:stretch/>
        </p:blipFill>
        <p:spPr>
          <a:xfrm>
            <a:off x="5286240" y="3963960"/>
            <a:ext cx="2917800" cy="2135160"/>
          </a:xfrm>
          <a:prstGeom prst="rect">
            <a:avLst/>
          </a:prstGeom>
          <a:ln w="0">
            <a:noFill/>
          </a:ln>
        </p:spPr>
      </p:pic>
      <p:sp>
        <p:nvSpPr>
          <p:cNvPr id="148" name="WordArt 10"/>
          <p:cNvSpPr txBox="1"/>
          <p:nvPr/>
        </p:nvSpPr>
        <p:spPr>
          <a:xfrm>
            <a:off x="1066680" y="304920"/>
            <a:ext cx="6705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eather"/>
              </a:rPr>
              <a:t>NWS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eather"/>
              <a:ea typeface="Heath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atural movement of air of any velocity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speci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earth's air or the gas surrounding a planet in natural motion horizontal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0" descr="MMj02840150000[1]"/>
          <p:cNvPicPr/>
          <p:nvPr/>
        </p:nvPicPr>
        <p:blipFill>
          <a:blip r:embed="rId1"/>
          <a:stretch/>
        </p:blipFill>
        <p:spPr>
          <a:xfrm>
            <a:off x="4724280" y="1828800"/>
            <a:ext cx="34084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eather Station Mode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0" name="Picture 6" descr="Station Model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soba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bars-connect points of the “sam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temperature and wind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urther away the lines the lower the wind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6" descr="isobar map"/>
          <p:cNvPicPr/>
          <p:nvPr/>
        </p:nvPicPr>
        <p:blipFill>
          <a:blip r:embed="rId1"/>
          <a:stretch/>
        </p:blipFill>
        <p:spPr>
          <a:xfrm>
            <a:off x="4495680" y="1828800"/>
            <a:ext cx="4194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Humidity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mount of water vapor present in the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lative Humid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is a measure of the amount of water vapor present in the air compared to the amount needed for saturation at a specific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aucer"/>
              </a:rPr>
              <a:t>Clouds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es of small water droplets or tiny ice crystals that float in the a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main types are cirrus, cumulus, and strat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clouds are a mixture of these three main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cloud formation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5105160"/>
          </a:xfrm>
          <a:prstGeom prst="rect">
            <a:avLst/>
          </a:prstGeom>
          <a:ln w="0">
            <a:noFill/>
          </a:ln>
        </p:spPr>
      </p:pic>
      <p:sp>
        <p:nvSpPr>
          <p:cNvPr id="62" name="WordArt 7"/>
          <p:cNvSpPr txBox="1"/>
          <p:nvPr/>
        </p:nvSpPr>
        <p:spPr>
          <a:xfrm>
            <a:off x="533520" y="380880"/>
            <a:ext cx="79246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rnd" w="38160">
                  <a:solidFill>
                    <a:srgbClr val="0000a4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 Black"/>
              </a:rPr>
              <a:t>Cloud Formation</a:t>
            </a:r>
            <a:endParaRPr b="0" lang="en-US" sz="4000" spc="1" strike="noStrike">
              <a:ln cap="rnd" w="38160">
                <a:solidFill>
                  <a:srgbClr val="0000a4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irr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rro- means “curled” or “feather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 highest in the sky; are made up of ice crystals; and appear as curls, tufts, or wis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signal the end of clear wea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Bazooka"/>
              </a:rPr>
              <a:t>Cumulus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Cumulo- means “heaped” or “pil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Cottony clouds with flat, usually gray bases, and puffy, bright to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Usually signal good weather, but if atmosphere is unstable, can build into towering clouds that produce showers and thunderstor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0:12:06Z</dcterms:created>
  <dc:creator>SBK920</dc:creator>
  <dc:description>Weather</dc:description>
  <cp:keywords>Weather</cp:keywords>
  <dc:language>en-US</dc:language>
  <cp:lastModifiedBy>RomaK</cp:lastModifiedBy>
  <dcterms:modified xsi:type="dcterms:W3CDTF">2015-09-04T09:46:04Z</dcterms:modified>
  <cp:revision>13</cp:revision>
  <dc:subject>weather</dc:subject>
  <dc:title>Weather</dc:title>
</cp:coreProperties>
</file>