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28.jpeg" ContentType="image/jpeg"/>
  <Override PartName="/ppt/media/image27.jpeg" ContentType="image/jpeg"/>
  <Override PartName="/ppt/media/image25.jpeg" ContentType="image/jpeg"/>
  <Override PartName="/ppt/media/image32.png" ContentType="image/png"/>
  <Override PartName="/ppt/media/image23.jpeg" ContentType="image/jpeg"/>
  <Override PartName="/ppt/media/image12.png" ContentType="image/png"/>
  <Override PartName="/ppt/media/image21.jpeg" ContentType="image/jpeg"/>
  <Override PartName="/ppt/media/image29.png" ContentType="image/png"/>
  <Override PartName="/ppt/media/image19.jpeg" ContentType="image/jpeg"/>
  <Override PartName="/ppt/media/image2.gif" ContentType="image/gif"/>
  <Override PartName="/ppt/media/image18.jpeg" ContentType="image/jpeg"/>
  <Override PartName="/ppt/media/image15.png" ContentType="image/png"/>
  <Override PartName="/ppt/media/image16.jpeg" ContentType="image/jpeg"/>
  <Override PartName="/ppt/media/image24.jpeg" ContentType="image/jpeg"/>
  <Override PartName="/ppt/media/image14.png" ContentType="image/png"/>
  <Override PartName="/ppt/media/image10.jpeg" ContentType="image/jpeg"/>
  <Override PartName="/ppt/media/image4.wmf" ContentType="image/x-wmf"/>
  <Override PartName="/ppt/media/image6.png" ContentType="image/png"/>
  <Override PartName="/ppt/media/image36.jpeg" ContentType="image/jpeg"/>
  <Override PartName="/ppt/media/image40.png" ContentType="image/png"/>
  <Override PartName="/ppt/media/image11.jpeg" ContentType="image/jpeg"/>
  <Override PartName="/ppt/media/image9.jpeg" ContentType="image/jpeg"/>
  <Override PartName="/ppt/media/image41.png" ContentType="image/png"/>
  <Override PartName="/ppt/media/image30.png" ContentType="image/png"/>
  <Override PartName="/ppt/media/image8.jpeg" ContentType="image/jpeg"/>
  <Override PartName="/ppt/media/image42.png" ContentType="image/png"/>
  <Override PartName="/ppt/media/image44.jpeg" ContentType="image/jpeg"/>
  <Override PartName="/ppt/media/image34.png" ContentType="image/png"/>
  <Override PartName="/ppt/media/image35.png" ContentType="image/png"/>
  <Override PartName="/ppt/media/image45.jpeg" ContentType="image/jpeg"/>
  <Override PartName="/ppt/media/image46.png" ContentType="image/png"/>
  <Override PartName="/ppt/media/image31.png" ContentType="image/png"/>
  <Override PartName="/ppt/media/image43.png" ContentType="image/png"/>
  <Override PartName="/ppt/media/image47.jpeg" ContentType="image/jpeg"/>
  <Override PartName="/ppt/media/image13.jpeg" ContentType="image/jpeg"/>
  <Override PartName="/ppt/media/image20.jpeg" ContentType="image/jpeg"/>
  <Override PartName="/ppt/media/image37.png" ContentType="image/png"/>
  <Override PartName="/ppt/media/image7.png" ContentType="image/png"/>
  <Override PartName="/ppt/media/image1.jpeg" ContentType="image/jpeg"/>
  <Override PartName="/ppt/media/image39.png" ContentType="image/png"/>
  <Override PartName="/ppt/media/image22.jpeg" ContentType="image/jpeg"/>
  <Override PartName="/ppt/media/image38.jpeg" ContentType="image/jpeg"/>
  <Override PartName="/ppt/media/image5.gif" ContentType="image/gif"/>
  <Override PartName="/ppt/media/image33.png" ContentType="image/png"/>
  <Override PartName="/ppt/media/image3.png" ContentType="image/png"/>
  <Override PartName="/ppt/media/image17.jpeg" ContentType="image/jpeg"/>
  <Override PartName="/ppt/media/image2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D49F8-9B00-4F3F-AD75-4FA0B1A936B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ratu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rato- means “layer-like” or “sheet-like.”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w-lying, dull-colored clouds that form in layers or sheet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sually bring drizzling rain or light-falling snow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at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ato- means “layer-like” or “sheet-like.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-lying, dull-colored clouds that form in layers or shee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ually bring drizzling rain or light-falling sno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t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prefix meaning “middle range of clouds “ and used to describe clouds that lie from 6,500-18,500 ft. (1,980-5,640m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refix meaning “middle range of clouds “ and used to describe clouds that lie from 6,500-18,500 ft. (1,980-5,640m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Nimbu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 rain clou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imb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 rain clou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"/>
              </a:rPr>
              <a:t>Other Cloud Typ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"/>
              </a:rPr>
              <a:t>Cirrocumulu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"/>
              </a:rPr>
              <a:t>Cirrostratu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"/>
              </a:rPr>
              <a:t>Stratocumulu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"/>
              </a:rPr>
              <a:t>Cumulonimbu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Other Cloud Ty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irrocumul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irrostrat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Stratocumul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umulonimb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More Cloud Typ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ltocumulu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ltostratu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Nimbostratu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re Cloud Ty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tocumul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tostrat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imbostrat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ecipit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ter that falls from the cloud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ir temperature determines the form of precipitation that fall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 main types of Precipitation:  Rain, Sleet, Snow and Hai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cipi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 that falls from the clou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r temperature determines the form of precipitation that fa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main types of Precipitation:  Rain, Sleet, Snow and H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ypes of Precipit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a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ee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now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ai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Precipi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e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n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ir Mass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large body of air that has properties similar to the part of the Earth’s surface over which it develops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r Ma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large body of air that has properties similar to the part of the Earth’s surface over which it develop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weather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fers to the state of the atmosphere at a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pecific time and plac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one thing that you can talk to anybody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bou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f you don’t like the weather just wait around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t will change in Texa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are some of the factors that affect the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eather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weathe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ers to the state of the atmosphere at a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fic time and pla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ne thing that you can talk to anybody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don’t like the weather just wait aroun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ill change in Tex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re some of the factors that affect th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athe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ir Mass Map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ir Mass M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ron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boundary between two air masses of different density, moisture, or temperature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oundary between two air masses of different density, moisture, or temperatur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old Fro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ld Fro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arm Fro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arm Fro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Occluded Fro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ccluded Fro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tationary Fro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ationary Fro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vere Weath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understorm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ghtn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ornado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re Wea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understo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rnado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re Severe Weath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urrican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lizzard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Severe Wea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rrica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izza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vere Weather Safet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tches- conditions are favorable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rnings- conditions already exis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amples- Tornadoes, Flooding, Thunderstorms, Blizzards, Winter Mixes and Hurrican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re Weather Safe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ches- conditions are favorabl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rnings- conditions already ex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- Tornadoes, Flooding, Thunderstorms, Blizzards, Winter Mixes and Hurrica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ir Temperatu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emperature is the measure of the average amount of motion in particl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r Temper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mperature is the measure of the average amount of motion in partic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Lightn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ght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ornado Alle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rnado All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Fujiti Sca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ujiti Sc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eather Map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eather M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Hurrica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urric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Hurricane Sca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urricane Sc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Hurricane Charle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urricane Charl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wo sources of forecasting weath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ata collected from upper atmosphe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ata collected on the Earth’s surfa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W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sources of forecasting wea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 collected from upper atm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 collected on the Earth’s surf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in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natural movement of air of any velocity; especially : the earth's air or the gas surrounding a planet in natural motion horizontally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natural movement of air of any velocity; especially : the earth's air or the gas surrounding a planet in natural motion horizontall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eather Station Mode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eather Station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soba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sobars-connect points of the “same”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amples: temperature and wind spe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further away the lines the lower the wind spe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ob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obars-connect points of the “same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: temperature and wind spe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urther away the lines the lower the wind spe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umidit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amount of water vapor present in the ai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lative Humidity -is a measure of the amount of water vapor present in the air compared to the amount needed for saturation at a specific temperatu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mid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mount of water vapor present in the 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tive Humidity -is a measure of the amount of water vapor present in the air compared to the amount needed for saturation at a specific temper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loud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sses of small water droplets or tiny ice crystals that float in the air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ree main types are cirrus, cumulus, and stratu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ther clouds are a mixture of these three main typ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u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es of small water droplets or tiny ice crystals that float in the ai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e main types are cirrus, cumulus, and strat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clouds are a mixture of these three main typ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loud Form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oud 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irru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irro- means “curled” or “feathery”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orm highest in the sky; are made up of ice crystals; and appear as curls, tufts, or wisp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sually signal the end of clear weather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r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rro- means “curled” or “feathery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 highest in the sky; are made up of ice crystals; and appear as curls, tufts, or wisp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ually signal the end of clear weat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umulu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umulo- means “heaped” or “piled”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ttony clouds with flat, usually gray bases, and puffy, bright top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sually signal good weather, but if atmosphere is unstable, can build into towering clouds that produce showers and thunderstorm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mul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mulo- means “heaped” or “piled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ttony clouds with flat, usually gray bases, and puffy, bright top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ually signal good weather, but if atmosphere is unstable, can build into towering clouds that produce showers and thunderstor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30253-B1C2-48EA-A900-FE781AF04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0DDDA-508A-4904-8AF3-B8CFD7F51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09DCA-577B-4A29-B004-980CB1549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B2339-CEB2-4748-861D-417DB69FB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5A384-E816-4A4C-9494-7F6D73A7A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F0A43-91F9-40AA-98E3-691959AE3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A98B5-16C1-4A14-B5D3-77660FF6E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61EB8-1058-4222-8B77-49AAFE456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FA7E2-C493-4529-9F23-767327F2A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AE1C3-B092-4413-B6AA-AA6002471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676E3-97BE-4CA0-A271-625D3D990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AD773-F496-4096-BA83-A116FD63D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46A78-8B46-4BD8-A096-FA7635E7053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hyperlink" Target="http://www.nws.noaa.gov/pa/aboutnws.html" TargetMode="External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5"/>
          <p:cNvSpPr txBox="1"/>
          <p:nvPr/>
        </p:nvSpPr>
        <p:spPr>
          <a:xfrm>
            <a:off x="685800" y="1905120"/>
            <a:ext cx="7391520" cy="2904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cap="rnd" w="4428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Jester"/>
              </a:rPr>
              <a:t>Weather</a:t>
            </a:r>
            <a:endParaRPr b="0" lang="en-US" sz="1800" spc="1" strike="noStrike">
              <a:ln cap="rnd" w="44280">
                <a:solidFill>
                  <a:srgbClr val="000099"/>
                </a:solidFill>
                <a:custDash>
                  <a:ds d="100000" sp="1000"/>
                </a:custDash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Jester"/>
              <a:ea typeface="Jeste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Stratu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rato- means “layer-like” or “sheet-like.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w-lying, dull-colored clouds that form in layers or shee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ually bring drizzling rain or light-falling snow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Alto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prefix meaning “middle range of clouds “ and used to describe clouds that lie from 6,500-18,500 ft. (1,980-5,640m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Nimbu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rain clou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Other Cloud Type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74" name="Picture 9" descr="cirrucumulus"/>
          <p:cNvPicPr/>
          <p:nvPr/>
        </p:nvPicPr>
        <p:blipFill>
          <a:blip r:embed="rId1"/>
          <a:stretch/>
        </p:blipFill>
        <p:spPr>
          <a:xfrm>
            <a:off x="457200" y="1447920"/>
            <a:ext cx="3427560" cy="2284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0" descr="cirrostratus"/>
          <p:cNvPicPr/>
          <p:nvPr/>
        </p:nvPicPr>
        <p:blipFill>
          <a:blip r:embed="rId2"/>
          <a:stretch/>
        </p:blipFill>
        <p:spPr>
          <a:xfrm>
            <a:off x="4724280" y="1447920"/>
            <a:ext cx="3429000" cy="22669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3" descr="cumulonimbus"/>
          <p:cNvPicPr/>
          <p:nvPr/>
        </p:nvPicPr>
        <p:blipFill>
          <a:blip r:embed="rId3"/>
          <a:stretch/>
        </p:blipFill>
        <p:spPr>
          <a:xfrm>
            <a:off x="4800600" y="3886200"/>
            <a:ext cx="3351240" cy="22874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4" descr="stratocumulus"/>
          <p:cNvPicPr/>
          <p:nvPr/>
        </p:nvPicPr>
        <p:blipFill>
          <a:blip r:embed="rId4"/>
          <a:stretch/>
        </p:blipFill>
        <p:spPr>
          <a:xfrm>
            <a:off x="457200" y="3962520"/>
            <a:ext cx="3505320" cy="2166840"/>
          </a:xfrm>
          <a:prstGeom prst="rect">
            <a:avLst/>
          </a:prstGeom>
          <a:ln w="0">
            <a:noFill/>
          </a:ln>
        </p:spPr>
      </p:pic>
      <p:sp>
        <p:nvSpPr>
          <p:cNvPr id="78" name="Text Box 15"/>
          <p:cNvSpPr/>
          <p:nvPr/>
        </p:nvSpPr>
        <p:spPr>
          <a:xfrm>
            <a:off x="1447920" y="33526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Cirrocumul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Text Box 16"/>
          <p:cNvSpPr/>
          <p:nvPr/>
        </p:nvSpPr>
        <p:spPr>
          <a:xfrm>
            <a:off x="6095880" y="335268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Cirrostrat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Text Box 18"/>
          <p:cNvSpPr/>
          <p:nvPr/>
        </p:nvSpPr>
        <p:spPr>
          <a:xfrm>
            <a:off x="1523880" y="57150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Stratocumul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Text Box 19"/>
          <p:cNvSpPr/>
          <p:nvPr/>
        </p:nvSpPr>
        <p:spPr>
          <a:xfrm>
            <a:off x="5715000" y="57150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Cumulonimb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More Cloud Type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83" name="Picture 9" descr="altocumuls"/>
          <p:cNvPicPr/>
          <p:nvPr/>
        </p:nvPicPr>
        <p:blipFill>
          <a:blip r:embed="rId1"/>
          <a:stretch/>
        </p:blipFill>
        <p:spPr>
          <a:xfrm>
            <a:off x="228600" y="2286000"/>
            <a:ext cx="4194000" cy="31464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0" descr="altostratus"/>
          <p:cNvPicPr/>
          <p:nvPr/>
        </p:nvPicPr>
        <p:blipFill>
          <a:blip r:embed="rId2"/>
          <a:stretch/>
        </p:blipFill>
        <p:spPr>
          <a:xfrm>
            <a:off x="5159520" y="1676520"/>
            <a:ext cx="3170160" cy="21351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1" descr="nimbostratus"/>
          <p:cNvPicPr/>
          <p:nvPr/>
        </p:nvPicPr>
        <p:blipFill>
          <a:blip r:embed="rId3"/>
          <a:stretch/>
        </p:blipFill>
        <p:spPr>
          <a:xfrm>
            <a:off x="4716360" y="3963960"/>
            <a:ext cx="4057920" cy="2135160"/>
          </a:xfrm>
          <a:prstGeom prst="rect">
            <a:avLst/>
          </a:prstGeom>
          <a:ln w="0">
            <a:noFill/>
          </a:ln>
        </p:spPr>
      </p:pic>
      <p:sp>
        <p:nvSpPr>
          <p:cNvPr id="86" name="Text Box 12"/>
          <p:cNvSpPr/>
          <p:nvPr/>
        </p:nvSpPr>
        <p:spPr>
          <a:xfrm>
            <a:off x="1828800" y="4724280"/>
            <a:ext cx="2514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Text Box 13"/>
          <p:cNvSpPr/>
          <p:nvPr/>
        </p:nvSpPr>
        <p:spPr>
          <a:xfrm>
            <a:off x="1295280" y="480060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Altocumul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Text Box 15"/>
          <p:cNvSpPr/>
          <p:nvPr/>
        </p:nvSpPr>
        <p:spPr>
          <a:xfrm>
            <a:off x="6248520" y="32767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Altostrat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16"/>
          <p:cNvSpPr/>
          <p:nvPr/>
        </p:nvSpPr>
        <p:spPr>
          <a:xfrm>
            <a:off x="6095880" y="563868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Nimbostrat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9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Precipitation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ter that falls from the clou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ir temperature determines the form of precipitation that fa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 main types of Precipitation:  Rain, Sleet, Snow and Hai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Bazooka"/>
              </a:rPr>
              <a:t>Types of</a:t>
            </a:r>
            <a:r>
              <a:rPr b="0" lang="en-US" sz="5400" spc="-1" strike="noStrike">
                <a:solidFill>
                  <a:srgbClr val="ffffff"/>
                </a:solidFill>
                <a:latin typeface="Bazooka"/>
              </a:rPr>
              <a:t> </a:t>
            </a:r>
            <a:r>
              <a:rPr b="0" lang="en-US" sz="5400" spc="-1" strike="noStrike">
                <a:solidFill>
                  <a:srgbClr val="ffffff"/>
                </a:solidFill>
                <a:latin typeface="Bazooka"/>
              </a:rPr>
              <a:t>Precipitation</a:t>
            </a:r>
            <a:endParaRPr b="0" lang="en-US" sz="5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93" name="Picture 13" descr="rain"/>
          <p:cNvPicPr/>
          <p:nvPr/>
        </p:nvPicPr>
        <p:blipFill>
          <a:blip r:embed="rId1"/>
          <a:stretch/>
        </p:blipFill>
        <p:spPr>
          <a:xfrm>
            <a:off x="609480" y="1676520"/>
            <a:ext cx="1981440" cy="1963440"/>
          </a:xfrm>
          <a:prstGeom prst="rect">
            <a:avLst/>
          </a:prstGeom>
          <a:ln w="0">
            <a:noFill/>
          </a:ln>
        </p:spPr>
      </p:pic>
      <p:sp>
        <p:nvSpPr>
          <p:cNvPr id="94" name="Text Box 14"/>
          <p:cNvSpPr/>
          <p:nvPr/>
        </p:nvSpPr>
        <p:spPr>
          <a:xfrm>
            <a:off x="2819520" y="2362320"/>
            <a:ext cx="160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azooka"/>
              </a:rPr>
              <a:t>Rai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Picture 15" descr="sleet"/>
          <p:cNvPicPr/>
          <p:nvPr/>
        </p:nvPicPr>
        <p:blipFill>
          <a:blip r:embed="rId2"/>
          <a:stretch/>
        </p:blipFill>
        <p:spPr>
          <a:xfrm>
            <a:off x="4876920" y="1752480"/>
            <a:ext cx="1927080" cy="1981440"/>
          </a:xfrm>
          <a:prstGeom prst="rect">
            <a:avLst/>
          </a:prstGeom>
          <a:ln w="0">
            <a:noFill/>
          </a:ln>
        </p:spPr>
      </p:pic>
      <p:sp>
        <p:nvSpPr>
          <p:cNvPr id="96" name="Text Box 16"/>
          <p:cNvSpPr/>
          <p:nvPr/>
        </p:nvSpPr>
        <p:spPr>
          <a:xfrm>
            <a:off x="7086600" y="2438280"/>
            <a:ext cx="160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azooka"/>
              </a:rPr>
              <a:t>Slee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" name="Picture 17" descr="snow"/>
          <p:cNvPicPr/>
          <p:nvPr/>
        </p:nvPicPr>
        <p:blipFill>
          <a:blip r:embed="rId3"/>
          <a:stretch/>
        </p:blipFill>
        <p:spPr>
          <a:xfrm>
            <a:off x="609480" y="4191120"/>
            <a:ext cx="1981440" cy="1981080"/>
          </a:xfrm>
          <a:prstGeom prst="rect">
            <a:avLst/>
          </a:prstGeom>
          <a:ln w="0">
            <a:noFill/>
          </a:ln>
        </p:spPr>
      </p:pic>
      <p:sp>
        <p:nvSpPr>
          <p:cNvPr id="98" name="Text Box 18"/>
          <p:cNvSpPr/>
          <p:nvPr/>
        </p:nvSpPr>
        <p:spPr>
          <a:xfrm>
            <a:off x="2895480" y="5029200"/>
            <a:ext cx="1524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azooka"/>
              </a:rPr>
              <a:t>Snow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Picture 19" descr="hail"/>
          <p:cNvPicPr/>
          <p:nvPr/>
        </p:nvPicPr>
        <p:blipFill>
          <a:blip r:embed="rId4"/>
          <a:stretch/>
        </p:blipFill>
        <p:spPr>
          <a:xfrm>
            <a:off x="4876920" y="4191120"/>
            <a:ext cx="1981080" cy="198108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20"/>
          <p:cNvSpPr/>
          <p:nvPr/>
        </p:nvSpPr>
        <p:spPr>
          <a:xfrm>
            <a:off x="7162920" y="5105520"/>
            <a:ext cx="1523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azooka"/>
              </a:rPr>
              <a:t>Hai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ir Masse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Comic Sans MS"/>
              </a:rPr>
              <a:t>A large body of air that has properties similar to the part of the Earth’s surface over which it develops.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What is weather?</a:t>
            </a:r>
            <a:endParaRPr b="0" lang="en-US" sz="6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fers to the state of the atmosphere at a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ecific time and plac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one thing that you can talk to anybody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bou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you don’t like the weather just wait aroun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will change in Tex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are some of the factors that affect th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athe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20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20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20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Air Mass Map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04" name="Picture 5" descr="airmasses"/>
          <p:cNvPicPr/>
          <p:nvPr/>
        </p:nvPicPr>
        <p:blipFill>
          <a:blip r:embed="rId1"/>
          <a:stretch/>
        </p:blipFill>
        <p:spPr>
          <a:xfrm>
            <a:off x="457200" y="1371600"/>
            <a:ext cx="8153280" cy="522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Front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boundary between two air masses of different density, moisture, or temperature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old Fron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08" name="Picture 9" descr="cold front"/>
          <p:cNvPicPr/>
          <p:nvPr/>
        </p:nvPicPr>
        <p:blipFill>
          <a:blip r:embed="rId1"/>
          <a:stretch/>
        </p:blipFill>
        <p:spPr>
          <a:xfrm>
            <a:off x="301680" y="1727280"/>
            <a:ext cx="854064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Warm Fron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10" name="Picture 5" descr="warm front"/>
          <p:cNvPicPr/>
          <p:nvPr/>
        </p:nvPicPr>
        <p:blipFill>
          <a:blip r:embed="rId1"/>
          <a:stretch/>
        </p:blipFill>
        <p:spPr>
          <a:xfrm>
            <a:off x="301680" y="1727280"/>
            <a:ext cx="854064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Occluded Fron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12" name="Picture 5" descr="cold front"/>
          <p:cNvPicPr/>
          <p:nvPr/>
        </p:nvPicPr>
        <p:blipFill>
          <a:blip r:embed="rId1"/>
          <a:stretch/>
        </p:blipFill>
        <p:spPr>
          <a:xfrm>
            <a:off x="301680" y="1727280"/>
            <a:ext cx="854064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Stationary Fron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14" name="Picture 5" descr="stationary front"/>
          <p:cNvPicPr/>
          <p:nvPr/>
        </p:nvPicPr>
        <p:blipFill>
          <a:blip r:embed="rId1"/>
          <a:stretch/>
        </p:blipFill>
        <p:spPr>
          <a:xfrm>
            <a:off x="838080" y="1447920"/>
            <a:ext cx="77724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Severe Weather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16" name="Picture 10" descr="thunderstorm"/>
          <p:cNvPicPr/>
          <p:nvPr/>
        </p:nvPicPr>
        <p:blipFill>
          <a:blip r:embed="rId1"/>
          <a:stretch/>
        </p:blipFill>
        <p:spPr>
          <a:xfrm>
            <a:off x="228600" y="1981080"/>
            <a:ext cx="2948040" cy="48769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3" descr="thunderstorm"/>
          <p:cNvPicPr/>
          <p:nvPr/>
        </p:nvPicPr>
        <p:blipFill>
          <a:blip r:embed="rId2"/>
          <a:stretch/>
        </p:blipFill>
        <p:spPr>
          <a:xfrm>
            <a:off x="5867280" y="1295280"/>
            <a:ext cx="3276720" cy="25146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4" descr="tornado"/>
          <p:cNvPicPr/>
          <p:nvPr/>
        </p:nvPicPr>
        <p:blipFill>
          <a:blip r:embed="rId3"/>
          <a:stretch/>
        </p:blipFill>
        <p:spPr>
          <a:xfrm>
            <a:off x="5867280" y="3886200"/>
            <a:ext cx="3276720" cy="297180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15"/>
          <p:cNvSpPr/>
          <p:nvPr/>
        </p:nvSpPr>
        <p:spPr>
          <a:xfrm>
            <a:off x="304920" y="1295280"/>
            <a:ext cx="281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azooka"/>
              </a:rPr>
              <a:t>Thunderstor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16"/>
          <p:cNvSpPr/>
          <p:nvPr/>
        </p:nvSpPr>
        <p:spPr>
          <a:xfrm>
            <a:off x="4038480" y="25909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azooka"/>
              </a:rPr>
              <a:t>Lightn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 Box 17"/>
          <p:cNvSpPr/>
          <p:nvPr/>
        </p:nvSpPr>
        <p:spPr>
          <a:xfrm>
            <a:off x="3886200" y="533412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azooka"/>
              </a:rPr>
              <a:t>Tornado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stormy_weather.mp3" descr=""/>
          <p:cNvPicPr/>
          <p:nvPr/>
        </p:nvPicPr>
        <p:blipFill>
          <a:blip r:embed="rId4"/>
          <a:stretch/>
        </p:blipFill>
        <p:spPr>
          <a:xfrm>
            <a:off x="8534520" y="3808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0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8" dur="1" fill="hold"/>
                                        <p:tgtEl>
                                          <p:spTgt spid="1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More Severe Weather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24" name="Picture 9" descr="blizzard"/>
          <p:cNvPicPr/>
          <p:nvPr/>
        </p:nvPicPr>
        <p:blipFill>
          <a:blip r:embed="rId1"/>
          <a:stretch/>
        </p:blipFill>
        <p:spPr>
          <a:xfrm>
            <a:off x="4648320" y="1828800"/>
            <a:ext cx="4114800" cy="411480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10"/>
          <p:cNvSpPr/>
          <p:nvPr/>
        </p:nvSpPr>
        <p:spPr>
          <a:xfrm>
            <a:off x="990720" y="6019920"/>
            <a:ext cx="304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azooka"/>
              </a:rPr>
              <a:t>Hurrican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11"/>
          <p:cNvSpPr/>
          <p:nvPr/>
        </p:nvSpPr>
        <p:spPr>
          <a:xfrm>
            <a:off x="5486400" y="601992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azooka"/>
              </a:rPr>
              <a:t>Blizzard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Picture 19" descr="hurricane"/>
          <p:cNvPicPr/>
          <p:nvPr/>
        </p:nvPicPr>
        <p:blipFill>
          <a:blip r:embed="rId2"/>
          <a:stretch/>
        </p:blipFill>
        <p:spPr>
          <a:xfrm>
            <a:off x="304920" y="1905120"/>
            <a:ext cx="40384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9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4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Severe Weather Safety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tches- conditions are favorabl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rnings- conditions already exi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amples- Tornadoes, Flooding, Thunderstorms, Blizzards, Winter Mixes and Hurrica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0" dur="500" autoRev="1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171" dur="500" autoRev="1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172" dur="500" autoRev="1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6" dur="500" autoRev="1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177" dur="500" autoRev="1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178" dur="500" autoRev="1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2" dur="500" autoRev="1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183" dur="500" autoRev="1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184" dur="500" autoRev="1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Air Temperature</a:t>
            </a:r>
            <a:endParaRPr b="0" lang="en-US" sz="5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4920" y="2514600"/>
            <a:ext cx="41940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mperature is the measure of the average amount of motion in particl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Picture 4" descr="MCj01498620000[1]"/>
          <p:cNvPicPr/>
          <p:nvPr/>
        </p:nvPicPr>
        <p:blipFill>
          <a:blip r:embed="rId2"/>
          <a:stretch/>
        </p:blipFill>
        <p:spPr>
          <a:xfrm>
            <a:off x="5181480" y="1523880"/>
            <a:ext cx="22240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Lightning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31" name="Picture 5" descr="lighting"/>
          <p:cNvPicPr/>
          <p:nvPr/>
        </p:nvPicPr>
        <p:blipFill>
          <a:blip r:embed="rId1"/>
          <a:stretch/>
        </p:blipFill>
        <p:spPr>
          <a:xfrm>
            <a:off x="1828800" y="1600200"/>
            <a:ext cx="54864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0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1" dur="250" autoRev="1" fill="hold"/>
                                        <p:tgtEl>
                                          <p:spTgt spid="13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ornado Alley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33" name="Picture 6" descr="tornado alley"/>
          <p:cNvPicPr/>
          <p:nvPr/>
        </p:nvPicPr>
        <p:blipFill>
          <a:blip r:embed="rId1"/>
          <a:stretch/>
        </p:blipFill>
        <p:spPr>
          <a:xfrm>
            <a:off x="685800" y="1676520"/>
            <a:ext cx="784872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Fujiti Scal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35" name="Picture 6" descr="fuji scale"/>
          <p:cNvPicPr/>
          <p:nvPr/>
        </p:nvPicPr>
        <p:blipFill>
          <a:blip r:embed="rId1"/>
          <a:stretch/>
        </p:blipFill>
        <p:spPr>
          <a:xfrm>
            <a:off x="609480" y="1951200"/>
            <a:ext cx="8077320" cy="46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nodeType="clickEffect" fill="hold">
                      <p:stCondLst>
                        <p:cond delay="0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tornado video.ASF" descr=""/>
          <p:cNvPicPr/>
          <p:nvPr/>
        </p:nvPicPr>
        <p:blipFill>
          <a:blip r:embed="rId1"/>
          <a:stretch/>
        </p:blipFill>
        <p:spPr>
          <a:xfrm>
            <a:off x="1905120" y="1066680"/>
            <a:ext cx="5715000" cy="42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0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4" dur="11378" fill="hold"/>
                                        <p:tgtEl>
                                          <p:spTgt spid="1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5" restart="whenNotActive" nodeType="interactiveSeq" fill="hold">
                <p:stCondLst>
                  <p:cond evt="onClick">
                    <p:tgtEl>
                      <p:spTgt spid="136"/>
                    </p:tgtEl>
                  </p:cond>
                </p:stCondLst>
                <p:childTnLst>
                  <p:par>
                    <p:cTn id="206" nodeType="clickEffect" fill="hold">
                      <p:stCondLst>
                        <p:cond evt="onClick">
                          <p:tgtEl>
                            <p:spTgt spid="136"/>
                          </p:tgtEl>
                        </p:cond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with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09" dur="1" fill="hold"/>
                                        <p:tgtEl>
                                          <p:spTgt spid="1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e7ff"/>
                </a:solidFill>
                <a:latin typeface="Arial"/>
              </a:rPr>
              <a:t>Weather Map</a:t>
            </a:r>
            <a:endParaRPr b="0" lang="en-US" sz="48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38" name="Picture 6" descr="Weather map"/>
          <p:cNvPicPr/>
          <p:nvPr/>
        </p:nvPicPr>
        <p:blipFill>
          <a:blip r:embed="rId1"/>
          <a:stretch/>
        </p:blipFill>
        <p:spPr>
          <a:xfrm>
            <a:off x="838080" y="2133720"/>
            <a:ext cx="7391520" cy="43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0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withEffect" fill="hold" presetClass="path" presetID="5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9166 -0.56624 C -0.48281 -0.58197 -0.44948 -0.59723 -0.43767 -0.59723 C -0.36423 -0.59723 -0.28923 -0.35306 -0.28923 -0.1089 C -0.28923 -0.23214 -0.25104 -0.35306 -0.2158 -0.35306 C -0.17812 -0.35306 -0.14201 -0.23006 -0.14201 -0.1089 C -0.14201 -0.16994 -0.12309 -0.23214 -0.10416 -0.23214 C -0.08524 -0.23214 -0.06649 -0.17156 -0.06649 -0.1089 C -0.06649 -0.14035 -0.05694 -0.16994 -0.04757 -0.16994 C -0.03819 -0.16994 -0.02864 -0.1385 -0.02864 -0.1089 C -0.02864 -0.12462 -0.02378 -0.14035 -0.01927 -0.14035 C -0.01684 -0.14035 -0.00989 -0.12462 -0.00989 -0.1089 C -0.00989 -0.11699 -0.00729 -0.12462 -0.00486 -0.12462 C -0.00486 -0.12254 -3.33333E-006 -0.11699 -3.33333E-006 -0.1089 C -3.33333E-006 -0.11306 -3.33332999999988E-006 -0.11699 0.00243 -0.11699 C 0.00243 -0.11491 0.00486 -0.11283 0.00486 -0.1089 C 0.00486 -0.11098 0.00486 -0.11306 0.00486 -0.11491 C 0.00747 -0.11491 0.00747 -0.11283 0.00747 -0.11075 C 0.0099 -0.11075 0.0099 -0.11283 0.0099 -0.11491 C 0.0125 -0.11491 0.0125 -0.11283 0.0125 -0.11075 E">
                                      <p:cBhvr>
                                        <p:cTn id="215" dur="2000" fill="hold"/>
                                        <p:tgtEl>
                                          <p:spTgt spid="1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Hurrican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40" name="Picture 11" descr="hurricane diagram"/>
          <p:cNvPicPr/>
          <p:nvPr/>
        </p:nvPicPr>
        <p:blipFill>
          <a:blip r:embed="rId1"/>
          <a:stretch/>
        </p:blipFill>
        <p:spPr>
          <a:xfrm>
            <a:off x="1143000" y="1371600"/>
            <a:ext cx="7162920" cy="475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nodeType="clickEffect" fill="hold">
                      <p:stCondLst>
                        <p:cond delay="0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Bazooka"/>
              </a:rPr>
              <a:t>Hurricane Scale</a:t>
            </a:r>
            <a:endParaRPr b="0" lang="en-US" sz="48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42" name="Picture 6" descr="hurricane_sign"/>
          <p:cNvPicPr/>
          <p:nvPr/>
        </p:nvPicPr>
        <p:blipFill>
          <a:blip r:embed="rId1"/>
          <a:stretch/>
        </p:blipFill>
        <p:spPr>
          <a:xfrm>
            <a:off x="762120" y="2057400"/>
            <a:ext cx="77724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0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2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Hurricane Charley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44" name="Hurricane charley.wmv" descr=""/>
          <p:cNvPicPr/>
          <p:nvPr/>
        </p:nvPicPr>
        <p:blipFill>
          <a:blip r:embed="rId1"/>
          <a:stretch/>
        </p:blipFill>
        <p:spPr>
          <a:xfrm>
            <a:off x="2057400" y="1905120"/>
            <a:ext cx="51814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0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8" dur="110666" fill="hold"/>
                                        <p:tgtEl>
                                          <p:spTgt spid="1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9" restart="whenNotActive" nodeType="interactiveSeq" fill="hold">
                <p:stCondLst>
                  <p:cond evt="onClick">
                    <p:tgtEl>
                      <p:spTgt spid="144"/>
                    </p:tgtEl>
                  </p:cond>
                </p:stCondLst>
                <p:childTnLst>
                  <p:par>
                    <p:cTn id="240" nodeType="clickEffect" fill="hold">
                      <p:stCondLst>
                        <p:cond evt="onClick">
                          <p:tgtEl>
                            <p:spTgt spid="144"/>
                          </p:tgtEl>
                        </p:cond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3" dur="1" fill="hold"/>
                                        <p:tgtEl>
                                          <p:spTgt spid="1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wo sources of forecasting wea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ta collected from upper atmosp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ta collected on the Earth’s surfa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6" name="Picture 8" descr="NW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715000" y="1676520"/>
            <a:ext cx="2209680" cy="21351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9" descr="nws2"/>
          <p:cNvPicPr/>
          <p:nvPr/>
        </p:nvPicPr>
        <p:blipFill>
          <a:blip r:embed="rId3"/>
          <a:stretch/>
        </p:blipFill>
        <p:spPr>
          <a:xfrm>
            <a:off x="5286240" y="3963960"/>
            <a:ext cx="2917800" cy="2135160"/>
          </a:xfrm>
          <a:prstGeom prst="rect">
            <a:avLst/>
          </a:prstGeom>
          <a:ln w="0">
            <a:noFill/>
          </a:ln>
        </p:spPr>
      </p:pic>
      <p:sp>
        <p:nvSpPr>
          <p:cNvPr id="148" name="WordArt 10"/>
          <p:cNvSpPr txBox="1"/>
          <p:nvPr/>
        </p:nvSpPr>
        <p:spPr>
          <a:xfrm>
            <a:off x="1066680" y="304920"/>
            <a:ext cx="67057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Heather"/>
              </a:rPr>
              <a:t>NWS</a:t>
            </a:r>
            <a:endParaRPr b="0" lang="en-US" sz="4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Heather"/>
              <a:ea typeface="Heathe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Wind</a:t>
            </a:r>
            <a:endParaRPr b="0" lang="en-US" sz="5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natural movement of air of any velocity;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especiall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he earth's air or the gas surrounding a planet in natural motion horizontall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Picture 10" descr="MMj02840150000[1]"/>
          <p:cNvPicPr/>
          <p:nvPr/>
        </p:nvPicPr>
        <p:blipFill>
          <a:blip r:embed="rId1"/>
          <a:stretch/>
        </p:blipFill>
        <p:spPr>
          <a:xfrm>
            <a:off x="4724280" y="1828800"/>
            <a:ext cx="3408480" cy="29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Weather Station Model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50" name="Picture 6" descr="Station Model"/>
          <p:cNvPicPr/>
          <p:nvPr/>
        </p:nvPicPr>
        <p:blipFill>
          <a:blip r:embed="rId1"/>
          <a:stretch/>
        </p:blipFill>
        <p:spPr>
          <a:xfrm>
            <a:off x="1219320" y="1523880"/>
            <a:ext cx="662940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Isobar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obars-connect points of the “same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amples: temperature and wind spe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further away the lines the lower the wind spe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3" name="Picture 6" descr="isobar map"/>
          <p:cNvPicPr/>
          <p:nvPr/>
        </p:nvPicPr>
        <p:blipFill>
          <a:blip r:embed="rId1"/>
          <a:stretch/>
        </p:blipFill>
        <p:spPr>
          <a:xfrm>
            <a:off x="4495680" y="1828800"/>
            <a:ext cx="419436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7e7ff"/>
                </a:solidFill>
                <a:latin typeface="Arial"/>
              </a:rPr>
              <a:t>Humidity</a:t>
            </a:r>
            <a:endParaRPr b="0" lang="en-US" sz="5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amount of water vapor present in the ai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Relative Humidit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-is a measure of the amount of water vapor present in the air compared to the amount needed for saturation at a specific tempera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0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Scale>
                                      <p:cBhvr>
                                        <p:cTn id="2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2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2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2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haucer"/>
              </a:rPr>
              <a:t>Clouds</a:t>
            </a:r>
            <a:endParaRPr b="0" lang="en-US" sz="6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sses of small water droplets or tiny ice crystals that float in the ai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ree main types are cirrus, cumulus, and stratu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ther clouds are a mixture of these three main typ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5" descr="cloud formation"/>
          <p:cNvPicPr/>
          <p:nvPr/>
        </p:nvPicPr>
        <p:blipFill>
          <a:blip r:embed="rId1"/>
          <a:stretch/>
        </p:blipFill>
        <p:spPr>
          <a:xfrm>
            <a:off x="685800" y="1447920"/>
            <a:ext cx="7772400" cy="5105160"/>
          </a:xfrm>
          <a:prstGeom prst="rect">
            <a:avLst/>
          </a:prstGeom>
          <a:ln w="0">
            <a:noFill/>
          </a:ln>
        </p:spPr>
      </p:pic>
      <p:sp>
        <p:nvSpPr>
          <p:cNvPr id="62" name="WordArt 7"/>
          <p:cNvSpPr txBox="1"/>
          <p:nvPr/>
        </p:nvSpPr>
        <p:spPr>
          <a:xfrm>
            <a:off x="533520" y="380880"/>
            <a:ext cx="792468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cap="rnd" w="38160">
                  <a:solidFill>
                    <a:srgbClr val="0000a4"/>
                  </a:solidFill>
                  <a:custDash>
                    <a:ds d="100000" sp="1000"/>
                  </a:custDash>
                  <a:miter/>
                </a:ln>
                <a:solidFill>
                  <a:srgbClr val="ffffff"/>
                </a:solidFill>
                <a:latin typeface="Arial Black"/>
              </a:rPr>
              <a:t>Cloud Formation</a:t>
            </a:r>
            <a:endParaRPr b="0" lang="en-US" sz="4000" spc="1" strike="noStrike">
              <a:ln cap="rnd" w="38160">
                <a:solidFill>
                  <a:srgbClr val="0000a4"/>
                </a:solidFill>
                <a:custDash>
                  <a:ds d="100000" sp="1000"/>
                </a:custDash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irru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irro- means “curled” or “feathery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m highest in the sky; are made up of ice crystals; and appear as curls, tufts, or wisp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ually signal the end of clear weath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ffff"/>
                </a:solidFill>
                <a:latin typeface="Bazooka"/>
              </a:rPr>
              <a:t>Cumulus</a:t>
            </a:r>
            <a:endParaRPr b="0" lang="en-US" sz="6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a4"/>
                </a:solidFill>
                <a:latin typeface="Arial"/>
              </a:rPr>
              <a:t>Cumulo- means “heaped” or “piled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a4"/>
                </a:solidFill>
                <a:latin typeface="Arial"/>
              </a:rPr>
              <a:t>Cottony clouds with flat, usually gray bases, and puffy, bright top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a4"/>
                </a:solidFill>
                <a:latin typeface="Arial"/>
              </a:rPr>
              <a:t>Usually signal good weather, but if atmosphere is unstable, can build into towering clouds that produce showers and thunderstorm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3T20:12:06Z</dcterms:created>
  <dc:creator>SBK920</dc:creator>
  <dc:description>Weather</dc:description>
  <cp:keywords>Weather</cp:keywords>
  <dc:language>en-US</dc:language>
  <cp:lastModifiedBy>RomaK</cp:lastModifiedBy>
  <dcterms:modified xsi:type="dcterms:W3CDTF">2015-09-04T09:46:04Z</dcterms:modified>
  <cp:revision>13</cp:revision>
  <dc:subject>weather</dc:subject>
  <dc:title>Weather</dc:title>
</cp:coreProperties>
</file>