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4.wmf" ContentType="image/x-wmf"/>
  <Override PartName="/ppt/media/image6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41.png" ContentType="image/png"/>
  <Override PartName="/ppt/media/image30.png" ContentType="image/png"/>
  <Override PartName="/ppt/media/image8.jpeg" ContentType="image/jpeg"/>
  <Override PartName="/ppt/media/image42.png" ContentType="image/png"/>
  <Override PartName="/ppt/media/image44.jpeg" ContentType="image/jpeg"/>
  <Override PartName="/ppt/media/image34.png" ContentType="image/png"/>
  <Override PartName="/ppt/media/image35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3.jpeg" ContentType="image/jpeg"/>
  <Override PartName="/ppt/media/image20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38.jpeg" ContentType="image/jpeg"/>
  <Override PartName="/ppt/media/image5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B362-F512-483E-A051-5C56DCD8C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28D-49B6-4073-A575-A77C871D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2A5-89AC-43D0-A0E7-137A598E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B9F-D10D-4BAF-9872-B64C8528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D20-EF30-4F49-8B0C-34DDEFE7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CAA-8E1F-4198-BC8F-A1E2A542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086-7546-4DB8-A275-93EA7ECD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FE6-0F83-467D-9833-14DF9C66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48F-A139-451C-ADC9-14113077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2D9-6350-4888-BD12-4B66BC24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FDE-EAB0-4517-A944-E0C40C0F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F08-C5FB-40A9-A100-B34FC6C5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50E-B93B-4B7D-A0F3-E561C2C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308F-6BB4-4F88-8FF7-5ABAA05FE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ws.noaa.gov/pa/aboutnws.html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685800" y="1905120"/>
            <a:ext cx="7391520" cy="29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4428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Weather</a:t>
            </a:r>
            <a:endParaRPr b="0" lang="en-US" sz="1800" spc="1" strike="noStrike">
              <a:ln cap="rnd" w="4428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imb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9" descr="cirrucumulus"/>
          <p:cNvPicPr/>
          <p:nvPr/>
        </p:nvPicPr>
        <p:blipFill>
          <a:blip r:embed="rId1"/>
          <a:stretch/>
        </p:blipFill>
        <p:spPr>
          <a:xfrm>
            <a:off x="457200" y="1447920"/>
            <a:ext cx="3427560" cy="22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irrostratus"/>
          <p:cNvPicPr/>
          <p:nvPr/>
        </p:nvPicPr>
        <p:blipFill>
          <a:blip r:embed="rId2"/>
          <a:stretch/>
        </p:blipFill>
        <p:spPr>
          <a:xfrm>
            <a:off x="4724280" y="1447920"/>
            <a:ext cx="3429000" cy="22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cumulonimbus"/>
          <p:cNvPicPr/>
          <p:nvPr/>
        </p:nvPicPr>
        <p:blipFill>
          <a:blip r:embed="rId3"/>
          <a:stretch/>
        </p:blipFill>
        <p:spPr>
          <a:xfrm>
            <a:off x="4800600" y="3886200"/>
            <a:ext cx="3351240" cy="228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stratocumulus"/>
          <p:cNvPicPr/>
          <p:nvPr/>
        </p:nvPicPr>
        <p:blipFill>
          <a:blip r:embed="rId4"/>
          <a:stretch/>
        </p:blipFill>
        <p:spPr>
          <a:xfrm>
            <a:off x="457200" y="3962520"/>
            <a:ext cx="3505320" cy="2166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14479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958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5238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tra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571500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umulonim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9" descr="altocumuls"/>
          <p:cNvPicPr/>
          <p:nvPr/>
        </p:nvPicPr>
        <p:blipFill>
          <a:blip r:embed="rId1"/>
          <a:stretch/>
        </p:blipFill>
        <p:spPr>
          <a:xfrm>
            <a:off x="228600" y="228600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ltostratus"/>
          <p:cNvPicPr/>
          <p:nvPr/>
        </p:nvPicPr>
        <p:blipFill>
          <a:blip r:embed="rId2"/>
          <a:stretch/>
        </p:blipFill>
        <p:spPr>
          <a:xfrm>
            <a:off x="5159520" y="1676520"/>
            <a:ext cx="3170160" cy="213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nimbostratus"/>
          <p:cNvPicPr/>
          <p:nvPr/>
        </p:nvPicPr>
        <p:blipFill>
          <a:blip r:embed="rId3"/>
          <a:stretch/>
        </p:blipFill>
        <p:spPr>
          <a:xfrm>
            <a:off x="4716360" y="3963960"/>
            <a:ext cx="4057920" cy="2135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1828800" y="4724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29528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24852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t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09588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imb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Types of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Precipitation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3" descr="rain"/>
          <p:cNvPicPr/>
          <p:nvPr/>
        </p:nvPicPr>
        <p:blipFill>
          <a:blip r:embed="rId1"/>
          <a:stretch/>
        </p:blipFill>
        <p:spPr>
          <a:xfrm>
            <a:off x="609480" y="1676520"/>
            <a:ext cx="1981440" cy="196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819520" y="2362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5" descr="sleet"/>
          <p:cNvPicPr/>
          <p:nvPr/>
        </p:nvPicPr>
        <p:blipFill>
          <a:blip r:embed="rId2"/>
          <a:stretch/>
        </p:blipFill>
        <p:spPr>
          <a:xfrm>
            <a:off x="4876920" y="1752480"/>
            <a:ext cx="1927080" cy="1981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7086600" y="243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l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snow"/>
          <p:cNvPicPr/>
          <p:nvPr/>
        </p:nvPicPr>
        <p:blipFill>
          <a:blip r:embed="rId3"/>
          <a:stretch/>
        </p:blipFill>
        <p:spPr>
          <a:xfrm>
            <a:off x="609480" y="4191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2895480" y="50292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9" descr="hail"/>
          <p:cNvPicPr/>
          <p:nvPr/>
        </p:nvPicPr>
        <p:blipFill>
          <a:blip r:embed="rId4"/>
          <a:stretch/>
        </p:blipFill>
        <p:spPr>
          <a:xfrm>
            <a:off x="487692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7162920" y="5105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Ha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ir Mass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A large body of air that has properties similar to the part of the Earth’s surface over which it develop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Mass M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Picture 5" descr="airmasses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o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9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rm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5" descr="warm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cclude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5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onary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stationary front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10" descr="thunderstorm"/>
          <p:cNvPicPr/>
          <p:nvPr/>
        </p:nvPicPr>
        <p:blipFill>
          <a:blip r:embed="rId1"/>
          <a:stretch/>
        </p:blipFill>
        <p:spPr>
          <a:xfrm>
            <a:off x="228600" y="1981080"/>
            <a:ext cx="2948040" cy="48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thunderstorm"/>
          <p:cNvPicPr/>
          <p:nvPr/>
        </p:nvPicPr>
        <p:blipFill>
          <a:blip r:embed="rId2"/>
          <a:stretch/>
        </p:blipFill>
        <p:spPr>
          <a:xfrm>
            <a:off x="5867280" y="129528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rnado"/>
          <p:cNvPicPr/>
          <p:nvPr/>
        </p:nvPicPr>
        <p:blipFill>
          <a:blip r:embed="rId3"/>
          <a:stretch/>
        </p:blipFill>
        <p:spPr>
          <a:xfrm>
            <a:off x="5867280" y="388620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3049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hunder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38480" y="2590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Light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88620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orna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stormy_weather.mp3" descr=""/>
          <p:cNvPicPr/>
          <p:nvPr/>
        </p:nvPicPr>
        <p:blipFill>
          <a:blip r:embed="rId4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Picture 9" descr="blizzard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990720" y="6019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Hurrica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8640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Blizz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9" descr="hurricane"/>
          <p:cNvPicPr/>
          <p:nvPr/>
        </p:nvPicPr>
        <p:blipFill>
          <a:blip r:embed="rId2"/>
          <a:stretch/>
        </p:blipFill>
        <p:spPr>
          <a:xfrm>
            <a:off x="3049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 Safe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8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419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1498620000[1]"/>
          <p:cNvPicPr/>
          <p:nvPr/>
        </p:nvPicPr>
        <p:blipFill>
          <a:blip r:embed="rId2"/>
          <a:stretch/>
        </p:blipFill>
        <p:spPr>
          <a:xfrm>
            <a:off x="5181480" y="1523880"/>
            <a:ext cx="2224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ght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5" descr="lighting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rnado Al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6" descr="tornado alley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jiti Sca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Picture 6" descr="fuji scale"/>
          <p:cNvPicPr/>
          <p:nvPr/>
        </p:nvPicPr>
        <p:blipFill>
          <a:blip r:embed="rId1"/>
          <a:stretch/>
        </p:blipFill>
        <p:spPr>
          <a:xfrm>
            <a:off x="609480" y="1951200"/>
            <a:ext cx="80773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ornado video.ASF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137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Weather Map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6" descr="Weather map"/>
          <p:cNvPicPr/>
          <p:nvPr/>
        </p:nvPicPr>
        <p:blipFill>
          <a:blip r:embed="rId1"/>
          <a:stretch/>
        </p:blipFill>
        <p:spPr>
          <a:xfrm>
            <a:off x="838080" y="2133720"/>
            <a:ext cx="73915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166 -0.56624 C -0.48281 -0.58197 -0.44948 -0.59723 -0.43767 -0.59723 C -0.36423 -0.59723 -0.28923 -0.35306 -0.28923 -0.1089 C -0.28923 -0.23214 -0.25104 -0.35306 -0.2158 -0.35306 C -0.17812 -0.35306 -0.14201 -0.23006 -0.14201 -0.1089 C -0.14201 -0.16994 -0.12309 -0.23214 -0.10416 -0.23214 C -0.08524 -0.23214 -0.06649 -0.17156 -0.06649 -0.1089 C -0.06649 -0.14035 -0.05694 -0.16994 -0.04757 -0.16994 C -0.03819 -0.16994 -0.02864 -0.1385 -0.02864 -0.1089 C -0.02864 -0.12462 -0.02378 -0.14035 -0.01927 -0.14035 C -0.01684 -0.14035 -0.00989 -0.12462 -0.00989 -0.1089 C -0.00989 -0.11699 -0.00729 -0.12462 -0.00486 -0.12462 C -0.00486 -0.12254 -3.33333E-006 -0.11699 -3.33333E-006 -0.1089 C -3.33333E-006 -0.11306 -3.33332999999988E-006 -0.11699 0.00243 -0.11699 C 0.00243 -0.11491 0.00486 -0.11283 0.00486 -0.1089 C 0.00486 -0.11098 0.00486 -0.11306 0.00486 -0.11491 C 0.00747 -0.11491 0.00747 -0.11283 0.00747 -0.11075 C 0.0099 -0.11075 0.0099 -0.11283 0.0099 -0.11491 C 0.0125 -0.11491 0.0125 -0.11283 0.0125 -0.11075 E">
                                      <p:cBhvr>
                                        <p:cTn id="21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Picture 11" descr="hurricane diagram"/>
          <p:cNvPicPr/>
          <p:nvPr/>
        </p:nvPicPr>
        <p:blipFill>
          <a:blip r:embed="rId1"/>
          <a:stretch/>
        </p:blipFill>
        <p:spPr>
          <a:xfrm>
            <a:off x="1143000" y="1371600"/>
            <a:ext cx="716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zooka"/>
              </a:rPr>
              <a:t>Hurricane Scal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Picture 6" descr="hurricane_sign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 Char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Hurricane charley.wmv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1066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3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N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676520"/>
            <a:ext cx="2209680" cy="21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nws2"/>
          <p:cNvPicPr/>
          <p:nvPr/>
        </p:nvPicPr>
        <p:blipFill>
          <a:blip r:embed="rId3"/>
          <a:stretch/>
        </p:blipFill>
        <p:spPr>
          <a:xfrm>
            <a:off x="5286240" y="3963960"/>
            <a:ext cx="2917800" cy="21351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066680" y="30492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eather"/>
              </a:rPr>
              <a:t>NW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ural movement of air of any velocity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pec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earth's air or the gas surrounding a planet in natural motion horizont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MMj0284015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3408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ather Station Mod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0" name="Picture 6" descr="Station Model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soba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isob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419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Humidity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ative Humid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is a measure of the amount of water vapor present in the air compared to the amount needed for saturation at a specific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ucer"/>
              </a:rPr>
              <a:t>Cloud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loud formation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WordArt 7"/>
          <p:cNvSpPr txBox="1"/>
          <p:nvPr/>
        </p:nvSpPr>
        <p:spPr>
          <a:xfrm>
            <a:off x="533520" y="380880"/>
            <a:ext cx="7924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38160">
                  <a:solidFill>
                    <a:srgbClr val="0000a4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 Black"/>
              </a:rPr>
              <a:t>Cloud Formation</a:t>
            </a:r>
            <a:endParaRPr b="0" lang="en-US" sz="4000" spc="1" strike="noStrike">
              <a:ln cap="rnd" w="38160">
                <a:solidFill>
                  <a:srgbClr val="0000a4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irr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azooka"/>
              </a:rPr>
              <a:t>Cumulu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umulo- means “heaped” or “pil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ottony clouds with flat, usually gray bases, and puffy, bright to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12:06Z</dcterms:created>
  <dc:creator>SBK920</dc:creator>
  <dc:description>Weather</dc:description>
  <cp:keywords>Weather</cp:keywords>
  <dc:language>en-US</dc:language>
  <cp:lastModifiedBy>RomaK</cp:lastModifiedBy>
  <dcterms:modified xsi:type="dcterms:W3CDTF">2015-09-04T09:46:04Z</dcterms:modified>
  <cp:revision>13</cp:revision>
  <dc:subject>weather</dc:subject>
  <dc:title>Weather</dc:title>
</cp:coreProperties>
</file>