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1CC9-4C20-4C41-BCFD-32B41186CF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0E6-BABA-4665-B844-F0FC099F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A7E-209E-496D-B92C-7EF2A5BB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96A-0BBE-4CA7-A048-8F0926CE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772-FFC3-4AC0-B690-2798A552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F93-6770-4FB3-9DC3-2C940245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847-2A97-4499-93EE-1973449E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766-7DA7-432D-8789-EAF4BFC0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53C-BF13-48E9-ACD6-B5AED668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D7C-F90B-4761-8FC3-724579C3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C87-8FC8-46F6-955D-C0F01DF7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499-054F-4536-AA83-0C716DBE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AEE-F52E-42B1-9704-CC62ACA9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644B-3988-45BE-996E-2DBA9DB060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8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8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RomaK</cp:lastModifiedBy>
  <dcterms:modified xsi:type="dcterms:W3CDTF">2015-09-04T09:25:15Z</dcterms:modified>
  <cp:revision>8</cp:revision>
  <dc:subject/>
  <dc:title>A Brief History of Life</dc:title>
</cp:coreProperties>
</file>