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2319E-D282-4925-A561-52153CA003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Brief History of Lif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id Everything Begi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ief History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Everything Beg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rom single-celled organisms to complex creature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vol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atural selection- helpful traits vs. harmful trait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daptation- best suited for environ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enetic drift- independent process that produces random changes; ch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versification in na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rom single-celled organisms to complex creature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tural selection- helpful traits vs. harmful trai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aptation- best suited for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tic drift- independent process that produces random changes; ch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versification in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mbrian Explo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mbrian Expl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escent of Man and the Attacks on Evol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scent of Man and the Attacks on 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Human Stor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nozoic Era (“Age of Mammals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ound 2.5 million years ago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frican Savan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mmals including prima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mans and chimpanzees share a common ancestor between 7 to 6 million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man Sto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ozoic Era (“Age of Mammals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ound 2.5 million years ag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n Savan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 including prim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s and chimpanzees share a common ancestor between 7 to 6 m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they are happy swinging in trees, why come dow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idences found in the Great Rift Valley, savannas on the Eastern part of Afric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iculty in knuckle walking → adapt to bipedal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dators abound → flight or fight, shelter and prot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attered plants → change in diet, enriched food sele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y are happy swinging in trees, why come dow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s found in the Great Rift Valley, savannas on the Eastern part of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in knuckle walking → adapt to bipeda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ators abound → flight or fight, shelter and prot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ttered plants → change in diet, enriched food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uthern Ape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stralopithec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 to 1 million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istics similar to humans and a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rable brain size with a chimpanz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. afarensis →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uthern Ap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alopithe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to 1 m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similar to humans and 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able brain size with a chimpanz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afarensis 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ero murampa na ni siya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ipedal; hands like huma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. african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ucy in the Sky with Diamo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o murampa na ni siya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pedal; hands like hu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. afric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cy in the Sky with Diam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r. Handy M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o habil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5 to 1.5 million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posable thumbs- efficient means of handling things and creating too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Handy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 habi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 to 1.5 m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able thumbs- efficient means of handling things and creating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Original Laa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o erect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6 million years to 200,000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gger brains, tall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←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king M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iginal Laa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 erec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6 million years to 200,000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brains, ta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←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king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ntelligent Design Theories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(Creation Myth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lligent Design Theorie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Creation Myth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Taller, Smarter, Wiser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Homo sapie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Neanderth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Cro-magn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Taller, Smarter, Wis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Homo sapi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Cro-mag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sest of them all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o sapiens sapie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sest of them a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 sapiens sapi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Stories from Around the World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Stories from Around the Worl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 how the world began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how the world bega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ll of them uniq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of them un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the earth has existed for 4.5 billion years, what about life on earth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liest evidence: cyanobacteria called stromatolites (3.4 billion years), in Austral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 early as 3.8 billion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th was stable enough to support lif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ibonucleic Acid (R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earth has existed for 4.5 billion years, what about life on earth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iest evidence: cyanobacteria called stromatolites (3.4 billion years), in Austr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early as 3.8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was stable enough to support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bonucleic Acid (R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t where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ibly the ocean, based on eviden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ssi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ep sea microb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moker fossils in Ch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er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y the ocean, based on evid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ss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ep sea mic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oker fossils in 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7F78-CDAF-4992-A0C7-51DBCA3B5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0D66-C83B-45AD-8599-D5572DE4D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2ECC-DDE7-4CC9-AA9F-986F2E559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87C7-9865-4250-929E-BB6D80A9D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D9C8-6F7A-4A6A-88C3-C0268630B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794E-A577-4968-B5BC-5F827634B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28E9-B92B-449E-8722-D7E94A4FE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3678-304E-449D-9B01-7F597B068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6B47-1A8C-4688-8654-88BDED3BD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30C2-DA10-494F-9B34-5FD023F0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2F13-8F35-46E6-91FC-90A20751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3EF2-3DD3-433C-B286-1CD7EF37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6D118-EB70-4C52-BC1B-C456FE78507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bf1"/>
                </a:solidFill>
                <a:latin typeface="Arial"/>
              </a:rPr>
              <a:t>A Brief History of Life</a:t>
            </a:r>
            <a:endParaRPr b="0" lang="en-US" sz="6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id Everything Begi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From single-celled organisms to complex creatures…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200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vo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ural selection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elpful traits vs. harmful trait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aptation- best suited for environ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tic drift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dependent process that produces random changes; ch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versification in n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10" descr="darwin"/>
          <p:cNvPicPr/>
          <p:nvPr/>
        </p:nvPicPr>
        <p:blipFill>
          <a:blip r:embed="rId1"/>
          <a:stretch/>
        </p:blipFill>
        <p:spPr>
          <a:xfrm>
            <a:off x="3352680" y="3429000"/>
            <a:ext cx="2428920" cy="3124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origin of species"/>
          <p:cNvPicPr/>
          <p:nvPr/>
        </p:nvPicPr>
        <p:blipFill>
          <a:blip r:embed="rId2"/>
          <a:stretch/>
        </p:blipFill>
        <p:spPr>
          <a:xfrm>
            <a:off x="5638680" y="1751040"/>
            <a:ext cx="2903760" cy="3811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3" descr="Charles_Darwin"/>
          <p:cNvPicPr/>
          <p:nvPr/>
        </p:nvPicPr>
        <p:blipFill>
          <a:blip r:embed="rId3"/>
          <a:stretch/>
        </p:blipFill>
        <p:spPr>
          <a:xfrm>
            <a:off x="3941640" y="1447920"/>
            <a:ext cx="1706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cambrian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ambrian Explo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8" name="Picture 5" descr="cambrian explosion"/>
          <p:cNvPicPr/>
          <p:nvPr/>
        </p:nvPicPr>
        <p:blipFill>
          <a:blip r:embed="rId1"/>
          <a:stretch/>
        </p:blipFill>
        <p:spPr>
          <a:xfrm>
            <a:off x="1066680" y="1371600"/>
            <a:ext cx="716292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77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4" dur="770" fill="hold"/>
                                        <p:tgtEl>
                                          <p:spTgt spid="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6" dur="77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8" dur="77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77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5" dur="770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7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9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The Descent of Man and the Attacks on Evolution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80" name="Picture 5" descr="Darwin_ape"/>
          <p:cNvPicPr/>
          <p:nvPr/>
        </p:nvPicPr>
        <p:blipFill>
          <a:blip r:embed="rId1"/>
          <a:stretch/>
        </p:blipFill>
        <p:spPr>
          <a:xfrm>
            <a:off x="1066680" y="1828800"/>
            <a:ext cx="3173400" cy="4343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EvolutionDarwinism"/>
          <p:cNvPicPr/>
          <p:nvPr/>
        </p:nvPicPr>
        <p:blipFill>
          <a:blip r:embed="rId2"/>
          <a:stretch/>
        </p:blipFill>
        <p:spPr>
          <a:xfrm>
            <a:off x="4648320" y="1828800"/>
            <a:ext cx="3528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Human Story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nozoic Era (“Age of Mammals”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ound 2.5 million years ag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rican Savan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mmals including prim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mans and chimpanzees share a common ancestor between 7 to 6 million years a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If they are happy swinging in trees, why come down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idences found in th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eat Rift Valley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vannas on the Eastern part of Af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y in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knuckle walking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pt to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pedal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dators aboun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→ flight or fight, shelter and prot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cattered plants → change in diet, enriched food se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Southern Ape”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stralopithe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 to 1 million years a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acteristics similar to humans and a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able brain size with a chimpanz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afarensi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6" descr="a afarensis"/>
          <p:cNvPicPr/>
          <p:nvPr/>
        </p:nvPicPr>
        <p:blipFill>
          <a:blip r:embed="rId1"/>
          <a:stretch/>
        </p:blipFill>
        <p:spPr>
          <a:xfrm>
            <a:off x="4495680" y="1743120"/>
            <a:ext cx="434340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o murampa na ni siya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505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pedal; hands like hum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african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7009920" y="5181120"/>
            <a:ext cx="21337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uc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Sky with Diamo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5" descr="a africanus"/>
          <p:cNvPicPr/>
          <p:nvPr/>
        </p:nvPicPr>
        <p:blipFill>
          <a:blip r:embed="rId1"/>
          <a:stretch/>
        </p:blipFill>
        <p:spPr>
          <a:xfrm>
            <a:off x="380880" y="3124080"/>
            <a:ext cx="3657600" cy="3429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lucy"/>
          <p:cNvPicPr/>
          <p:nvPr/>
        </p:nvPicPr>
        <p:blipFill>
          <a:blip r:embed="rId2"/>
          <a:stretch/>
        </p:blipFill>
        <p:spPr>
          <a:xfrm>
            <a:off x="4267080" y="1447920"/>
            <a:ext cx="274320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r. Handy Ma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mo habil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5 to 1.5 million years a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posable thumbs- efficient means of handling things and creating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Original Laaga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98" name="Picture 5" descr="peking man"/>
          <p:cNvPicPr/>
          <p:nvPr/>
        </p:nvPicPr>
        <p:blipFill>
          <a:blip r:embed="rId1"/>
          <a:stretch/>
        </p:blipFill>
        <p:spPr>
          <a:xfrm>
            <a:off x="685800" y="1447920"/>
            <a:ext cx="3718080" cy="49528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mo erect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6 million years to 200,000 years a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gger brains, tal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←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king 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6" descr="homo erectus"/>
          <p:cNvPicPr/>
          <p:nvPr/>
        </p:nvPicPr>
        <p:blipFill>
          <a:blip r:embed="rId2"/>
          <a:stretch/>
        </p:blipFill>
        <p:spPr>
          <a:xfrm>
            <a:off x="5105520" y="4114800"/>
            <a:ext cx="27432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Intelligent Design Theories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(Creation Myths)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8" descr="greek pantheon"/>
          <p:cNvPicPr/>
          <p:nvPr/>
        </p:nvPicPr>
        <p:blipFill>
          <a:blip r:embed="rId1"/>
          <a:stretch/>
        </p:blipFill>
        <p:spPr>
          <a:xfrm>
            <a:off x="457200" y="1832040"/>
            <a:ext cx="4343400" cy="4186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norse"/>
          <p:cNvPicPr/>
          <p:nvPr/>
        </p:nvPicPr>
        <p:blipFill>
          <a:blip r:embed="rId2"/>
          <a:stretch/>
        </p:blipFill>
        <p:spPr>
          <a:xfrm>
            <a:off x="4952880" y="1751040"/>
            <a:ext cx="33530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aller, Smarter, Wiser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mo sapie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o-magn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4" descr="neanderthal skeleton"/>
          <p:cNvPicPr/>
          <p:nvPr/>
        </p:nvPicPr>
        <p:blipFill>
          <a:blip r:embed="rId1"/>
          <a:stretch/>
        </p:blipFill>
        <p:spPr>
          <a:xfrm>
            <a:off x="5105520" y="1676520"/>
            <a:ext cx="2334960" cy="4952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neanderthal child"/>
          <p:cNvPicPr/>
          <p:nvPr/>
        </p:nvPicPr>
        <p:blipFill>
          <a:blip r:embed="rId2"/>
          <a:stretch/>
        </p:blipFill>
        <p:spPr>
          <a:xfrm>
            <a:off x="1143000" y="3352680"/>
            <a:ext cx="25606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isest of them all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mo sapiens sapie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6" descr="intramurals (42)"/>
          <p:cNvPicPr/>
          <p:nvPr/>
        </p:nvPicPr>
        <p:blipFill>
          <a:blip r:embed="rId1"/>
          <a:stretch/>
        </p:blipFill>
        <p:spPr>
          <a:xfrm>
            <a:off x="457200" y="22860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DSC01755"/>
          <p:cNvPicPr/>
          <p:nvPr/>
        </p:nvPicPr>
        <p:blipFill>
          <a:blip r:embed="rId2"/>
          <a:stretch/>
        </p:blipFill>
        <p:spPr>
          <a:xfrm>
            <a:off x="3505320" y="2362320"/>
            <a:ext cx="4952880" cy="4244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DSC00011"/>
          <p:cNvPicPr/>
          <p:nvPr/>
        </p:nvPicPr>
        <p:blipFill>
          <a:blip r:embed="rId3"/>
          <a:stretch/>
        </p:blipFill>
        <p:spPr>
          <a:xfrm>
            <a:off x="380880" y="4572000"/>
            <a:ext cx="29718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77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0" dur="770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2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4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0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More Stories from Around the World…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5" name="Picture 4" descr="african gods"/>
          <p:cNvPicPr/>
          <p:nvPr/>
        </p:nvPicPr>
        <p:blipFill>
          <a:blip r:embed="rId1"/>
          <a:stretch/>
        </p:blipFill>
        <p:spPr>
          <a:xfrm>
            <a:off x="533520" y="1752480"/>
            <a:ext cx="2971800" cy="4496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nut"/>
          <p:cNvPicPr/>
          <p:nvPr/>
        </p:nvPicPr>
        <p:blipFill>
          <a:blip r:embed="rId2"/>
          <a:stretch/>
        </p:blipFill>
        <p:spPr>
          <a:xfrm>
            <a:off x="3809880" y="1752480"/>
            <a:ext cx="50292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n how the world began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8" name="Picture 8" descr="vishnu-painting"/>
          <p:cNvPicPr/>
          <p:nvPr/>
        </p:nvPicPr>
        <p:blipFill>
          <a:blip r:embed="rId1"/>
          <a:stretch/>
        </p:blipFill>
        <p:spPr>
          <a:xfrm>
            <a:off x="380880" y="1523880"/>
            <a:ext cx="5257800" cy="4800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Izanami_and_izanagi"/>
          <p:cNvPicPr/>
          <p:nvPr/>
        </p:nvPicPr>
        <p:blipFill>
          <a:blip r:embed="rId2"/>
          <a:stretch/>
        </p:blipFill>
        <p:spPr>
          <a:xfrm>
            <a:off x="5943600" y="1295280"/>
            <a:ext cx="24922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ll of them uniqu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1" name="Picture 10" descr="quetzalcoatl"/>
          <p:cNvPicPr/>
          <p:nvPr/>
        </p:nvPicPr>
        <p:blipFill>
          <a:blip r:embed="rId1"/>
          <a:stretch/>
        </p:blipFill>
        <p:spPr>
          <a:xfrm>
            <a:off x="228600" y="1981080"/>
            <a:ext cx="4572000" cy="3800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malakas at maganda"/>
          <p:cNvPicPr/>
          <p:nvPr/>
        </p:nvPicPr>
        <p:blipFill>
          <a:blip r:embed="rId2"/>
          <a:stretch/>
        </p:blipFill>
        <p:spPr>
          <a:xfrm>
            <a:off x="4840200" y="1600200"/>
            <a:ext cx="3819600" cy="44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big ba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77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770" fill="hold"/>
                                        <p:tgtEl>
                                          <p:spTgt spid="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bigbang2"/>
          <p:cNvPicPr/>
          <p:nvPr/>
        </p:nvPicPr>
        <p:blipFill>
          <a:blip r:embed="rId1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bf1"/>
                </a:solidFill>
                <a:latin typeface="Arial"/>
              </a:rPr>
              <a:t>If the earth has existed for 4.5 billion years, what about </a:t>
            </a:r>
            <a:r>
              <a:rPr b="1" lang="en-US" sz="3200" spc="-1" strike="noStrike">
                <a:solidFill>
                  <a:srgbClr val="e3ebf1"/>
                </a:solidFill>
                <a:latin typeface="Arial"/>
              </a:rPr>
              <a:t>life on earth</a:t>
            </a:r>
            <a:r>
              <a:rPr b="0" lang="en-US" sz="3200" spc="-1" strike="noStrike">
                <a:solidFill>
                  <a:srgbClr val="e3ebf1"/>
                </a:solidFill>
                <a:latin typeface="Arial"/>
              </a:rPr>
              <a:t>?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657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liest evidence: cyanobacteria called stromatolites (3.4 billion years), in Austral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early as 3.8 billion years a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th was stable enough to support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bonucleic Acid (RN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6" descr="RNA"/>
          <p:cNvPicPr/>
          <p:nvPr/>
        </p:nvPicPr>
        <p:blipFill>
          <a:blip r:embed="rId1"/>
          <a:stretch/>
        </p:blipFill>
        <p:spPr>
          <a:xfrm>
            <a:off x="4191120" y="182880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ut where?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sibly the ocean, based on evid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ssi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ep sea microb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oker fossils in Ch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8" descr="smoker fossil"/>
          <p:cNvPicPr/>
          <p:nvPr/>
        </p:nvPicPr>
        <p:blipFill>
          <a:blip r:embed="rId1"/>
          <a:stretch/>
        </p:blipFill>
        <p:spPr>
          <a:xfrm>
            <a:off x="304920" y="1676520"/>
            <a:ext cx="41907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7T06:45:49Z</dcterms:created>
  <dc:creator>deiyow_t</dc:creator>
  <dc:description/>
  <dc:language>en-US</dc:language>
  <cp:lastModifiedBy>RomaK</cp:lastModifiedBy>
  <dcterms:modified xsi:type="dcterms:W3CDTF">2015-09-04T09:25:15Z</dcterms:modified>
  <cp:revision>8</cp:revision>
  <dc:subject/>
  <dc:title>A Brief History of Life</dc:title>
</cp:coreProperties>
</file>