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92C8-6A8E-4554-8059-71D38E9B01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51B-D671-4BD3-BB8C-6523C99F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C28-D245-4E34-BAC5-8529F940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A0C5F-E7D5-4A7B-8DE4-5ECAF2D6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82035-C624-472B-A9E1-0416747C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9DD9A-A341-4411-8484-D179A03F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A979A-2319-4E1F-A3E1-E0945D93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FE96D-ADA4-4F24-A827-83107A2A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F1C18-E765-4798-A2CA-A4FD6852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160FF-9110-4D43-AD22-CA6189E6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97D7C-7CF9-470B-BDDF-322294D3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1CBA9-D5F8-489A-9C51-EA134E26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03449-D03D-43A2-BDEC-AC77BB55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55D-E933-45AF-B474-B368B895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0E3AB-1D12-4E4F-BA33-CB3C84F1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B62C2-0DC9-4D6D-BF68-6EC6FF96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A743B-56E5-4A69-A05B-D9BC033E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49F5F-6811-4E77-889E-DC61642F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E9483-578A-489B-AB85-3A9C65C7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001FB-CE61-4763-A9A5-466C5E1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6BE30-018A-458E-80B4-4C1010DB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854D6-C14B-4FC2-8A35-39733535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6582D-63CB-4DB7-A187-44470B95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B78D2-BEC2-4F3A-8586-75F1AFB5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55C-35F2-4CA2-9980-13B6C118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29D8A-2454-4B7E-AABB-9B950473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B78CD-E64C-4CE0-ADC8-2F08B120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99AC3-76D0-45C7-A39D-1742FA61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84082-394A-4342-A483-5949B567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6BE72-ACC4-45EE-9B2A-2EAF487F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C3F34-9BC3-4B86-BDCF-F9A12A95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F6D59-BE24-485F-8CCA-58138AFD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25ADC-F20D-42AA-ABE9-E1E7AAAF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5EA80-3F7A-430A-9789-6F4F5706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674FA-6EC3-480C-B35F-111ACD3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8277-11AB-4E27-AE92-C35C296E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3A586-8702-442C-A2CD-67F350FE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689A3-A032-4296-84FF-2D337570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C9A99-359C-4FE1-A10A-0B3B35AC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E91CA-1F8D-4C51-BD34-E5B32C14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AFBBE-6785-4A2C-A54D-E9A64555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D0F7D-A333-4F5D-8BC0-8DBF04F0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F85A0-1EE8-4F65-AC77-F40A5B4A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9FFB9-6B98-4DF9-9E2E-6A882918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B8C10-0A74-485C-B671-628D14CF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F3A19-B9A2-4DD9-A602-BE2F7C3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C5C2-8401-4878-83CD-386CFB84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B9D48-D826-4DCC-B4B2-A6AA14CC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8F838-478A-4283-9846-2D6D28D3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7A8BB-8271-42B4-86DC-C1FE6FD4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E0163-BA9C-4C26-85A4-48D3BBF5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59195-8536-40B6-8E55-BE503BC7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0CC5F-E484-4FAE-9DEA-C06F0190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9C40D-517B-4608-815F-8188ED5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9EBBE-22F3-453A-9956-9CF2157B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1F2FA-39D7-4CDD-BCFC-14ABF08C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65BAE-DFBD-420E-8E8E-C33964A4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3973-334A-4FC1-B0DA-8587F877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A456F-3D6B-45C2-BD3F-59AC8DD9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91BD4-5EC3-4D2B-8A83-084822C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0D5D2-F4E6-47CE-9E4B-633743F7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69E9D-0EB9-48EF-8685-A93D279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A91EE-D054-452C-B7EE-0D06B7D3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84658-2C3E-484E-90D4-356CBD00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F6BA1-85F0-4CED-BD60-82C68405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34311-E1C9-4C0B-8DCE-45658ED6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08B15-5ACF-4204-8E73-D072D09E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3023C-87DC-4D75-822A-5B08377F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B1C1-D3FA-46BF-92CF-0C1A5640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D219B-B113-4AA1-B52D-1EBD091A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1FC91-1967-46B7-B852-0B8721E4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66B04-6925-44C5-9B48-A7F5C1E7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2D2E3-5A2E-43F9-A210-78428872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79F40-9A0B-4C62-86C4-19C7FC86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4A072-2D16-450F-BBBD-A8E6957A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91379-99C7-4ECF-B298-51D3B129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76CBF-B448-4FA0-B4D8-4A260D99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593D1-FC7E-4556-9E3C-A9FC90E6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558F-A7B6-4B8F-9C28-27E6803A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BEAA-F0C0-43EB-8161-635D5C27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88FF-BD6C-4186-9B16-7EE3BDA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95C-15AB-4B52-93D0-63547EE9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46C5-E3F0-4BEE-B384-E1AD13D1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682D-6EE8-4B96-A662-871D3C80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516E-DDC3-4B39-A585-D4F8C1FD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A73B-A43E-4168-8F92-57EF08D5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7FAC-F969-4072-A41D-7BD2D48C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D86D-CC0A-409C-83CC-7E28E19A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6118F-C0E0-4E84-83FC-48443DA6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7157-BC86-4B87-970E-077398E9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9AE6-3FFD-4D64-8936-CC41FBDE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CAD1E-82F5-46A6-B80E-333730CF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0B6-FB2B-4A6D-9F4C-8D147009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1E0A-436A-455D-908C-9004B2C7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8B752-A837-4588-836C-2A8CCAF1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C5635-8831-4621-BD33-9FC69E96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D49B-D3E0-4F3C-8A3B-A4CD5C2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6C2B-BC67-4669-ADE5-1277B483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BBAEB-C020-4D4D-8B96-847625CC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C9A5-29B0-44DE-9A18-AC707795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6CA2-CD3D-41DC-8634-E3B4386A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F310-8A57-4520-A1C7-341DDACF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9D5DE-BFDF-4A01-A3DD-9A7D3225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388-2EE5-4E21-9D7D-C6B94468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93DD-C428-46E0-90E7-84DB13AF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5CF51-4C76-4719-ADD8-558CFC68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1D553-AF97-4C5E-8D8F-BEEC8D51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3C746-83B1-4488-8605-669944F2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E156-6279-42D8-A60D-8577EF90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327A1-1C36-4F5C-B5DC-23D9348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84AFE-8314-487E-89B0-FB551174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A17B-F2C6-495B-9F22-E92D7F10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72E93-2EE9-4D42-9D22-5CCC31FA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B9B88-637D-404F-9E44-BA90E398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263-AF6C-4B83-B4EC-9E7A8D5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479B-37BE-4000-BC22-1D352F9C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59AA0-36B9-44A1-B701-80FE1942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40D6F-3BAA-460A-9C8C-4F3BADCA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69F6C-78AB-4525-84B0-B60DA17D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26DD-BCF5-4CF6-AC6B-8442ACFA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EA143-7745-4D53-8164-9579478E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0D1FA-16B6-4229-B1C0-F916A75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0D309-FD99-452B-988C-107CED9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1DB73-BCD2-40CB-98F3-0BF7D236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8478F-CE81-4912-8715-16A23DA3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D97-E951-43A8-A8CC-658D7168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5AA79-84F6-4843-9038-E7B5B742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B1D4-2AD5-4C98-B18F-54C0E139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67ED1-514C-4912-800C-8CCB246C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59FA0-3AF7-471C-8AA8-64525B09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24976-8BE0-4094-A71B-9AEC1AD6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36329-174D-4DE8-B5BA-9FC0F3C3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BE342-4C10-43A2-92BB-A3F7C987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84FB3-65A1-4F92-9D62-9A1FE704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EB086-899D-44E0-8AC9-3FCD46DA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52EFA-BF35-44ED-994E-77C17C2F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E3A-C384-4FF0-B469-BB874C3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CDFD9-5E52-4DC9-BFFA-3FEC5527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7C459-8DAD-4A51-825D-EABB8E69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AE932-312C-4A41-9AEF-1A1E05D8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C3206-E6D2-4643-85A3-70DB14B4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69EBE-8F22-4B88-8893-196D19A5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D7A5C-C54A-4789-BBE3-FEB3B1E6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C8D23-9C3A-44B4-8C82-8E3DC256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88DDA-1C6B-4CE6-9CF3-F6EA1040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DE9A8-FC49-4020-82B6-3483C8BC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2C528-3068-4878-8C4C-7548548A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16E-6520-4518-916D-19EC290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51BC5-7F29-41D2-BA62-50F2C05B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786E4-4F7D-49DC-9E12-37A0634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86D39-30E0-4D5D-880D-075FF130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F369C-C681-45F8-8900-E7BA55CC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0362-9BBD-4F1A-ADBB-C206BF08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0F215-4984-4C59-9481-53D39232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C0B27-2B0D-4D1E-BBA5-7C0C47F1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005E5-ECF4-41E1-A58F-A16EB61A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EA01F-BC15-4822-8A6E-BF14CC0D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C6DB4-29F2-40F6-8251-7E2E3F2A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C0C-1E05-434A-B8E9-5CCC09BA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9F4A8-28DF-4D12-9161-E5FFB579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1FB17-5FD9-44A0-B544-8CF4EAB1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AD821-BCA6-4FF5-A0BB-0A5CC376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5351A-7278-4636-A139-A1D143B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169DB-6425-4D40-AEBC-53F261A0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BAEA6-2BD9-4649-A3FF-BCE7C533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92EA5-600B-44E4-BBAE-D9F29AAC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9A88D-1478-45CE-82A2-0AD57473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32299-41A7-4384-B54B-BCC0D6A9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934E2-A8C3-4D2F-9277-3500C8F1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4452-9BAF-4216-AAC0-E18CE4A844C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B28D-12A1-4CA0-8C18-8DD4BD0654D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709-1722-43B3-8B9F-8877FA9EDEE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750B-E809-42FF-893F-BFF39FA421D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4426-A5CB-4F50-AEA1-214EE8B39C5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91C3-A701-464D-BB90-72B4913FF7A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8EEF-5263-43A9-946A-D1E4F095DF2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2CEA-B49F-42FE-9EE9-728689798CB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201E-1902-422B-A3FB-2FD0C1FD458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2683-87FF-4267-B6D8-3964BAAD006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3C99-4794-46BA-B538-E9978E326BA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DE00-D7C7-4078-B8BE-5C40CC18B13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9F6C-8A7F-4479-AEAE-62263B01DD9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CA26-4DC7-4DAE-AC23-4FAE2D335C1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7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7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4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8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4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RomaK</cp:lastModifiedBy>
  <dcterms:modified xsi:type="dcterms:W3CDTF">2015-09-04T09:25:54Z</dcterms:modified>
  <cp:revision>15</cp:revision>
  <dc:subject/>
  <dc:title>Ancient Mexico</dc:title>
</cp:coreProperties>
</file>