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C7F2-C7A1-493E-8102-7F9A38792221}" type="slidenum">
              <a:rPr b="0" lang="en-I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Bhopal Gas 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hopal Gas Trag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 to you Anike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yl Isocyana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sical  and Chemical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yl Isocyanate (C2H3N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quid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lat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, sharp od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sh Point – -7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lecular weight: 57.05 dal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iling point (760 mm Hg): 102ºF (39.1º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ezing point: -49ºF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por pressure: 348 mm Hg at 68ºF (20º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por density: 1.42 (air = 1.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solubility: Reactive 6.7% at 68ºF (20º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mability: Highly flamma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mable Range: 5.3% to 26% (concentration in ai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C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yl Isocyanate is on the Hazardous Substances List and is regulated by OSHA and cited by ACGIH, DOT, EPA and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 the Special Health Hazard Substance List because it is flammable and re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ergency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s Dumped by Union Carbide in Bho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hazard dumping of Hazardous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 in parts per billion (pp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ly, Dichlorobenzenes and Trichlorobenzenes were found in the soil and water samp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, Nickel, Copper, Chromium, Hexachlorocyclohexane and chlorobenzenes were found in soil s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was found to be between 20,000 to 6,000,000 times the standard level in so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ion and Legal Asp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ion of $470 million ($500 per dea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 years of passive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was reviewed and put up in American Co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 Refused Union Carbide’s Liabilities in Bhopal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,000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,000 SEVERELY AFF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you thought only weap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cause Mass De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e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st the worst Industrail Disasters of it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rence: 3rd December 198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of occurrence: Bhopal, Madhya Pradesh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: Union Carbide Corp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: Methyl Isocyanate (27 ton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 the 500,000 people exposed to the gas, 20,000 have died till date and 120,000 continue to suffer devastating health effects as a result of their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hopal 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on Carbid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on Carbid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ted in 1969 in bho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gene, Monomethlyamine, Methyl Isocyanate (MIC) and the pesticide Carbaryl, also known as Sev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ken over by DOW Chemicals in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W refused Union Carbide’s Liabilities in Bhopal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 Vent Sc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 Vent Scrubber S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n Human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ory Disorders – Irritation to the lungs, causing coughing and/or shortness of breathing. Higher exposure caused build up of fluids (pulmonary edema). Caused Astha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Hazard – Caused mutation (genetic changes). It caused canc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Hazard – Association between exposure to Methyl Isocyanate and miscarriages. It may damage the growing fetus.May also affect fertility in men and wom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s of many toxins were found in the Brest Milk of mothers and were inturn transmitted to the recepient bab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 Sl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06BF-059D-4EF1-8470-77819EDF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0A84-F013-446A-8605-0CC1D4B5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5C80-1C03-447D-A6EB-A8FB2280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B26A-52E3-4E32-99AD-A7EED9DC7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C423-063E-4C03-9757-27666449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AA98-FE2B-4146-8D30-271F766B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8406-9DDC-4EAB-8351-99A920EB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D3D6-A966-468B-9EC7-4DB3FE23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B437-2FB7-4C4A-B413-6190F717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CB24-C149-4595-BFA7-3DE0C72F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DE08-C3C2-4C59-9B6A-2FE55ED6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8C62-EED1-4663-AA64-CD12C2CB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D10C-937F-4A93-BD6D-F1D945DD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CB84-E1E9-48C8-8725-7411C98C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3A33-B3E0-4084-8916-8EAEE569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9846-25D2-48E6-A85D-ED7442211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0632-D230-447D-999E-5FFA3F6C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09E25-BE3E-4E25-8376-8F28843D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B1ECA-3908-4010-A501-54B3164D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15B93-F8BC-4142-B94B-AAD8B5A0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ADC77-22AF-45C4-9529-5ED1642E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75405-F652-48FE-9AB0-0A5E60D6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306B-7448-416E-851A-A8455649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60AA7-A1F9-424E-A881-03FE3504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54304-9B47-4764-9346-66A99465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5D79B-ADD8-4DE1-9684-07F94244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1B06D-D9C6-4A7B-9AD9-C0A9C587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0FD9B-0999-4D0C-AAD6-8850242E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ED299-6E94-4EFE-87AE-B82C58FC0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C405B-3E43-4129-8BB4-D53FB276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A0A08-626F-4B3C-A11D-AD05EC479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ED425-E81B-48CD-A3D2-ADECCBD1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46B16-4CF9-4000-BC38-498E60E5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BA86-500E-4CD1-9148-03775895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703C4-D805-4686-A7E0-CC7556DA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DB667-686F-45BD-A8BE-F211972A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98B58-E618-4541-B102-4D188092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8EAFC-9013-44A5-A1E9-1744CBD2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887CB-6797-47CD-A825-09EA1F7E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7EC4F-2A31-4F6C-A4AA-2D333C05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94D8E-3499-4411-AC17-55BA1129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221A8-9F43-445E-A632-71536134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4034F-BE68-4170-8607-4188FE26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7CD6-0DE6-4E52-A392-892B7A5A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E590-40EB-4BA2-9F81-8C5D545F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D8AB-BA88-44C7-ABB3-6C992FBA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88DE-2EA7-498C-BD21-BDED98C7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5732-05B2-443A-AE09-1541C054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2FB1-31BB-4993-BB3D-86BC515F81BC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2929-5EDB-4178-A370-09A1F29A6453}" type="slidenum">
              <a:rPr b="0" lang="en-I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2652-B06D-4E08-8E88-4C8434CF2136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3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809C-590C-4C5C-B26C-66121B00B243}" type="slidenum">
              <a:rPr b="0" lang="en-I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4800" spc="-1" strike="noStrike">
                <a:solidFill>
                  <a:srgbClr val="ff6600"/>
                </a:solidFill>
                <a:latin typeface="Monotype Corsiva"/>
              </a:rPr>
              <a:t>Bhopal Gas Tragedy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3200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Over to you Aniket…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Methyl Isocyanate </a:t>
            </a:r>
            <a:br>
              <a:rPr sz="3800"/>
            </a:b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Physical  and Chemical Characteristic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ethyl Isocyanate (C</a:t>
            </a:r>
            <a:r>
              <a:rPr b="0" lang="en-IN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IN" sz="18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N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Liquid for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olati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Colourl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Strong, sharp odo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sh Point – -7</a:t>
            </a:r>
            <a:r>
              <a:rPr b="0" lang="en-IN" sz="18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olecular weight: 57.05 dalton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Boiling point (760 mm Hg): 102ºF (39.1ºC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reezing point: -49ºF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apor pressure: 348 mm Hg at 68ºF (20ºC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apor density: 1.42 (air = 1.00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Water solubility: Reactive 6.7% at 68ºF (20º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mmability: Highly flammab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mmable Range: 5.3% to 26% (concentration in air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Reason for Cit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Methyl Isocyanate is on the Hazardous Substances List and is regulated by OSHA and cited by ACGIH, DOT, EPA and other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Is on the Special Health Hazard Substance List because it is flammable and reactiv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Emergency Inform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838080" y="1787400"/>
          <a:ext cx="7162920" cy="3776760"/>
        </p:xfrm>
        <a:graphic>
          <a:graphicData uri="http://schemas.openxmlformats.org/drawingml/2006/table">
            <a:tbl>
              <a:tblPr/>
              <a:tblGrid>
                <a:gridCol w="2362320"/>
                <a:gridCol w="2413080"/>
                <a:gridCol w="23875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Hazard R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JDH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F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mmabil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ctiv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584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mmable and Reacti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son Inhalation Hazar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 not use wa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sionous Gases are produced in fi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ainers may explode in fi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IN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zard Rating Key: 0-minimal, 1-slight, 2-moderate, 3-serious, 4-seve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1600200" y="762120"/>
          <a:ext cx="6248520" cy="5673600"/>
        </p:xfrm>
        <a:graphic>
          <a:graphicData uri="http://schemas.openxmlformats.org/drawingml/2006/table">
            <a:tbl>
              <a:tblPr/>
              <a:tblGrid>
                <a:gridCol w="533520"/>
                <a:gridCol w="1523880"/>
                <a:gridCol w="914400"/>
                <a:gridCol w="1143000"/>
                <a:gridCol w="2133720"/>
              </a:tblGrid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.N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mical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ou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 in factory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ure of original pollu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ylene 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an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tho-idichlorobenz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on tetra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for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i methylam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aly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 benzyl 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o chloro tolu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lu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dicar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ary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nzene Hexa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3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rc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o methyl am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osg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ydro chloric ac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 sulphonic ac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 Naphthol 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pthal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mical waste Ta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yl Isocyan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</a:tbl>
          </a:graphicData>
        </a:graphic>
      </p:graphicFrame>
      <p:sp>
        <p:nvSpPr>
          <p:cNvPr id="224" name="Text Box 769"/>
          <p:cNvSpPr/>
          <p:nvPr/>
        </p:nvSpPr>
        <p:spPr>
          <a:xfrm>
            <a:off x="304920" y="2286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ff6600"/>
                </a:solidFill>
                <a:latin typeface="Monotype Corsiva"/>
              </a:rPr>
              <a:t>Chemicals Dumped by Union Carbide in Bhop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Haphazard dumping of Hazardous Materi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35" descr="cycleshed"/>
          <p:cNvPicPr/>
          <p:nvPr/>
        </p:nvPicPr>
        <p:blipFill>
          <a:blip r:embed="rId1"/>
          <a:stretch/>
        </p:blipFill>
        <p:spPr>
          <a:xfrm>
            <a:off x="60948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6" descr="soapstoneshed"/>
          <p:cNvPicPr/>
          <p:nvPr/>
        </p:nvPicPr>
        <p:blipFill>
          <a:blip r:embed="rId2"/>
          <a:stretch/>
        </p:blipFill>
        <p:spPr>
          <a:xfrm>
            <a:off x="327672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7" descr="formulationshed"/>
          <p:cNvPicPr/>
          <p:nvPr/>
        </p:nvPicPr>
        <p:blipFill>
          <a:blip r:embed="rId3"/>
          <a:stretch/>
        </p:blipFill>
        <p:spPr>
          <a:xfrm>
            <a:off x="327672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8" descr="poisonwastetanks"/>
          <p:cNvPicPr/>
          <p:nvPr/>
        </p:nvPicPr>
        <p:blipFill>
          <a:blip r:embed="rId4"/>
          <a:stretch/>
        </p:blipFill>
        <p:spPr>
          <a:xfrm>
            <a:off x="60948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9" descr="small-shed"/>
          <p:cNvPicPr/>
          <p:nvPr/>
        </p:nvPicPr>
        <p:blipFill>
          <a:blip r:embed="rId5"/>
          <a:stretch/>
        </p:blipFill>
        <p:spPr>
          <a:xfrm>
            <a:off x="586728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0" descr="bhc_store"/>
          <p:cNvPicPr/>
          <p:nvPr/>
        </p:nvPicPr>
        <p:blipFill>
          <a:blip r:embed="rId6"/>
          <a:stretch/>
        </p:blipFill>
        <p:spPr>
          <a:xfrm>
            <a:off x="5867280" y="4114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523880" y="1752480"/>
          <a:ext cx="5181840" cy="3276720"/>
        </p:xfrm>
        <a:graphic>
          <a:graphicData uri="http://schemas.openxmlformats.org/drawingml/2006/table">
            <a:tbl>
              <a:tblPr/>
              <a:tblGrid>
                <a:gridCol w="3084480"/>
                <a:gridCol w="20973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nzene, oxyb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, 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chlorobenzen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7,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lynuclear Aromatic Hydrocarbon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,3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hthala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,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ichlorobenze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,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imethyl Trianzintr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,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-Napthalen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9,0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</a:tbl>
          </a:graphicData>
        </a:graphic>
      </p:graphicFrame>
      <p:sp>
        <p:nvSpPr>
          <p:cNvPr id="234" name="Rectangle 91"/>
          <p:cNvSpPr/>
          <p:nvPr/>
        </p:nvSpPr>
        <p:spPr>
          <a:xfrm>
            <a:off x="1447920" y="5181480"/>
            <a:ext cx="7086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Units in parts per billion (ppb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Additionally, Dichlorobenzenes and Trichlorobenzenes were found in the soil and water sample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 Box 32"/>
          <p:cNvSpPr/>
          <p:nvPr/>
        </p:nvSpPr>
        <p:spPr>
          <a:xfrm>
            <a:off x="762120" y="2209680"/>
            <a:ext cx="8153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Lead, Nickel, Copper, Chromium, Hexachlorocyclohexane and chlorobenzenes were found in soil sampl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ercury was found to be between 20,000 to 6,000,000 times the standard level in soi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Compensation and Legal Aspec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ompensation of $470 million ($500 per dead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wenty years of passivenes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ase was reviewed and put up in American Court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DOW Refused Union Carbide’s Liabilities in Bhopal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20,000 KILL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120,000 SEVERELY AFFECT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…</a:t>
            </a: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And you thought only weapons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could cause Mass Destr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Preview</a:t>
            </a:r>
            <a:br>
              <a:rPr sz="3400"/>
            </a:b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Amongst the worst Industrail Disasters of its time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Occurrence: 3</a:t>
            </a:r>
            <a:r>
              <a:rPr b="0" lang="en-IN" sz="17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December 1984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Place of occurrence: Bhopal, Madhya Pradesh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ompany: Union Carbide Corporatio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hemical: Methyl Isocyanate (27 tons)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4876560"/>
            <a:ext cx="853452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mong the 500,000 people exposed to the gas, 20,000 have died till date and 120,000 continue to suffer devastating health effects as a result of their exposur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8"/>
          <p:cNvGrpSpPr/>
          <p:nvPr/>
        </p:nvGrpSpPr>
        <p:grpSpPr>
          <a:xfrm>
            <a:off x="457200" y="304920"/>
            <a:ext cx="8381880" cy="3962160"/>
            <a:chOff x="457200" y="304920"/>
            <a:chExt cx="8381880" cy="3962160"/>
          </a:xfrm>
        </p:grpSpPr>
        <p:pic>
          <p:nvPicPr>
            <p:cNvPr id="192" name="Picture 4" descr="pic2"/>
            <p:cNvPicPr/>
            <p:nvPr/>
          </p:nvPicPr>
          <p:blipFill>
            <a:blip r:embed="rId1"/>
            <a:stretch/>
          </p:blipFill>
          <p:spPr>
            <a:xfrm>
              <a:off x="457200" y="304920"/>
              <a:ext cx="3886200" cy="39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7" descr="pic1"/>
            <p:cNvPicPr/>
            <p:nvPr/>
          </p:nvPicPr>
          <p:blipFill>
            <a:blip r:embed="rId2"/>
            <a:stretch/>
          </p:blipFill>
          <p:spPr>
            <a:xfrm>
              <a:off x="4800600" y="304920"/>
              <a:ext cx="4038480" cy="3960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Bhopal Scenar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Picture 3" descr="Union Carbide"/>
          <p:cNvPicPr/>
          <p:nvPr/>
        </p:nvPicPr>
        <p:blipFill>
          <a:blip r:embed="rId1"/>
          <a:stretch/>
        </p:blipFill>
        <p:spPr>
          <a:xfrm>
            <a:off x="2031840" y="1752480"/>
            <a:ext cx="5080320" cy="3645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2057400" y="54864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Union Carbide Corpo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Union Carbide Corpo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Started in 1969 in bhop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Phosgene, Monomethlyamine, Methyl Isocyanate (MIC) and the pesticide Carbaryl, also known as Sevi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aken over by DOW Chemicals in 2001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DOW refused Union Carbide’s Liabilities in Bhopal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15" descr="ScanImage001"/>
          <p:cNvPicPr/>
          <p:nvPr/>
        </p:nvPicPr>
        <p:blipFill>
          <a:blip r:embed="rId1"/>
          <a:srcRect l="0" t="0" r="23562" b="216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gasventscrubber"/>
          <p:cNvPicPr/>
          <p:nvPr/>
        </p:nvPicPr>
        <p:blipFill>
          <a:blip r:embed="rId1"/>
          <a:stretch/>
        </p:blipFill>
        <p:spPr>
          <a:xfrm>
            <a:off x="609480" y="438120"/>
            <a:ext cx="3714840" cy="5505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gasventscrubberstack"/>
          <p:cNvPicPr/>
          <p:nvPr/>
        </p:nvPicPr>
        <p:blipFill>
          <a:blip r:embed="rId2"/>
          <a:stretch/>
        </p:blipFill>
        <p:spPr>
          <a:xfrm>
            <a:off x="4800600" y="457200"/>
            <a:ext cx="3714840" cy="53722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609480" y="60958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Gas Vent Scrubb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4876920" y="6110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Gas Vent Scrubber Sta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Effects on Human Healt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Respiratory Disorders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Irritation to the lungs, causing coughing and/or shortness of breathing. Higher exposure caused build up of fluids (</a:t>
            </a:r>
            <a:r>
              <a:rPr b="0" lang="en-IN" sz="1700" spc="-1" strike="noStrike">
                <a:solidFill>
                  <a:srgbClr val="ff0000"/>
                </a:solidFill>
                <a:latin typeface="Verdana"/>
              </a:rPr>
              <a:t>pulmonary edema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). Caused Astham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Cancer Haza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Caused mutation (genetic changes). It caused cance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Reproductive Haza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Association between exposure to Methyl Isocyanate and miscarriages. It may damage the growing fetus.May also affect fertility in men and wome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races of many toxins were found in the Brest Milk of mothers and were inturn transmitted to the recepient babi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1" name="Group 8"/>
          <p:cNvGrpSpPr/>
          <p:nvPr/>
        </p:nvGrpSpPr>
        <p:grpSpPr>
          <a:xfrm>
            <a:off x="111240" y="1828800"/>
            <a:ext cx="8956080" cy="3200400"/>
            <a:chOff x="111240" y="1828800"/>
            <a:chExt cx="8956080" cy="3200400"/>
          </a:xfrm>
        </p:grpSpPr>
        <p:pic>
          <p:nvPicPr>
            <p:cNvPr id="212" name="Picture 4" descr="bhopal14"/>
            <p:cNvPicPr/>
            <p:nvPr/>
          </p:nvPicPr>
          <p:blipFill>
            <a:blip r:embed="rId1"/>
            <a:stretch/>
          </p:blipFill>
          <p:spPr>
            <a:xfrm>
              <a:off x="111240" y="1828800"/>
              <a:ext cx="44604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6" descr="bhopal09"/>
            <p:cNvPicPr/>
            <p:nvPr/>
          </p:nvPicPr>
          <p:blipFill>
            <a:blip r:embed="rId2"/>
            <a:stretch/>
          </p:blipFill>
          <p:spPr>
            <a:xfrm>
              <a:off x="4606560" y="1828800"/>
              <a:ext cx="4460760" cy="320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Animal Slaugh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8:50:55Z</dcterms:created>
  <dc:creator>Creative</dc:creator>
  <dc:description/>
  <dc:language>en-US</dc:language>
  <cp:lastModifiedBy>RomaK</cp:lastModifiedBy>
  <dcterms:modified xsi:type="dcterms:W3CDTF">2015-09-04T09:26:23Z</dcterms:modified>
  <cp:revision>113</cp:revision>
  <dc:subject/>
  <dc:title>Bhopal Gas Tragedy</dc:title>
</cp:coreProperties>
</file>