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1167-D24E-4EF3-9E69-CC4C0D0632A1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D69-9BB3-4527-B087-FF8E0562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A88-052A-413A-8F0E-1C809163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989-4181-4CBA-A44F-88ACE4A9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4E6-F55A-4E63-9283-AB44BD95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85DD-FBD9-4610-BD7F-D6325B33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B64C-0D04-4402-B087-E995FD74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C8FA-3359-4BB0-840A-9BE092E1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223D-D034-4D9C-892D-7B9C83D4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C3C3-AEDC-4017-876A-1DC62FFE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CF32-A5DE-42D2-86E3-942B8BBC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936E-32F5-4116-94F2-D6D46C40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72D-32F7-4F1E-B23A-73885CEC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E039-DEE8-4B60-9B55-AB2459B1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B9D0-8ED8-4358-86C8-30E4C208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8135-AA15-439F-8E40-E8BFFE2F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A08B-C66F-4119-9FBA-CED27871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EA57-5A7A-41D0-B8C6-FBE6AC39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DDB0-746B-4B5C-8EAD-AF383AE6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1AE33-1AC0-41B5-8C4B-B45FD24A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53572-AA4E-484E-9CC6-77A6742B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4F069-7F74-4E09-B3B3-597A841C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F346B-7227-41EC-AE80-56FE07A7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6F6-B208-4B89-A5F2-CBDDA871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DEA54-7D50-4DAB-9BEB-86C38D6F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1769D-C4F7-4B7B-AD85-C97F074C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AF0F8-6B19-46DA-B039-4DCE7CA2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5A872-E777-4B3B-983B-9EFED1C2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5DBE-A438-4D87-99DA-8B2AD9B4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272BA-01EB-4FFB-A318-083ACE9F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1E07-6CDF-4152-BD96-4EE88E66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7F497-3723-4C8F-B8EE-7B4D0201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CD662-C7C2-4850-A2FB-71BCA24F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FCC34-064A-47B7-A1F5-DDBE5FFF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911-E41E-44D3-8C79-F6E814B1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AA166-12CB-4919-A548-C2852F9C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670D9-A95B-433F-8483-4ED1E86E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FEE00-25EA-4EA6-BB29-6542E2A9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7A1E3-B73D-46C8-B8AD-EA202CAE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D621B-E502-4D61-A698-DA307846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21EEF-F910-4F38-81BF-D673720B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60120-B8D8-4F63-B02B-2616DB2D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2AD0D-A679-4DCF-97E3-CAA96006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95AE1-C5E6-4B74-935B-8E160714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D9D-B210-4F18-82C8-75CB705F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81D-6DAC-400F-A89F-3CFF5864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03C-9497-47CD-A114-93C0B46E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57A-EE1B-4DA0-B12F-F7268D85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2C7-2277-4567-B1F6-280F629E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8774-8A5C-4F02-A1F8-ED428B0D1DCF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8084-22D4-4B84-89DB-2E593801B27F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C85A-5395-48D0-B24C-ECC522F4F726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BD6B-9D1D-46F0-AE8A-C7B0BC3C12A1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24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2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12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RomaK</cp:lastModifiedBy>
  <dcterms:modified xsi:type="dcterms:W3CDTF">2015-09-04T09:26:23Z</dcterms:modified>
  <cp:revision>113</cp:revision>
  <dc:subject/>
  <dc:title>Bhopal Gas Tragedy</dc:title>
</cp:coreProperties>
</file>