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0C404-C515-4055-ACE0-0BC09CE94C60}" type="slidenum">
              <a:rPr b="0" lang="en-I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Arial"/>
              </a:rPr>
              <a:t>Bhopal Gas Trag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hopal Gas Trag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ver to you Anike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yl Isocyanat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sical  and Chemical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hyl Isocyanate (C2H3N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quid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olati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ur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rong, sharp od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sh Point – -7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lecular weight: 57.05 dalt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iling point (760 mm Hg): 102ºF (39.1º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reezing point: -49ºF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por pressure: 348 mm Hg at 68ºF (20º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por density: 1.42 (air = 1.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ter solubility: Reactive 6.7% at 68ºF (20º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mmability: Highly flammab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mmable Range: 5.3% to 26% (concentration in air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son for C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yl Isocyanate is on the Hazardous Substances List and is regulated by OSHA and cited by ACGIH, DOT, EPA and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on the Special Health Hazard Substance List because it is flammable and reac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ergency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s Dumped by Union Carbide in Bhop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hazard dumping of Hazardous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xic Materials in Soil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s in parts per billion (pp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ly, Dichlorobenzenes and Trichlorobenzenes were found in the soil and water sampl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xic Materials in Soil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, Nickel, Copper, Chromium, Hexachlorocyclohexane and chlorobenzenes were found in soil samp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cury was found to be between 20,000 to 6,000,000 times the standard level in so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ensation and Legal Asp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ensation of $470 million ($500 per dea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enty years of passiven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was reviewed and put up in American Cou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 Refused Union Carbide’s Liabilities in Bhopal, Ind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,000 KI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0,000 SEVERELY AFF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you thought only weap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cause Mass De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iew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ngst the worst Industrail Disasters of its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rence: 3rd December 198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of occurrence: Bhopal, Madhya Pradesh, Ind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ny: Union Carbide Corpo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: Methyl Isocyanate (27 tons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ong the 500,000 people exposed to the gas, 20,000 have died till date and 120,000 continue to suffer devastating health effects as a result of their expo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hopal Scen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on Carbide Corp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on Carbide Corpo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rted in 1969 in bhop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sgene, Monomethlyamine, Methyl Isocyanate (MIC) and the pesticide Carbaryl, also known as Sev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ken over by DOW Chemicals in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W refused Union Carbide’s Liabilities in Bhopal, Ind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xic Materials in Soil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 Vent Scrub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 Vent Scrubber St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s on Human 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iratory Disorders – Irritation to the lungs, causing coughing and/or shortness of breathing. Higher exposure caused build up of fluids (pulmonary edema). Caused Astham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 Hazard – Caused mutation (genetic changes). It caused canc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ve Hazard – Association between exposure to Methyl Isocyanate and miscarriages. It may damage the growing fetus.May also affect fertility in men and wom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es of many toxins were found in the Brest Milk of mothers and were inturn transmitted to the recepient bab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imal Slaugh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4C45-0F0B-44F3-B2D9-81D2942D1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E8D8-45B2-481A-8D04-AE9E8A445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1166-800A-426F-AB38-6D5F72D51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B7BD-D5FA-4F0E-BDA1-BABE7CE45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F94EE-BE04-45E8-A222-04E8BE3FE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7F30C-49CB-4997-9D5B-AA2B37732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1B10B-9A9B-4D96-96CD-ECD2B5866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F800C-B190-4A0E-8965-EC874051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2CF70-D14D-4D5B-BB64-0CC0E3C8A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B8124-28E8-416E-9716-22743959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6F06E-793A-4D8D-89BF-AC92948E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5BB3-52C6-4BCB-9994-92B58417E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226BB-0CFA-4FAD-9A91-0B92633F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6D065-4ED2-4D9E-83BB-6E3450F6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4A6CA-1F6C-42D6-AC5A-EBA579E56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DCB06-50B4-438D-8A13-DBA8E2FD0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6848D-9843-4744-917E-DF03D11C9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E15FB-264C-40CD-ADD4-B2EFF1E53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861BC-D71A-41FF-992E-04B33449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6C7EB-C4D2-4F8B-8EF8-19181B050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92285-F19A-45BF-A640-300441B44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E6E6B-D865-4C3A-8DDC-D85EB4DA1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3BD2-0336-47CE-8D8D-3DD21F5F4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DD867-44F9-42D7-927A-323A9CDA9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6A95D-B087-477F-B254-54EE3FA6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95E28-85F9-4460-B975-9D992C87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FB434-BE6C-4C0B-B960-A211D6BE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B7949-6EED-4E6D-8789-2F8D2991E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673E3-B85A-458C-9897-308E05BF3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F4EEB-973E-4C86-83FD-061296C13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C0A4D-0091-4D5C-B770-8D3AB2544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E7DB8-3D98-49E0-AD12-CAF4EDBA5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8170A-1CFE-42E7-A5FA-68E24ABF7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0554-533A-4D22-8F47-C9116CE78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7D7F1-9C8F-407D-9699-5C9CACCE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935ED-B67F-4FF3-8D87-D07E69760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43EEC-292C-45A3-AB2A-F89F2A0E0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95CF9-2DBB-4589-9D97-11700C66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4D78F-C41F-4BEB-A57E-02223FA0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3EAF7-1B9B-4930-85C4-317B3284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628BE-4999-402F-813A-1B9397C81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62679-F922-4BEC-B8FA-D2F61C6CB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1531D-AA85-4AF1-979E-5EAC2225C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0431-13C1-44DE-A1F7-D38D86771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9FEF-BF02-4678-9285-3ED9CD59C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75E1-3CA4-451C-89D4-B08350B5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F7FB-BAB4-43A0-A8BC-774C14B6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5E46-BC09-42C0-AC6F-1D9646BE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1CA8E-CFDD-498F-8DA2-72771D4BFCBD}" type="slidenum">
              <a:rPr b="0" lang="en-I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44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F2E77-D176-4049-98FB-E6AE03053382}" type="slidenum">
              <a:rPr b="0" lang="en-I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C89D7-33EC-4C80-8CDC-C08D6C1799F7}" type="slidenum">
              <a:rPr b="0" lang="en-I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33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56A22-08E7-4971-AF25-6CA3560E6B03}" type="slidenum">
              <a:rPr b="0" lang="en-I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4800" spc="-1" strike="noStrike">
                <a:solidFill>
                  <a:srgbClr val="ff6600"/>
                </a:solidFill>
                <a:latin typeface="Monotype Corsiva"/>
              </a:rPr>
              <a:t>Bhopal Gas Tragedy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66280" y="32000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Over to you Aniket…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800" spc="-1" strike="noStrike">
                <a:solidFill>
                  <a:srgbClr val="ff6600"/>
                </a:solidFill>
                <a:latin typeface="Monotype Corsiva"/>
              </a:rPr>
              <a:t>Methyl Isocyanate </a:t>
            </a:r>
            <a:br>
              <a:rPr sz="3800"/>
            </a:br>
            <a:r>
              <a:rPr b="0" i="1" lang="en-IN" sz="3800" spc="-1" strike="noStrike">
                <a:solidFill>
                  <a:srgbClr val="ff6600"/>
                </a:solidFill>
                <a:latin typeface="Monotype Corsiva"/>
              </a:rPr>
              <a:t>Physical  and Chemical Characteristic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Methyl Isocyanate (C</a:t>
            </a:r>
            <a:r>
              <a:rPr b="0" lang="en-IN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IN" sz="18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NO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Liquid for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Volatil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Colourles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Strong, sharp odou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Flash Point – -7</a:t>
            </a:r>
            <a:r>
              <a:rPr b="0" lang="en-IN" sz="18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Molecular weight: 57.05 dalton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Boiling point (760 mm Hg): 102ºF (39.1ºC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Freezing point: -49ºF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Vapor pressure: 348 mm Hg at 68ºF (20ºC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Vapor density: 1.42 (air = 1.00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Water solubility: Reactive 6.7% at 68ºF (20ºC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Flammability: Highly flammabl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Flammable Range: 5.3% to 26% (concentration in air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Reason for Cit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Methyl Isocyanate is on the Hazardous Substances List and is regulated by OSHA and cited by ACGIH, DOT, EPA and other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Is on the Special Health Hazard Substance List because it is flammable and reactive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Emergency Inform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838080" y="1787400"/>
          <a:ext cx="7162920" cy="3776760"/>
        </p:xfrm>
        <a:graphic>
          <a:graphicData uri="http://schemas.openxmlformats.org/drawingml/2006/table">
            <a:tbl>
              <a:tblPr/>
              <a:tblGrid>
                <a:gridCol w="2362320"/>
                <a:gridCol w="2413080"/>
                <a:gridCol w="238752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Hazard Ra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JDH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F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mmabil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activ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584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mmable and Reactiv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ison Inhalation Hazar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 not use wate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isionous Gases are produced in fi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ainers may explode in fi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IN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azard Rating Key: 0-minimal, 1-slight, 2-moderate, 3-serious, 4-seve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"/>
          <p:cNvGraphicFramePr/>
          <p:nvPr/>
        </p:nvGraphicFramePr>
        <p:xfrm>
          <a:off x="1600200" y="762120"/>
          <a:ext cx="6248520" cy="5673600"/>
        </p:xfrm>
        <a:graphic>
          <a:graphicData uri="http://schemas.openxmlformats.org/drawingml/2006/table">
            <a:tbl>
              <a:tblPr/>
              <a:tblGrid>
                <a:gridCol w="533520"/>
                <a:gridCol w="1523880"/>
                <a:gridCol w="914400"/>
                <a:gridCol w="1143000"/>
                <a:gridCol w="2133720"/>
              </a:tblGrid>
              <a:tr h="31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.No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emical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mou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e in factory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ure of original pollu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ylene Chlori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ano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tho-idichlorobenze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bon tetrachlori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5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lorofor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lv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i methylam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taly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loro benzyl chlori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o chloro tolue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lue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dicar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duc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bary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duc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nzene Hexachlorid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3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rcu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o methyl am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lor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osge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ydro chloric aci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loro sulphonic aci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pha Naphthol *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pthal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2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emical waste Tar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s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24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hyl Isocyan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M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gredi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r, Water, So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</a:tbl>
          </a:graphicData>
        </a:graphic>
      </p:graphicFrame>
      <p:sp>
        <p:nvSpPr>
          <p:cNvPr id="224" name="Text Box 769"/>
          <p:cNvSpPr/>
          <p:nvPr/>
        </p:nvSpPr>
        <p:spPr>
          <a:xfrm>
            <a:off x="304920" y="22860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2400" spc="-1" strike="noStrike">
                <a:solidFill>
                  <a:srgbClr val="ff6600"/>
                </a:solidFill>
                <a:latin typeface="Monotype Corsiva"/>
              </a:rPr>
              <a:t>Chemicals Dumped by Union Carbide in Bhop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800" spc="-1" strike="noStrike">
                <a:solidFill>
                  <a:srgbClr val="ff6600"/>
                </a:solidFill>
                <a:latin typeface="Monotype Corsiva"/>
              </a:rPr>
              <a:t>Haphazard dumping of Hazardous Materi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35" descr="cycleshed"/>
          <p:cNvPicPr/>
          <p:nvPr/>
        </p:nvPicPr>
        <p:blipFill>
          <a:blip r:embed="rId1"/>
          <a:stretch/>
        </p:blipFill>
        <p:spPr>
          <a:xfrm>
            <a:off x="609480" y="16765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6" descr="soapstoneshed"/>
          <p:cNvPicPr/>
          <p:nvPr/>
        </p:nvPicPr>
        <p:blipFill>
          <a:blip r:embed="rId2"/>
          <a:stretch/>
        </p:blipFill>
        <p:spPr>
          <a:xfrm>
            <a:off x="3276720" y="41148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7" descr="formulationshed"/>
          <p:cNvPicPr/>
          <p:nvPr/>
        </p:nvPicPr>
        <p:blipFill>
          <a:blip r:embed="rId3"/>
          <a:stretch/>
        </p:blipFill>
        <p:spPr>
          <a:xfrm>
            <a:off x="3276720" y="16765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8" descr="poisonwastetanks"/>
          <p:cNvPicPr/>
          <p:nvPr/>
        </p:nvPicPr>
        <p:blipFill>
          <a:blip r:embed="rId4"/>
          <a:stretch/>
        </p:blipFill>
        <p:spPr>
          <a:xfrm>
            <a:off x="609480" y="41148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9" descr="small-shed"/>
          <p:cNvPicPr/>
          <p:nvPr/>
        </p:nvPicPr>
        <p:blipFill>
          <a:blip r:embed="rId5"/>
          <a:stretch/>
        </p:blipFill>
        <p:spPr>
          <a:xfrm>
            <a:off x="5867280" y="16765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0" descr="bhc_store"/>
          <p:cNvPicPr/>
          <p:nvPr/>
        </p:nvPicPr>
        <p:blipFill>
          <a:blip r:embed="rId6"/>
          <a:stretch/>
        </p:blipFill>
        <p:spPr>
          <a:xfrm>
            <a:off x="5867280" y="41148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Toxic Materials in Soil and Wat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523880" y="1752480"/>
          <a:ext cx="5181840" cy="3276720"/>
        </p:xfrm>
        <a:graphic>
          <a:graphicData uri="http://schemas.openxmlformats.org/drawingml/2006/table">
            <a:tbl>
              <a:tblPr/>
              <a:tblGrid>
                <a:gridCol w="3084480"/>
                <a:gridCol w="209736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enzene, oxyb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, 8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chlorobenzen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7,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lynuclear Aromatic Hydrocarbon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,3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hthalat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,9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ichlorobenzen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9,4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imethyl Trianzintri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4,4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b4b4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-Napthaleno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9,09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d"/>
                    </a:solidFill>
                  </a:tcPr>
                </a:tc>
              </a:tr>
            </a:tbl>
          </a:graphicData>
        </a:graphic>
      </p:graphicFrame>
      <p:sp>
        <p:nvSpPr>
          <p:cNvPr id="234" name="Rectangle 91"/>
          <p:cNvSpPr/>
          <p:nvPr/>
        </p:nvSpPr>
        <p:spPr>
          <a:xfrm>
            <a:off x="1447920" y="5181480"/>
            <a:ext cx="7086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Units in parts per billion (ppb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Verdana"/>
              </a:rPr>
              <a:t>Additionally, Dichlorobenzenes and Trichlorobenzenes were found in the soil and water samples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Toxic Materials in Soil and Wat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Text Box 32"/>
          <p:cNvSpPr/>
          <p:nvPr/>
        </p:nvSpPr>
        <p:spPr>
          <a:xfrm>
            <a:off x="762120" y="2209680"/>
            <a:ext cx="81532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Lead, Nickel, Copper, Chromium, Hexachlorocyclohexane and chlorobenzenes were found in soil sampl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Mercury was found to be between 20,000 to 6,000,000 times the standard level in soi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Compensation and Legal Aspec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Compensation of $470 million ($500 per dead)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Twenty years of passivenes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Case was reviewed and put up in American Court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DOW Refused Union Carbide’s Liabilities in Bhopal, Indi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6600"/>
                </a:solidFill>
                <a:latin typeface="Monotype Corsiva"/>
              </a:rPr>
              <a:t>20,000 KILLE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6600"/>
                </a:solidFill>
                <a:latin typeface="Monotype Corsiva"/>
              </a:rPr>
              <a:t>120,000 SEVERELY AFFECTE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6600"/>
                </a:solidFill>
                <a:latin typeface="Monotype Corsiva"/>
              </a:rPr>
              <a:t>…</a:t>
            </a:r>
            <a:r>
              <a:rPr b="0" i="1" lang="en-US" sz="3400" spc="-1" strike="noStrike">
                <a:solidFill>
                  <a:srgbClr val="ff6600"/>
                </a:solidFill>
                <a:latin typeface="Monotype Corsiva"/>
              </a:rPr>
              <a:t>And you thought only weapons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ff6600"/>
                </a:solidFill>
                <a:latin typeface="Monotype Corsiva"/>
              </a:rPr>
              <a:t>could cause Mass Destr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Preview</a:t>
            </a:r>
            <a:br>
              <a:rPr sz="3400"/>
            </a:b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Amongst the worst Industrail Disasters of its time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Occurrence: 3</a:t>
            </a:r>
            <a:r>
              <a:rPr b="0" lang="en-IN" sz="1700" spc="-1" strike="noStrike" baseline="30000">
                <a:solidFill>
                  <a:srgbClr val="000000"/>
                </a:solidFill>
                <a:latin typeface="Verdana"/>
              </a:rPr>
              <a:t>rd</a:t>
            </a: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 December 1984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Place of occurrence: Bhopal, Madhya Pradesh, Indi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Company: Union Carbide Corporation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Chemical: Methyl Isocyanate (27 tons)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520" y="4876560"/>
            <a:ext cx="853452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mong the 500,000 people exposed to the gas, 20,000 have died till date and 120,000 continue to suffer devastating health effects as a result of their exposur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8"/>
          <p:cNvGrpSpPr/>
          <p:nvPr/>
        </p:nvGrpSpPr>
        <p:grpSpPr>
          <a:xfrm>
            <a:off x="457200" y="304920"/>
            <a:ext cx="8381880" cy="3962160"/>
            <a:chOff x="457200" y="304920"/>
            <a:chExt cx="8381880" cy="3962160"/>
          </a:xfrm>
        </p:grpSpPr>
        <p:pic>
          <p:nvPicPr>
            <p:cNvPr id="192" name="Picture 4" descr="pic2"/>
            <p:cNvPicPr/>
            <p:nvPr/>
          </p:nvPicPr>
          <p:blipFill>
            <a:blip r:embed="rId1"/>
            <a:stretch/>
          </p:blipFill>
          <p:spPr>
            <a:xfrm>
              <a:off x="457200" y="304920"/>
              <a:ext cx="3886200" cy="396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7" descr="pic1"/>
            <p:cNvPicPr/>
            <p:nvPr/>
          </p:nvPicPr>
          <p:blipFill>
            <a:blip r:embed="rId2"/>
            <a:stretch/>
          </p:blipFill>
          <p:spPr>
            <a:xfrm>
              <a:off x="4800600" y="304920"/>
              <a:ext cx="4038480" cy="39607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Bhopal Scenari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5" name="Picture 3" descr="Union Carbide"/>
          <p:cNvPicPr/>
          <p:nvPr/>
        </p:nvPicPr>
        <p:blipFill>
          <a:blip r:embed="rId1"/>
          <a:stretch/>
        </p:blipFill>
        <p:spPr>
          <a:xfrm>
            <a:off x="2031840" y="1752480"/>
            <a:ext cx="5080320" cy="3645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2057400" y="548640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Union Carbide Corpor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Union Carbide Corpor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Started in 1969 in bhopa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Phosgene, Monomethlyamine, Methyl Isocyanate (MIC) and the pesticide Carbaryl, also known as Sevin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Taken over by DOW Chemicals in 2001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DOW refused Union Carbide’s Liabilities in Bhopal, Indi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Toxic Materials in Soil and Wat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Picture 15" descr="ScanImage001"/>
          <p:cNvPicPr/>
          <p:nvPr/>
        </p:nvPicPr>
        <p:blipFill>
          <a:blip r:embed="rId1"/>
          <a:srcRect l="0" t="0" r="23562" b="2161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gasventscrubber"/>
          <p:cNvPicPr/>
          <p:nvPr/>
        </p:nvPicPr>
        <p:blipFill>
          <a:blip r:embed="rId1"/>
          <a:stretch/>
        </p:blipFill>
        <p:spPr>
          <a:xfrm>
            <a:off x="609480" y="438120"/>
            <a:ext cx="3714840" cy="55054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gasventscrubberstack"/>
          <p:cNvPicPr/>
          <p:nvPr/>
        </p:nvPicPr>
        <p:blipFill>
          <a:blip r:embed="rId2"/>
          <a:stretch/>
        </p:blipFill>
        <p:spPr>
          <a:xfrm>
            <a:off x="4800600" y="457200"/>
            <a:ext cx="3714840" cy="537228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6"/>
          <p:cNvSpPr/>
          <p:nvPr/>
        </p:nvSpPr>
        <p:spPr>
          <a:xfrm>
            <a:off x="609480" y="6095880"/>
            <a:ext cx="35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Gas Vent Scrubb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4876920" y="61102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800" spc="-1" strike="noStrike">
                <a:solidFill>
                  <a:srgbClr val="000000"/>
                </a:solidFill>
                <a:latin typeface="Verdana"/>
              </a:rPr>
              <a:t>Gas Vent Scrubber Stac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Effects on Human Health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ff6600"/>
                </a:solidFill>
                <a:latin typeface="Verdana"/>
              </a:rPr>
              <a:t>Respiratory Disorders</a:t>
            </a: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 – Irritation to the lungs, causing coughing and/or shortness of breathing. Higher exposure caused build up of fluids (</a:t>
            </a:r>
            <a:r>
              <a:rPr b="0" lang="en-IN" sz="1700" spc="-1" strike="noStrike">
                <a:solidFill>
                  <a:srgbClr val="ff0000"/>
                </a:solidFill>
                <a:latin typeface="Verdana"/>
              </a:rPr>
              <a:t>pulmonary edema</a:t>
            </a: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). Caused Astham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ff6600"/>
                </a:solidFill>
                <a:latin typeface="Verdana"/>
              </a:rPr>
              <a:t>Cancer Hazard</a:t>
            </a: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 – Caused mutation (genetic changes). It caused cancer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ff6600"/>
                </a:solidFill>
                <a:latin typeface="Verdana"/>
              </a:rPr>
              <a:t>Reproductive Hazard</a:t>
            </a: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 – Association between exposure to Methyl Isocyanate and miscarriages. It may damage the growing fetus.May also affect fertility in men and women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700" spc="-1" strike="noStrike">
                <a:solidFill>
                  <a:srgbClr val="000000"/>
                </a:solidFill>
                <a:latin typeface="Verdana"/>
              </a:rPr>
              <a:t>Traces of many toxins were found in the Brest Milk of mothers and were inturn transmitted to the recepient babie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1" name="Group 8"/>
          <p:cNvGrpSpPr/>
          <p:nvPr/>
        </p:nvGrpSpPr>
        <p:grpSpPr>
          <a:xfrm>
            <a:off x="111240" y="1828800"/>
            <a:ext cx="8956080" cy="3200400"/>
            <a:chOff x="111240" y="1828800"/>
            <a:chExt cx="8956080" cy="3200400"/>
          </a:xfrm>
        </p:grpSpPr>
        <p:pic>
          <p:nvPicPr>
            <p:cNvPr id="212" name="Picture 4" descr="bhopal14"/>
            <p:cNvPicPr/>
            <p:nvPr/>
          </p:nvPicPr>
          <p:blipFill>
            <a:blip r:embed="rId1"/>
            <a:stretch/>
          </p:blipFill>
          <p:spPr>
            <a:xfrm>
              <a:off x="111240" y="1828800"/>
              <a:ext cx="446040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Picture 6" descr="bhopal09"/>
            <p:cNvPicPr/>
            <p:nvPr/>
          </p:nvPicPr>
          <p:blipFill>
            <a:blip r:embed="rId2"/>
            <a:stretch/>
          </p:blipFill>
          <p:spPr>
            <a:xfrm>
              <a:off x="4606560" y="1828800"/>
              <a:ext cx="4460760" cy="320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3400" spc="-1" strike="noStrike">
                <a:solidFill>
                  <a:srgbClr val="ff6600"/>
                </a:solidFill>
                <a:latin typeface="Monotype Corsiva"/>
              </a:rPr>
              <a:t>Animal Slaught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18:50:55Z</dcterms:created>
  <dc:creator>Creative</dc:creator>
  <dc:description/>
  <dc:language>en-US</dc:language>
  <cp:lastModifiedBy>RomaK</cp:lastModifiedBy>
  <dcterms:modified xsi:type="dcterms:W3CDTF">2015-09-04T09:26:23Z</dcterms:modified>
  <cp:revision>113</cp:revision>
  <dc:subject/>
  <dc:title>Bhopal Gas Tragedy</dc:title>
</cp:coreProperties>
</file>