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78E2-04F3-4D18-A56D-E38D457E85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2A0-CDEE-40BF-9755-3F75F5A9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83B-E918-4558-A5AB-5FBED790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7352-5CF7-4686-9635-821052981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74C-B9B9-4674-8AF9-4F5ADC69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2D8-CE6D-4368-96C3-31C6585B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397-0C8A-4FF2-B1DE-2BFA6FCF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25BC-2010-49C1-ACA8-D07332A7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399-1F40-4498-BD2D-70A79542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FED1-1915-4C8E-818D-AE2EFDF7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7459-0526-47E8-94D3-10A06B96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D21-3B5F-40D1-954C-0735B838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83B-4E28-4226-95CE-8F35A50D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D49F-674B-4859-BAA1-30E113AD25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22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4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25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6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3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3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7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9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40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1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2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43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4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49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66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67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68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69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70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1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2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73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4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5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76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77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78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79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0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1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82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3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4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85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6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7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188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9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0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191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2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4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5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6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7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58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59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0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4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5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6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7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8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69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4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5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6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78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9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4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85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86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87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88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9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3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95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6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7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98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9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04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5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6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07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8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0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1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2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13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4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5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16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7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RomaK</cp:lastModifiedBy>
  <dcterms:modified xsi:type="dcterms:W3CDTF">2015-09-04T09:27:16Z</dcterms:modified>
  <cp:revision>43</cp:revision>
  <dc:subject/>
  <dc:title>British History</dc:title>
</cp:coreProperties>
</file>