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4B7C-164E-496D-B6D4-0070496BBD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E8F-3722-4E72-B575-A1E58A29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EB7-23CF-466B-A4C8-DDD8B156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435-AACD-41BF-9C74-65923744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95C-BD6D-4AE9-8A80-FCB146A6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93C-8C85-4090-891D-11AF5A88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E0B-04E2-42BE-90B1-A6304C7E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945-0A2B-4A01-AF05-D00F8B8F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CBE-387A-4AEA-A7E8-BE945496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D1F-C4F1-462F-9FDA-1A071B9A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0FE-6392-4488-9557-1387F4BC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AB0-CA27-4175-A7C5-70FC724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78E-CC04-4B3E-937C-A90F56CE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0580-47ED-4BFF-8B61-11425BAE1D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22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4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25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6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3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3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40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1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2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43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4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9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7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8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9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70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1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2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73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4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5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76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7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8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9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0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1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82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3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4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85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6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7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8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9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0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91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2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5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6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7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8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9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6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7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8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9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5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6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8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9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85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6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7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8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9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95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6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7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8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9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04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5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7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8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13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4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5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16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7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RomaK</cp:lastModifiedBy>
  <dcterms:modified xsi:type="dcterms:W3CDTF">2015-09-04T09:27:16Z</dcterms:modified>
  <cp:revision>43</cp:revision>
  <dc:subject/>
  <dc:title>British History</dc:title>
</cp:coreProperties>
</file>