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B69A-8001-4304-8AF9-779F92A6C5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A498D-9ABF-4F35-AC8B-D3C308526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BE9D8-5798-4203-96A2-3104A2768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102E1-0970-4FFE-96AD-4FC852A21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38CDA-C791-45CC-9E92-A0972705E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3B0E5-1042-440C-8832-732E97DC0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97B53-3788-4576-A42C-D1044E2C9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F6B1-F393-401D-9006-DA0E53298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1A456-4D30-4854-9152-94AD57365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6A7DB-2715-4A6E-A867-961D285A1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09B7C-2679-43CB-A7F2-B4C36D864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D43A2-5E34-45E2-A642-B36F4181F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8ABA5-FD4D-4982-A7E3-3EC53A95B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2D22-AB71-4910-A3AE-FB55A42E0B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73" name="Picture 13" descr=""/>
          <p:cNvPicPr/>
          <p:nvPr/>
        </p:nvPicPr>
        <p:blipFill>
          <a:blip r:embed="rId1"/>
          <a:stretch/>
        </p:blipFill>
        <p:spPr>
          <a:xfrm>
            <a:off x="3059280" y="1981080"/>
            <a:ext cx="3024000" cy="19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76" name="Picture 5" descr=""/>
          <p:cNvPicPr/>
          <p:nvPr/>
        </p:nvPicPr>
        <p:blipFill>
          <a:blip r:embed="rId1"/>
          <a:stretch/>
        </p:blipFill>
        <p:spPr>
          <a:xfrm>
            <a:off x="4648320" y="1909800"/>
            <a:ext cx="380988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79" name="Picture 5" descr=""/>
          <p:cNvPicPr/>
          <p:nvPr/>
        </p:nvPicPr>
        <p:blipFill>
          <a:blip r:embed="rId1"/>
          <a:stretch/>
        </p:blipFill>
        <p:spPr>
          <a:xfrm>
            <a:off x="5824440" y="1981080"/>
            <a:ext cx="1457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82" name="Picture 7" descr=""/>
          <p:cNvPicPr/>
          <p:nvPr/>
        </p:nvPicPr>
        <p:blipFill>
          <a:blip r:embed="rId1"/>
          <a:stretch/>
        </p:blipFill>
        <p:spPr>
          <a:xfrm>
            <a:off x="4935600" y="1981080"/>
            <a:ext cx="3233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84" name="Picture 4" descr=""/>
          <p:cNvPicPr/>
          <p:nvPr/>
        </p:nvPicPr>
        <p:blipFill>
          <a:blip r:embed="rId1"/>
          <a:stretch/>
        </p:blipFill>
        <p:spPr>
          <a:xfrm>
            <a:off x="2666880" y="1981080"/>
            <a:ext cx="3581640" cy="23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89" name="Picture 5" descr=""/>
          <p:cNvPicPr/>
          <p:nvPr/>
        </p:nvPicPr>
        <p:blipFill>
          <a:blip r:embed="rId1"/>
          <a:stretch/>
        </p:blipFill>
        <p:spPr>
          <a:xfrm>
            <a:off x="3271680" y="1981080"/>
            <a:ext cx="26006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270160"/>
            <a:ext cx="38098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2" name="Picture 13" descr=""/>
          <p:cNvPicPr/>
          <p:nvPr/>
        </p:nvPicPr>
        <p:blipFill>
          <a:blip r:embed="rId1"/>
          <a:stretch/>
        </p:blipFill>
        <p:spPr>
          <a:xfrm>
            <a:off x="3048120" y="1981080"/>
            <a:ext cx="304776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1376280" y="1981080"/>
            <a:ext cx="63914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57" name="Picture 5" descr=""/>
          <p:cNvPicPr/>
          <p:nvPr/>
        </p:nvPicPr>
        <p:blipFill>
          <a:blip r:embed="rId1"/>
          <a:stretch/>
        </p:blipFill>
        <p:spPr>
          <a:xfrm>
            <a:off x="464832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609480" y="1914480"/>
            <a:ext cx="7772400" cy="28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685800" y="294948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2801880" y="1981080"/>
            <a:ext cx="3538440" cy="19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67" name="Picture 5" descr=""/>
          <p:cNvPicPr/>
          <p:nvPr/>
        </p:nvPicPr>
        <p:blipFill>
          <a:blip r:embed="rId1"/>
          <a:stretch/>
        </p:blipFill>
        <p:spPr>
          <a:xfrm>
            <a:off x="3292560" y="4114800"/>
            <a:ext cx="2557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954160" y="4114800"/>
            <a:ext cx="323568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RomaK</cp:lastModifiedBy>
  <dcterms:modified xsi:type="dcterms:W3CDTF">2015-09-04T09:27:24Z</dcterms:modified>
  <cp:revision>44</cp:revision>
  <dc:subject/>
  <dc:title>The City-States of Greece </dc:title>
</cp:coreProperties>
</file>