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0BF-C1B0-49C7-8756-5F91CD78E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 in 1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illiam of Normandy att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the Confessor was 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trouble keeping control of the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  Nobody will do as I s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England was poorly defend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very few cast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people lived in the north and west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body lived in the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 of England was covered in forest and people lived in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and’s army is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was st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’s army lived and train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DD3-BDD6-45CA-878E-F632BB31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DD5-5781-4477-B02A-F0D3960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2C6-AA67-4994-8A0E-CAF00C7A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463-60C6-41EB-A62A-6F2AE053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A5D-CC2F-41D6-A353-DF6F763D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5D1-7C88-4115-AF6B-F8AD1DF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720-7CD1-494B-95C2-C7444140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1C0-571E-49B7-A094-690503FA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755-02F0-44BB-8869-CB5EF8B3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1F0-ABCC-4DB8-BA88-8BB96EE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F41-F534-489A-BF5A-8E8EB32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AE0-F4D4-4222-8E3F-939D36A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7A5D-61E0-439B-8243-43D7A448C0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decookery.com/clipart/people/peop01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decookery.com/clipart/people/peop019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www.godecookery.com/clipart/people/peop019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decookery.com/clipart/people/peop019.jpg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godecookery.com/clipart/people/peop019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godecookery.com/clipart/people/peop019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decookery.com/clipart/people/peop019.jpg" TargetMode="External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uk/imgres?imgurl=http://www.ncl.ac.uk/sparcle/images/English%2520flag.gif&amp;imgrefurl=http://www.ncl.ac.uk/sparcle/Denmark/Home%2520page.htm&amp;h=299&amp;w=495&amp;sz=3&amp;tbnid=aRltpwpLZmNrlM:&amp;tbnh=76&amp;tbnw=127&amp;hl=en&amp;start=11&amp;prev=/images%3Fq%3Denglish%2Bflag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.uk/imgres?imgurl=http://pilot.intrinsix.net/why/jpgs/strong-arm.jpg&amp;imgrefurl=http://pilot.intrinsix.net/why/index.shtml&amp;h=150&amp;w=145&amp;sz=9&amp;tbnid=-e97cVRaemevoM:&amp;tbnh=90&amp;tbnw=87&amp;hl=en&amp;start=1&amp;prev=/images%3Fq%3Dstrong%2Barm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gland in 10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ould William of Normandy att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413000"/>
            <a:ext cx="424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dward the Confessor wa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had trouble keeping control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126828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King"/>
          <p:cNvPicPr/>
          <p:nvPr/>
        </p:nvPicPr>
        <p:blipFill>
          <a:blip r:embed="rId1"/>
          <a:stretch/>
        </p:blipFill>
        <p:spPr>
          <a:xfrm>
            <a:off x="5219640" y="2205000"/>
            <a:ext cx="2400480" cy="41054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/>
          <p:cNvSpPr/>
          <p:nvPr/>
        </p:nvSpPr>
        <p:spPr>
          <a:xfrm>
            <a:off x="5508720" y="404640"/>
            <a:ext cx="3166920" cy="1872000"/>
          </a:xfrm>
          <a:prstGeom prst="wedgeEllipseCallout">
            <a:avLst>
              <a:gd name="adj1" fmla="val -4037"/>
              <a:gd name="adj2" fmla="val 81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0360" y="7650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LP!  Nobody will do as I s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Fortress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5280" y="1341360"/>
            <a:ext cx="4248000" cy="417528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179280" y="1341360"/>
            <a:ext cx="4464000" cy="431964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4000" y="1197000"/>
            <a:ext cx="3095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England was poorly defend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re were very few cas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ap of England"/>
          <p:cNvPicPr/>
          <p:nvPr/>
        </p:nvPicPr>
        <p:blipFill>
          <a:blip r:embed="rId1"/>
          <a:stretch/>
        </p:blipFill>
        <p:spPr>
          <a:xfrm>
            <a:off x="395280" y="260280"/>
            <a:ext cx="4105440" cy="59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8" descr="peop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708280"/>
            <a:ext cx="4762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peop0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94172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peop01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eop01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32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peop01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340000" y="508464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peop01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40000" y="4724280"/>
            <a:ext cx="4762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peop01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258920" y="3645000"/>
            <a:ext cx="476280" cy="819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"/>
          <p:cNvSpPr/>
          <p:nvPr/>
        </p:nvSpPr>
        <p:spPr>
          <a:xfrm>
            <a:off x="4932360" y="476280"/>
            <a:ext cx="3887640" cy="59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few people lived in the north and west of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verybody lived in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of the South of England was covered in forest and people lived in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English%2520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22100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4067280" y="472428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50920" y="4653000"/>
            <a:ext cx="865080" cy="504720"/>
          </a:xfrm>
          <a:prstGeom prst="leftArrow">
            <a:avLst>
              <a:gd name="adj1" fmla="val 50000"/>
              <a:gd name="adj2" fmla="val 428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268360" y="3213000"/>
            <a:ext cx="576360" cy="863640"/>
          </a:xfrm>
          <a:prstGeom prst="upArrow">
            <a:avLst>
              <a:gd name="adj1" fmla="val 50000"/>
              <a:gd name="adj2" fmla="val 374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2340000" y="580536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strong-a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5580000" y="981000"/>
            <a:ext cx="2879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gland’s army is scatt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trong-arm"/>
          <p:cNvPicPr/>
          <p:nvPr/>
        </p:nvPicPr>
        <p:blipFill>
          <a:blip r:embed="rId1"/>
          <a:stretch/>
        </p:blipFill>
        <p:spPr>
          <a:xfrm>
            <a:off x="1187280" y="1052640"/>
            <a:ext cx="2737080" cy="15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r-norm"/>
          <p:cNvPicPr/>
          <p:nvPr/>
        </p:nvPicPr>
        <p:blipFill>
          <a:blip r:embed="rId2"/>
          <a:stretch/>
        </p:blipFill>
        <p:spPr>
          <a:xfrm>
            <a:off x="1116000" y="3716280"/>
            <a:ext cx="3168720" cy="20178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179280" y="4365720"/>
            <a:ext cx="898560" cy="576000"/>
          </a:xfrm>
          <a:prstGeom prst="rightArrow">
            <a:avLst>
              <a:gd name="adj1" fmla="val 50000"/>
              <a:gd name="adj2" fmla="val 39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4356000" y="4365720"/>
            <a:ext cx="935280" cy="576000"/>
          </a:xfrm>
          <a:prstGeom prst="leftArrow">
            <a:avLst>
              <a:gd name="adj1" fmla="val 50000"/>
              <a:gd name="adj2" fmla="val 405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2411280" y="5877000"/>
            <a:ext cx="574920" cy="720720"/>
          </a:xfrm>
          <a:prstGeom prst="upArrow">
            <a:avLst>
              <a:gd name="adj1" fmla="val 50000"/>
              <a:gd name="adj2" fmla="val 3134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2484360" y="278136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724360" y="836640"/>
            <a:ext cx="302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wa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lliam’s army lived and train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9:51:36Z</dcterms:created>
  <dc:creator>cjames</dc:creator>
  <dc:description>England in 1060 hastings 1066</dc:description>
  <cp:keywords>England in 1060 hastings 1066</cp:keywords>
  <dc:language>en-US</dc:language>
  <cp:lastModifiedBy>LEGION</cp:lastModifiedBy>
  <dcterms:modified xsi:type="dcterms:W3CDTF">2015-09-15T11:00:12Z</dcterms:modified>
  <cp:revision>9</cp:revision>
  <dc:subject>England in 1060 hastings 1066</dc:subject>
  <dc:title>England in 1060 hastings 1066</dc:title>
</cp:coreProperties>
</file>