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7E0B-F8BE-4565-A286-A80B2E33E0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 in 10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illiam of Normandy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 in 10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illiam of Normandy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the Confessor was 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trouble keeping control of the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  Nobody will do as I s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the Confessor was 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trouble keeping control of the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  Nobody will do as I s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England was poorly defend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very few cast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England was poorly defend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very few cast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people lived in the north and west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body lived in the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 of England was covered in forest and people lived in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people lived in the north and west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body lived in the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 of England was covered in forest and people lived in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wa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lived and train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wa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lived and train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735D-DFFB-40C8-A164-FE4AD707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5844-D804-4268-8998-16DE1310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8F29-762F-4946-AECE-5733177D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7B3F-77BE-4202-9B30-43BFCE21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3EA4-43A8-4487-A393-B32AF291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3201-ED9F-4A62-8EEE-3355BD7C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1B2B-287C-4245-B111-997040B8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203F-686C-432F-919D-B7CF1A76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1B0B-16B1-4639-82CD-13D00FA2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801A-D4E9-4D35-85F8-71CEA7EB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ED54-23C0-432F-95D2-AAEFB2BB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EEBA-131A-4510-A526-1602B290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7FDF-2879-46BE-92E4-2A6A06F1AE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odecookery.com/clipart/people/peop019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godecookery.com/clipart/people/peop019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www.godecookery.com/clipart/people/peop019.jpg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www.godecookery.com/clipart/people/peop019.jpg" TargetMode="External"/><Relationship Id="rId9" Type="http://schemas.openxmlformats.org/officeDocument/2006/relationships/image" Target="../media/image4.jpeg"/><Relationship Id="rId10" Type="http://schemas.openxmlformats.org/officeDocument/2006/relationships/hyperlink" Target="http://www.godecookery.com/clipart/people/peop019.jpg" TargetMode="External"/><Relationship Id="rId11" Type="http://schemas.openxmlformats.org/officeDocument/2006/relationships/image" Target="../media/image4.jpeg"/><Relationship Id="rId12" Type="http://schemas.openxmlformats.org/officeDocument/2006/relationships/hyperlink" Target="http://www.godecookery.com/clipart/people/peop019.jpg" TargetMode="External"/><Relationship Id="rId13" Type="http://schemas.openxmlformats.org/officeDocument/2006/relationships/image" Target="../media/image4.jpeg"/><Relationship Id="rId14" Type="http://schemas.openxmlformats.org/officeDocument/2006/relationships/hyperlink" Target="http://www.godecookery.com/clipart/people/peop019.jpg" TargetMode="External"/><Relationship Id="rId15" Type="http://schemas.openxmlformats.org/officeDocument/2006/relationships/image" Target="../media/image4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ncl.ac.uk/sparcle/images/English%2520flag.gif&amp;imgrefurl=http://www.ncl.ac.uk/sparcle/Denmark/Home%2520page.htm&amp;h=299&amp;w=495&amp;sz=3&amp;tbnid=aRltpwpLZmNrlM:&amp;tbnh=76&amp;tbnw=127&amp;hl=en&amp;start=11&amp;prev=/images%3Fq%3Denglish%2Bflag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google.co.uk/imgres?imgurl=http://pilot.intrinsix.net/why/jpgs/strong-arm.jpg&amp;imgrefurl=http://pilot.intrinsix.net/why/index.shtml&amp;h=150&amp;w=145&amp;sz=9&amp;tbnid=-e97cVRaemevoM:&amp;tbnh=90&amp;tbnw=87&amp;hl=en&amp;start=1&amp;prev=/images%3Fq%3Dstrong%2Barm%26svnum%3D10%26hl%3Den%26lr%3D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gland in 10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hould William of Normandy att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11280" y="1413000"/>
            <a:ext cx="4248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dward the Confessor was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 had trouble keeping control of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148360" y="126828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King"/>
          <p:cNvPicPr/>
          <p:nvPr/>
        </p:nvPicPr>
        <p:blipFill>
          <a:blip r:embed="rId1"/>
          <a:stretch/>
        </p:blipFill>
        <p:spPr>
          <a:xfrm>
            <a:off x="5219640" y="2205000"/>
            <a:ext cx="2400480" cy="410544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0"/>
          <p:cNvSpPr/>
          <p:nvPr/>
        </p:nvSpPr>
        <p:spPr>
          <a:xfrm>
            <a:off x="5508720" y="404640"/>
            <a:ext cx="3166920" cy="1872000"/>
          </a:xfrm>
          <a:prstGeom prst="wedgeEllipseCallout">
            <a:avLst>
              <a:gd name="adj1" fmla="val -4037"/>
              <a:gd name="adj2" fmla="val 8163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940360" y="76500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LP!  Nobody will do as I s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Fortress"/>
          <p:cNvPicPr/>
          <p:nvPr/>
        </p:nvPicPr>
        <p:blipFill>
          <a:blip r:embed="rId1"/>
          <a:stretch/>
        </p:blipFill>
        <p:spPr>
          <a:xfrm>
            <a:off x="324000" y="1844640"/>
            <a:ext cx="4319280" cy="3384720"/>
          </a:xfrm>
          <a:prstGeom prst="rect">
            <a:avLst/>
          </a:prstGeom>
          <a:ln w="0">
            <a:noFill/>
          </a:ln>
        </p:spPr>
      </p:pic>
      <p:sp>
        <p:nvSpPr>
          <p:cNvPr id="56" name="Line 6"/>
          <p:cNvSpPr/>
          <p:nvPr/>
        </p:nvSpPr>
        <p:spPr>
          <a:xfrm>
            <a:off x="395280" y="1341360"/>
            <a:ext cx="4248000" cy="417528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 flipH="1">
            <a:off x="179280" y="1341360"/>
            <a:ext cx="4464000" cy="431964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364000" y="1197000"/>
            <a:ext cx="309564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of England was poorly defend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re were very few cast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Map of England"/>
          <p:cNvPicPr/>
          <p:nvPr/>
        </p:nvPicPr>
        <p:blipFill>
          <a:blip r:embed="rId1"/>
          <a:stretch/>
        </p:blipFill>
        <p:spPr>
          <a:xfrm>
            <a:off x="395280" y="260280"/>
            <a:ext cx="4105440" cy="590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Picture 8" descr="peop01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2708280"/>
            <a:ext cx="476280" cy="819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peop01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16360" y="494172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peop01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2728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peop01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13200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" descr="peop019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340000" y="508464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peop019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34000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peop019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1258920" y="3645000"/>
            <a:ext cx="476280" cy="819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"/>
          <p:cNvSpPr/>
          <p:nvPr/>
        </p:nvSpPr>
        <p:spPr>
          <a:xfrm>
            <a:off x="4932360" y="476280"/>
            <a:ext cx="388764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ry few people lived in the north and west of En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verybody lived in the s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of the South of England was covered in forest and people lived in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English%2520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221000"/>
            <a:ext cx="2592360" cy="144000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6"/>
          <p:cNvSpPr/>
          <p:nvPr/>
        </p:nvSpPr>
        <p:spPr>
          <a:xfrm>
            <a:off x="4067280" y="4724280"/>
            <a:ext cx="936360" cy="432000"/>
          </a:xfrm>
          <a:prstGeom prst="rightArrow">
            <a:avLst>
              <a:gd name="adj1" fmla="val 50000"/>
              <a:gd name="adj2" fmla="val 5418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250920" y="4653000"/>
            <a:ext cx="865080" cy="504720"/>
          </a:xfrm>
          <a:prstGeom prst="leftArrow">
            <a:avLst>
              <a:gd name="adj1" fmla="val 50000"/>
              <a:gd name="adj2" fmla="val 428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2268360" y="3213000"/>
            <a:ext cx="576360" cy="863640"/>
          </a:xfrm>
          <a:prstGeom prst="upArrow">
            <a:avLst>
              <a:gd name="adj1" fmla="val 50000"/>
              <a:gd name="adj2" fmla="val 3746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9"/>
          <p:cNvSpPr/>
          <p:nvPr/>
        </p:nvSpPr>
        <p:spPr>
          <a:xfrm>
            <a:off x="2340000" y="580536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strong-ar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1052640"/>
            <a:ext cx="2737080" cy="1584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2"/>
          <p:cNvSpPr/>
          <p:nvPr/>
        </p:nvSpPr>
        <p:spPr>
          <a:xfrm>
            <a:off x="5580000" y="981000"/>
            <a:ext cx="287964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gland’s army i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gland’s army is scatt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strong-arm"/>
          <p:cNvPicPr/>
          <p:nvPr/>
        </p:nvPicPr>
        <p:blipFill>
          <a:blip r:embed="rId1"/>
          <a:stretch/>
        </p:blipFill>
        <p:spPr>
          <a:xfrm>
            <a:off x="1187280" y="1052640"/>
            <a:ext cx="2737080" cy="1584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fr-norm"/>
          <p:cNvPicPr/>
          <p:nvPr/>
        </p:nvPicPr>
        <p:blipFill>
          <a:blip r:embed="rId2"/>
          <a:stretch/>
        </p:blipFill>
        <p:spPr>
          <a:xfrm>
            <a:off x="1116000" y="3716280"/>
            <a:ext cx="3168720" cy="201780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7"/>
          <p:cNvSpPr/>
          <p:nvPr/>
        </p:nvSpPr>
        <p:spPr>
          <a:xfrm>
            <a:off x="179280" y="4365720"/>
            <a:ext cx="898560" cy="576000"/>
          </a:xfrm>
          <a:prstGeom prst="rightArrow">
            <a:avLst>
              <a:gd name="adj1" fmla="val 50000"/>
              <a:gd name="adj2" fmla="val 39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4356000" y="4365720"/>
            <a:ext cx="935280" cy="576000"/>
          </a:xfrm>
          <a:prstGeom prst="leftArrow">
            <a:avLst>
              <a:gd name="adj1" fmla="val 50000"/>
              <a:gd name="adj2" fmla="val 405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9"/>
          <p:cNvSpPr/>
          <p:nvPr/>
        </p:nvSpPr>
        <p:spPr>
          <a:xfrm>
            <a:off x="2411280" y="5877000"/>
            <a:ext cx="574920" cy="720720"/>
          </a:xfrm>
          <a:prstGeom prst="upArrow">
            <a:avLst>
              <a:gd name="adj1" fmla="val 50000"/>
              <a:gd name="adj2" fmla="val 3134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2484360" y="278136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5724360" y="836640"/>
            <a:ext cx="30243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illiam’s army wa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illiam’s army lived and train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09:51:36Z</dcterms:created>
  <dc:creator>cjames</dc:creator>
  <dc:description>England in 1060 hastings 1066</dc:description>
  <cp:keywords>England in 1060 hastings 1066</cp:keywords>
  <dc:language>en-US</dc:language>
  <cp:lastModifiedBy>LEGION</cp:lastModifiedBy>
  <dcterms:modified xsi:type="dcterms:W3CDTF">2015-09-15T11:00:12Z</dcterms:modified>
  <cp:revision>9</cp:revision>
  <dc:subject>England in 1060 hastings 1066</dc:subject>
  <dc:title>England in 1060 hastings 1066</dc:title>
</cp:coreProperties>
</file>