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21.jpeg" ContentType="image/jpeg"/>
  <Override PartName="/ppt/media/chimes.wav" ContentType="audio/x-wav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laser.wav" ContentType="audio/x-wav"/>
  <Override PartName="/ppt/media/drumroll.wav" ContentType="audio/x-wav"/>
  <Override PartName="/ppt/media/image13.jpeg" ContentType="image/jpeg"/>
  <Override PartName="/ppt/media/image40.jpeg" ContentType="image/jpeg"/>
  <Override PartName="/ppt/media/applause.wav" ContentType="audio/x-wav"/>
  <Override PartName="/ppt/media/image5.png" ContentType="image/png"/>
  <Override PartName="/ppt/media/image43.jpeg" ContentType="image/jpeg"/>
  <Override PartName="/ppt/media/glass.wav" ContentType="audio/x-wav"/>
  <Override PartName="/ppt/media/image20.jpeg" ContentType="image/jpeg"/>
  <Override PartName="/ppt/media/image2.png" ContentType="image/png"/>
  <Override PartName="/ppt/media/image25.jpeg" ContentType="image/jpeg"/>
  <Override PartName="/ppt/media/image17.jpeg" ContentType="image/jpeg"/>
  <Override PartName="/ppt/media/carbrake.wav" ContentType="audio/x-wav"/>
  <Override PartName="/ppt/media/image10.jpeg" ContentType="image/jpeg"/>
  <Override PartName="/ppt/media/image29.jpeg" ContentType="image/jpeg"/>
  <Override PartName="/ppt/media/image24.jpeg" ContentType="image/jpeg"/>
  <Override PartName="/ppt/media/image30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1.jpeg" ContentType="image/jpeg"/>
  <Override PartName="/ppt/media/image26.jpeg" ContentType="image/jpeg"/>
  <Override PartName="/ppt/media/image32.jpeg" ContentType="image/jpeg"/>
  <Override PartName="/ppt/media/image37.jpeg" ContentType="image/jpeg"/>
  <Override PartName="/ppt/media/image38.jpeg" ContentType="image/jpeg"/>
  <Override PartName="/ppt/media/image8.jpeg" ContentType="image/jpeg"/>
  <Override PartName="/ppt/media/image39.jpeg" ContentType="image/jpeg"/>
  <Override PartName="/ppt/media/whoosh.wav" ContentType="audio/x-wav"/>
  <Override PartName="/ppt/media/image28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explode.wav" ContentType="audio/x-wav"/>
  <Override PartName="/ppt/media/image6.png" ContentType="image/png"/>
  <Override PartName="/ppt/media/image4.png" ContentType="image/png"/>
  <Override PartName="/ppt/media/image33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C0EA0-A777-464C-8B75-20B5E7725A1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h of Cultures and Marching No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h of Cultures and Marching No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ht Makes Right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zar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ed west coast of South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treasures on in Pe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eated the In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ed their leader (Atahualpa) after he demanded all their gold for his rel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ed all silver and gold into ba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ht Makes Right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zar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ed west coast of South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treasures on in Pe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eated the In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ed their leader (Atahualpa) after he demanded all their gold for his rel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ed all silver and gold into ba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4: Gloom, Doom, &amp; Ch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gave the India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Pox and Meas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4: Gloom, Doom, &amp; Ch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gave the India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Pox and Meas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4: Gloom, Doom, &amp; Ch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anish also g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g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51-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39-Printing Press to Mexico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4: Gloom, Doom, &amp; Ch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anish also g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g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51-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39-Printing Press to Mexico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4: Gloom, Doom, &amp; Ch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en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Sacrif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4: Gloom, Doom, &amp; Ch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en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Sacrif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5: North of New S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rers search for Ci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cities of g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d by 7 prie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to be in the no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in Africa or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5: North of New S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rers search for Ci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cities of g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d by 7 prie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to be in the no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in Africa or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eban-sent by the mayor of Mexico City to find Cibola with Fray Marc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of 4 survivors from Narv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tured by Indians (learned their cultu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lked to Mexico in 8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to many female followers for Fray Marc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d crosses to show Cibola 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ed when he sent Indians an symbol of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s went back to Mexico City and said they found Ci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eban-sent by the mayor of Mexico City to find Cibola with Fray Marc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of 4 survivors from Narv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tured by Indians (learned their cultu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lked to Mexico in 8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to many female followers for Fray Marc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d crosses to show Cibola 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ed when he sent Indians an symbol of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s went back to Mexico City and said they found Ci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6:Looking for Cibola with Coron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do: good leader/sold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0:leaves in search of Ci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s to Hawiku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ck Indians out and take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go west and discover the Grand Cany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6:Looking for Cibola with Coron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do: good leader/sold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0:leaves in search of Ci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s to Hawiku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ck Indians out and take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go west and discover the Grand Cany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6:Looking for Cibola with Coron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urk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dian captured by the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sign language to commun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assume he’s telling them where the gold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s them to Quivira-city full of mud hu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ngled for l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n’t the gold and silver were underground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6:Looking for Cibola with Coron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urk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dian captured by the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sign language to commun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assume he’s telling them where the gold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s them to Quivira-city full of mud hu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ngled for l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n’t the gold and silver were underground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7: California to Flor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0-1549:Spanish looking for Cibola all over! (California/Texas/Florid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39: De Soto- Florida (land of gol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s 200lbs of pearls on his expl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 in Peru w/Pizar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k over Indian vill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s/tortures if they don’t give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survivor from Narv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s the Mississippi 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ed of fever and was buried in the 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7: California to Flor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0-1549:Spanish looking for Cibola all over! (California/Texas/Florid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39: De Soto- Florida (land of gol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s 200lbs of pearls on his expl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 in Peru w/Pizar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k over Indian vill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s/tortures if they don’t give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survivor from Narv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s the Mississippi 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ed of fever and was buried in the 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7: California to Flor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0-Alac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o reach Califor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iled up the Gulf of California and Colorado River in the Grand Cany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24-Cabrillo (“lil goat”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ieved California was run by Griff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ed being chased by Ind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7: California to Flor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0-Alac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o reach Califor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iled up the Gulf of California and Colorado River in the Grand Cany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24-Cabrillo (“lil goat”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ieved California was run by Griff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ed being chased by Ind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1: Beliefs and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th century~ Roman Catholic and Eastern Orthodox~only Christian relig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th Century~Martin Lu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orm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s 95 complaints against the Catholic Chu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95 Thes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s Protestantis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1: Beliefs and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th century~ Roman Catholic and Eastern Orthodox~only Christian relig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th Century~Martin Lu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orm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s 95 complaints against the Catholic Chu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95 Thes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s Protestantis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8:A Place Called Santa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d in 16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t on a plate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permanent European colony in North West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30-60,000 Indians converted to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istia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8:A Place Called Santa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d in 16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t on a plate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permanent European colony in North West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30-60,000 Indians converted to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istia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9: Las Casas Car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2-King Charles 1 outlaws Indian slav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 Cas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an Indian slave as a chi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12-became a priest &amp; owned sl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14-gave his slaves their freed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 1520- established Venezuela (peaceful are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s and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n’t want to work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9: Las Casas Car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2-King Charles 1 outlaws Indian slav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 Cas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an Indian slave as a chi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12-became a priest &amp; owned sl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14-gave his slaves their freed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 1520- established Venezuela (peaceful are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s and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n’t want to work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9: Las Casa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ulv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osed Las Casas opin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s “needed”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aves were g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lish read about Spanis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treat Native Americans differen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9: Las Casa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ulv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osed Las Casas opin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s “needed”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aves were g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lish read about Spanis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treat Native Americans differen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END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END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 of Re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ime of change and re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religions forming (Protestantis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and expl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 of Re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ime of change and re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religions forming (Protestantis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and expl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, Leave, OR be Tortured and Die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anish Inqui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en Isabella’s “special” religious cou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lims, Jews, and Pagans would have to convert to Christian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conversion = leaving Spain or d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, Leave, OR be Tortured and Die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anish Inqui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en Isabella’s “special” religious cou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lims, Jews, and Pagans would have to convert to Christian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conversion = leaving Spain or d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S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nando Cort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t to be a god (Quetzacoatl) by Montezu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ed with 900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k his own ship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hed towards Tenochtitl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S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nando Cort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t to be a god (Quetzacoatl) by Montezu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ed with 900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k his own ship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hed towards Tenochtitl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ap of the Aztec Emp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ap of the Aztec Emp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tez Marches A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n’t listen to Montezuma and marches towards Tenochtit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s army as he g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we of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ing gard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vate Z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D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tez Marches A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n’t listen to Montezuma and marches towards Tenochtit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s army as he g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we of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ing gard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vate Z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D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Aztecs f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ntezuma 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uauhtemoc (the new Aztec leader) surrenders to the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anish destroy the Aztec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name Tenochtit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xico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Aztecs f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ntezuma 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uauhtemoc (the new Aztec leader) surrenders to the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anish destroy the Aztec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name Tenochtit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xico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3: “Might Makes Right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nce de Le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 &amp; Bloodthirs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quered Puerto R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Flor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s for all its 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gold in Puerto R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ly shot with a poison ar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dies from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3: “Might Makes Right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nce de Le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 &amp; Bloodthirs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quered Puerto R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Flor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s for all its 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gold in Puerto R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ly shot with a poison ar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dies from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02BD-5EED-41B4-B55B-E071241AF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32FF-0082-4EE7-9D99-95FDD5CE2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D6CA-5E85-4B6D-B606-E6CB2A7B0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618E-C9F7-42C7-93C8-5F9F31A6D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90F01-A62A-4CEB-B813-B67234493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71971-839F-410C-B9CF-250FBDBF7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6DE9C-7333-47C8-AF69-DFB2C3866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AFC60-EF4F-4815-B279-E34DA9AE5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403AB-A41F-495C-AC76-514032C01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ACB4C-6235-4D8B-B75C-80A07DA5D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F1E13-0CC6-4A47-878B-3A391E58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A0C1-786B-4B0A-894B-43F0A3C8D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14E4D-5C66-44E0-8307-36770563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ED2B8-53F9-4D68-93D6-6C7491A9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49EF7-5568-48E0-B020-489DF2C39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148D9-D53F-4705-9F49-BE97296F6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DE31C-DAD7-45F7-AA70-C0D29FD20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3DB8-15A9-4089-A6C7-327A75D92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46BE-42F4-48D2-BC42-EABAC9D4E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F113-BD94-4852-891E-90355D521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F138-8E03-4B30-B1B7-B0CAA783B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A307-D510-4B60-A4E0-46344B36C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F941-B145-43BE-80D7-8F833BD14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3FAD-0DBF-4CE3-AE04-F3E2E2D2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26" descr="Expbanna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6A47F-0095-4F73-B80E-505C27E2405C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031" descr="EXPHORSA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7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4" name="Picture 8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9" descr="EXPHORSA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Picture 10" descr="EXPHORSA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46A73-AB36-4C9C-9165-ECA22CD1B9C6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28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30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34.jpeg"/><Relationship Id="rId9" Type="http://schemas.openxmlformats.org/officeDocument/2006/relationships/image" Target="../media/image35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32.jpeg"/><Relationship Id="rId8" Type="http://schemas.openxmlformats.org/officeDocument/2006/relationships/image" Target="../media/image36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25.jpeg"/><Relationship Id="rId6" Type="http://schemas.openxmlformats.org/officeDocument/2006/relationships/image" Target="../media/image37.jpeg"/><Relationship Id="rId7" Type="http://schemas.openxmlformats.org/officeDocument/2006/relationships/image" Target="../media/image3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39.jpeg"/><Relationship Id="rId8" Type="http://schemas.openxmlformats.org/officeDocument/2006/relationships/image" Target="../media/image40.jpeg"/><Relationship Id="rId9" Type="http://schemas.openxmlformats.org/officeDocument/2006/relationships/audio" Target="../media/explode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41.jpeg"/><Relationship Id="rId7" Type="http://schemas.openxmlformats.org/officeDocument/2006/relationships/image" Target="../media/image42.jpeg"/><Relationship Id="rId8" Type="http://schemas.openxmlformats.org/officeDocument/2006/relationships/image" Target="../media/image43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9.jpeg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audio" Target="../media/glass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audio" Target="../media/applause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audio" Target="../media/glass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audio" Target="../media/drumroll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h of Cultures and Marching Nor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Might Makes Right!”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zar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ed west coast of South Ame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nd treasures on in Pe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eated the In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lled their leader (Atahualpa) after he demanded all their gold for his rel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lted all silver and gold into ba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4" descr="inca"/>
          <p:cNvPicPr/>
          <p:nvPr/>
        </p:nvPicPr>
        <p:blipFill>
          <a:blip r:embed="rId4"/>
          <a:stretch/>
        </p:blipFill>
        <p:spPr>
          <a:xfrm>
            <a:off x="6629400" y="4343400"/>
            <a:ext cx="2209680" cy="2209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pizzaro"/>
          <p:cNvPicPr/>
          <p:nvPr/>
        </p:nvPicPr>
        <p:blipFill>
          <a:blip r:embed="rId5"/>
          <a:stretch/>
        </p:blipFill>
        <p:spPr>
          <a:xfrm>
            <a:off x="152280" y="3886200"/>
            <a:ext cx="1844640" cy="26971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inca2"/>
          <p:cNvPicPr/>
          <p:nvPr/>
        </p:nvPicPr>
        <p:blipFill>
          <a:blip r:embed="rId6"/>
          <a:stretch/>
        </p:blipFill>
        <p:spPr>
          <a:xfrm>
            <a:off x="6858000" y="457200"/>
            <a:ext cx="178740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4: Gloom, Doom, &amp; Cheer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nish gave the Indian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Pox and Meas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4" descr="small pox"/>
          <p:cNvPicPr/>
          <p:nvPr/>
        </p:nvPicPr>
        <p:blipFill>
          <a:blip r:embed="rId3"/>
          <a:stretch/>
        </p:blipFill>
        <p:spPr>
          <a:xfrm>
            <a:off x="380880" y="3124080"/>
            <a:ext cx="3810240" cy="2759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small pox 2"/>
          <p:cNvPicPr/>
          <p:nvPr/>
        </p:nvPicPr>
        <p:blipFill>
          <a:blip r:embed="rId4"/>
          <a:stretch/>
        </p:blipFill>
        <p:spPr>
          <a:xfrm>
            <a:off x="4572000" y="3352680"/>
            <a:ext cx="4343400" cy="26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5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8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4: Gloom, Doom, &amp; Cheer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panish also gav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ig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51-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39-Printing Press to Mexico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4" descr="cross"/>
          <p:cNvPicPr/>
          <p:nvPr/>
        </p:nvPicPr>
        <p:blipFill>
          <a:blip r:embed="rId6"/>
          <a:stretch/>
        </p:blipFill>
        <p:spPr>
          <a:xfrm>
            <a:off x="6477120" y="914400"/>
            <a:ext cx="2249280" cy="26859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sp art 2"/>
          <p:cNvPicPr/>
          <p:nvPr/>
        </p:nvPicPr>
        <p:blipFill>
          <a:blip r:embed="rId7"/>
          <a:stretch/>
        </p:blipFill>
        <p:spPr>
          <a:xfrm>
            <a:off x="6705720" y="3733920"/>
            <a:ext cx="2139840" cy="27432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span art"/>
          <p:cNvPicPr/>
          <p:nvPr/>
        </p:nvPicPr>
        <p:blipFill>
          <a:blip r:embed="rId8"/>
          <a:stretch/>
        </p:blipFill>
        <p:spPr>
          <a:xfrm>
            <a:off x="0" y="4114800"/>
            <a:ext cx="16477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4: Gloom, Doom, &amp; Cheer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nish en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uman Sacrif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4" descr="aztecsacrifice"/>
          <p:cNvPicPr/>
          <p:nvPr/>
        </p:nvPicPr>
        <p:blipFill>
          <a:blip r:embed="rId3"/>
          <a:stretch/>
        </p:blipFill>
        <p:spPr>
          <a:xfrm>
            <a:off x="2209680" y="2895480"/>
            <a:ext cx="586764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2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5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5: North of New Spai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orers search for Cibo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 cities of go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nded by 7 pri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d to be in the nor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in Africa or Eur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4" descr="cibola"/>
          <p:cNvPicPr/>
          <p:nvPr/>
        </p:nvPicPr>
        <p:blipFill>
          <a:blip r:embed="rId5"/>
          <a:stretch/>
        </p:blipFill>
        <p:spPr>
          <a:xfrm>
            <a:off x="5334120" y="2895480"/>
            <a:ext cx="339408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Esteban-</a:t>
            </a:r>
            <a:r>
              <a:rPr b="0" lang="en-US" sz="2800" spc="-1" strike="noStrike">
                <a:solidFill>
                  <a:srgbClr val="482400"/>
                </a:solidFill>
                <a:latin typeface="Times New Roman"/>
              </a:rPr>
              <a:t>sent by the mayor of Mexico City to find Cibola with Fray Marcos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77080" cy="46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of 4 survivors from Narv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tured by Indians (learned their cult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lked to Mexico in 8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d to many female followers for Fray Marc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 crosses to show Cibola f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illed when he sent Indians an symbol of w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cos went back to Mexico City and said they found Cibo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4" descr="gourd"/>
          <p:cNvPicPr/>
          <p:nvPr/>
        </p:nvPicPr>
        <p:blipFill>
          <a:blip r:embed="rId8"/>
          <a:stretch/>
        </p:blipFill>
        <p:spPr>
          <a:xfrm>
            <a:off x="7086600" y="990720"/>
            <a:ext cx="182880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6:Looking for Cibola with Coronado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onado: good leader/sold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40:leaves in search of Cibo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s to Hawiku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eblo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ck Indians out and take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go west and discover the Grand Cany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4" descr="coro"/>
          <p:cNvPicPr/>
          <p:nvPr/>
        </p:nvPicPr>
        <p:blipFill>
          <a:blip r:embed="rId4"/>
          <a:stretch/>
        </p:blipFill>
        <p:spPr>
          <a:xfrm>
            <a:off x="7089840" y="1066680"/>
            <a:ext cx="1628640" cy="29718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gc"/>
          <p:cNvPicPr/>
          <p:nvPr/>
        </p:nvPicPr>
        <p:blipFill>
          <a:blip r:embed="rId5"/>
          <a:stretch/>
        </p:blipFill>
        <p:spPr>
          <a:xfrm>
            <a:off x="762120" y="4648320"/>
            <a:ext cx="35049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1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4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3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6:Looking for Cibola with Coronado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urk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dian captured by the Span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 sign language to communic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anish assume he’s telling them where the gold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s them to Quivira-city full of mud hu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angled for ly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wasn’t the gold and silver were underground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4" descr="hanging"/>
          <p:cNvPicPr/>
          <p:nvPr/>
        </p:nvPicPr>
        <p:blipFill>
          <a:blip r:embed="rId7"/>
          <a:stretch/>
        </p:blipFill>
        <p:spPr>
          <a:xfrm>
            <a:off x="0" y="4495680"/>
            <a:ext cx="160020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7: California to Florid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40-1549:Spanish looking for Cibola all over! (California/Texas/Florid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39: De Soto- Florida (land of go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s 200lbs of pearls on his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s in Peru w/Pizar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k over Indian vill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ills/tortures if they don’t give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nd survivor from Nar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s the Mississippi 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ed of fever and was buried in the 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4" descr="miss riv"/>
          <p:cNvPicPr/>
          <p:nvPr/>
        </p:nvPicPr>
        <p:blipFill>
          <a:blip r:embed="rId8"/>
          <a:stretch/>
        </p:blipFill>
        <p:spPr>
          <a:xfrm>
            <a:off x="7170840" y="2362320"/>
            <a:ext cx="1973160" cy="29336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pearls"/>
          <p:cNvPicPr/>
          <p:nvPr/>
        </p:nvPicPr>
        <p:blipFill>
          <a:blip r:embed="rId9"/>
          <a:stretch/>
        </p:blipFill>
        <p:spPr>
          <a:xfrm>
            <a:off x="0" y="5667480"/>
            <a:ext cx="178740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7: California to Florid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540-Alacr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reach Califor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led up the Gulf of California and Colorado River in the Grand Cany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524-Cabrillo (“lil goat”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lieved California was run by Griff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ed being chased by Ind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4" descr="gc"/>
          <p:cNvPicPr/>
          <p:nvPr/>
        </p:nvPicPr>
        <p:blipFill>
          <a:blip r:embed="rId7"/>
          <a:stretch/>
        </p:blipFill>
        <p:spPr>
          <a:xfrm>
            <a:off x="0" y="5410080"/>
            <a:ext cx="2438280" cy="14320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griffin2"/>
          <p:cNvPicPr/>
          <p:nvPr/>
        </p:nvPicPr>
        <p:blipFill>
          <a:blip r:embed="rId8"/>
          <a:stretch/>
        </p:blipFill>
        <p:spPr>
          <a:xfrm>
            <a:off x="6095880" y="4772160"/>
            <a:ext cx="3048120" cy="19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7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0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1: Beliefs and Idea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6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entury~ Roman Catholic and Eastern Orthodox~only Christian relig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entury~Martin Lu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form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s 95 complaints against the Catholic Chu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95 Thes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nds Protestantis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4" descr="martin_luther"/>
          <p:cNvPicPr/>
          <p:nvPr/>
        </p:nvPicPr>
        <p:blipFill>
          <a:blip r:embed="rId6"/>
          <a:stretch/>
        </p:blipFill>
        <p:spPr>
          <a:xfrm>
            <a:off x="6477120" y="4419720"/>
            <a:ext cx="22730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8:A Place Called Santa </a:t>
            </a:r>
            <a:br>
              <a:rPr sz="4400"/>
            </a:b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           F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nded in 16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t on a plate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permanent European colony in North West Ame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630-60,000 Indians converted to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ristia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4" descr="cross"/>
          <p:cNvPicPr/>
          <p:nvPr/>
        </p:nvPicPr>
        <p:blipFill>
          <a:blip r:embed="rId5"/>
          <a:stretch/>
        </p:blipFill>
        <p:spPr>
          <a:xfrm>
            <a:off x="6975360" y="3581280"/>
            <a:ext cx="2168640" cy="3276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sf2"/>
          <p:cNvPicPr/>
          <p:nvPr/>
        </p:nvPicPr>
        <p:blipFill>
          <a:blip r:embed="rId6"/>
          <a:stretch/>
        </p:blipFill>
        <p:spPr>
          <a:xfrm>
            <a:off x="4648320" y="914400"/>
            <a:ext cx="4208400" cy="19494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sf3"/>
          <p:cNvPicPr/>
          <p:nvPr/>
        </p:nvPicPr>
        <p:blipFill>
          <a:blip r:embed="rId7"/>
          <a:stretch/>
        </p:blipFill>
        <p:spPr>
          <a:xfrm>
            <a:off x="380880" y="4464000"/>
            <a:ext cx="320040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9: Las Casas Cares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42-King Charles 1 outlaw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di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la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s Cas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d an Indian slave as a 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12-became a priest &amp; owned sl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14-gave his slaves their free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 1520- established Venezuela (peaceful are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ve Americans and Spani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482400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dn’t want to work toge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4" descr="crosses"/>
          <p:cNvPicPr/>
          <p:nvPr/>
        </p:nvPicPr>
        <p:blipFill>
          <a:blip r:embed="rId7"/>
          <a:stretch/>
        </p:blipFill>
        <p:spPr>
          <a:xfrm>
            <a:off x="5562720" y="4478400"/>
            <a:ext cx="3581280" cy="2379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ven"/>
          <p:cNvPicPr/>
          <p:nvPr/>
        </p:nvPicPr>
        <p:blipFill>
          <a:blip r:embed="rId8"/>
          <a:stretch/>
        </p:blipFill>
        <p:spPr>
          <a:xfrm>
            <a:off x="-33480" y="2895480"/>
            <a:ext cx="16941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9: Las Casas </a:t>
            </a:r>
            <a:br>
              <a:rPr sz="4400"/>
            </a:b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ar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ulve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posed Las Casas opin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ive Americans “needed” Span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aves were g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glish read about Spanis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treat Native Americans differen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4" descr="in Sl 2"/>
          <p:cNvPicPr/>
          <p:nvPr/>
        </p:nvPicPr>
        <p:blipFill>
          <a:blip r:embed="rId6"/>
          <a:stretch/>
        </p:blipFill>
        <p:spPr>
          <a:xfrm>
            <a:off x="6781680" y="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in slav"/>
          <p:cNvPicPr/>
          <p:nvPr/>
        </p:nvPicPr>
        <p:blipFill>
          <a:blip r:embed="rId7"/>
          <a:stretch/>
        </p:blipFill>
        <p:spPr>
          <a:xfrm>
            <a:off x="114480" y="4495680"/>
            <a:ext cx="1596960" cy="23623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brits"/>
          <p:cNvPicPr/>
          <p:nvPr/>
        </p:nvPicPr>
        <p:blipFill>
          <a:blip r:embed="rId8"/>
          <a:stretch/>
        </p:blipFill>
        <p:spPr>
          <a:xfrm>
            <a:off x="4800600" y="4981680"/>
            <a:ext cx="373392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END!!!!!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e of Re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ime of change and re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religions forming (Protestantis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vel and expl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4" descr="methuen_4"/>
          <p:cNvPicPr/>
          <p:nvPr/>
        </p:nvPicPr>
        <p:blipFill>
          <a:blip r:embed="rId6"/>
          <a:stretch/>
        </p:blipFill>
        <p:spPr>
          <a:xfrm>
            <a:off x="5867280" y="3352680"/>
            <a:ext cx="2678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onvert, Leave, OR be Tortured and Die!!!!!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panish Inqui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en Isabella’s “special” religious cou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lims, Jews, and Pagans would have to convert to Christian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conversion = leaving Spain or dy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4" descr="imagesCA3SV3YM"/>
          <p:cNvPicPr/>
          <p:nvPr/>
        </p:nvPicPr>
        <p:blipFill>
          <a:blip r:embed="rId5"/>
          <a:stretch/>
        </p:blipFill>
        <p:spPr>
          <a:xfrm>
            <a:off x="380880" y="4379760"/>
            <a:ext cx="3581640" cy="2376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inquisition1"/>
          <p:cNvPicPr/>
          <p:nvPr/>
        </p:nvPicPr>
        <p:blipFill>
          <a:blip r:embed="rId6"/>
          <a:stretch/>
        </p:blipFill>
        <p:spPr>
          <a:xfrm>
            <a:off x="1905120" y="7696080"/>
            <a:ext cx="1447560" cy="1357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inquisition2"/>
          <p:cNvPicPr/>
          <p:nvPr/>
        </p:nvPicPr>
        <p:blipFill>
          <a:blip r:embed="rId7"/>
          <a:stretch/>
        </p:blipFill>
        <p:spPr>
          <a:xfrm>
            <a:off x="4724280" y="4267080"/>
            <a:ext cx="40230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New Spai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nando Corte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ought to be a god (Quetzacoatl) by Montezu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veled with 900 peo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nk his own ship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ched towards Tenochtitl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4" descr="imagesCAB9DS40"/>
          <p:cNvPicPr/>
          <p:nvPr/>
        </p:nvPicPr>
        <p:blipFill>
          <a:blip r:embed="rId6"/>
          <a:stretch/>
        </p:blipFill>
        <p:spPr>
          <a:xfrm>
            <a:off x="6705720" y="0"/>
            <a:ext cx="2438280" cy="2290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imagesCAG2O0TE"/>
          <p:cNvPicPr/>
          <p:nvPr/>
        </p:nvPicPr>
        <p:blipFill>
          <a:blip r:embed="rId7"/>
          <a:stretch/>
        </p:blipFill>
        <p:spPr>
          <a:xfrm>
            <a:off x="0" y="4834080"/>
            <a:ext cx="3276720" cy="20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 map of the Aztec Empir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4" descr="empmap1"/>
          <p:cNvPicPr/>
          <p:nvPr/>
        </p:nvPicPr>
        <p:blipFill>
          <a:blip r:embed="rId1"/>
          <a:stretch/>
        </p:blipFill>
        <p:spPr>
          <a:xfrm>
            <a:off x="1523880" y="1752480"/>
            <a:ext cx="66074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ortez Marches Ahead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n’t listen to Montezuma and marches towards Tenochtit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ilds army as he go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we of 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oating gard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vate Zo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LD!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4" descr="zoo animals"/>
          <p:cNvPicPr/>
          <p:nvPr/>
        </p:nvPicPr>
        <p:blipFill>
          <a:blip r:embed="rId7"/>
          <a:stretch/>
        </p:blipFill>
        <p:spPr>
          <a:xfrm>
            <a:off x="6324480" y="2209680"/>
            <a:ext cx="2541600" cy="3733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gards"/>
          <p:cNvPicPr/>
          <p:nvPr/>
        </p:nvPicPr>
        <p:blipFill>
          <a:blip r:embed="rId8"/>
          <a:stretch/>
        </p:blipFill>
        <p:spPr>
          <a:xfrm>
            <a:off x="3581280" y="4633920"/>
            <a:ext cx="320040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Aztecs fall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tezuma 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auhtemoc (the new Aztec leader) surrenders to the Span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nish destroy the Aztec cul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ame Tenochtit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xico 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3: “Might Makes Right!”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nce de Le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n &amp; Bloodthirs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quered Puerto R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nd Flor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for all its flo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nd gold in Puerto R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 shot with a poison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dies from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4" descr="de leon"/>
          <p:cNvPicPr/>
          <p:nvPr/>
        </p:nvPicPr>
        <p:blipFill>
          <a:blip r:embed="rId7"/>
          <a:stretch/>
        </p:blipFill>
        <p:spPr>
          <a:xfrm>
            <a:off x="5943600" y="762120"/>
            <a:ext cx="2716200" cy="35049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fla flowers"/>
          <p:cNvPicPr/>
          <p:nvPr/>
        </p:nvPicPr>
        <p:blipFill>
          <a:blip r:embed="rId8"/>
          <a:stretch/>
        </p:blipFill>
        <p:spPr>
          <a:xfrm>
            <a:off x="0" y="2362320"/>
            <a:ext cx="16192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21:01:28Z</dcterms:created>
  <dc:creator>Alicia</dc:creator>
  <dc:description/>
  <dc:language>en-US</dc:language>
  <cp:lastModifiedBy>RomaK</cp:lastModifiedBy>
  <dcterms:modified xsi:type="dcterms:W3CDTF">2015-09-04T09:28:42Z</dcterms:modified>
  <cp:revision>74</cp:revision>
  <dc:subject/>
  <dc:title>Units 4 &amp; 5 </dc:title>
</cp:coreProperties>
</file>