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jpeg" ContentType="image/jpeg"/>
  <Override PartName="/ppt/media/chimes.wav" ContentType="audio/x-wav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laser.wav" ContentType="audio/x-wav"/>
  <Override PartName="/ppt/media/drumroll.wav" ContentType="audio/x-wav"/>
  <Override PartName="/ppt/media/image13.jpeg" ContentType="image/jpeg"/>
  <Override PartName="/ppt/media/image40.jpeg" ContentType="image/jpeg"/>
  <Override PartName="/ppt/media/applause.wav" ContentType="audio/x-wav"/>
  <Override PartName="/ppt/media/image5.png" ContentType="image/png"/>
  <Override PartName="/ppt/media/image43.jpeg" ContentType="image/jpeg"/>
  <Override PartName="/ppt/media/glass.wav" ContentType="audio/x-wav"/>
  <Override PartName="/ppt/media/image20.jpeg" ContentType="image/jpeg"/>
  <Override PartName="/ppt/media/image2.png" ContentType="image/png"/>
  <Override PartName="/ppt/media/image25.jpeg" ContentType="image/jpeg"/>
  <Override PartName="/ppt/media/image17.jpeg" ContentType="image/jpeg"/>
  <Override PartName="/ppt/media/carbrake.wav" ContentType="audio/x-wav"/>
  <Override PartName="/ppt/media/image10.jpeg" ContentType="image/jpeg"/>
  <Override PartName="/ppt/media/image29.jpeg" ContentType="image/jpeg"/>
  <Override PartName="/ppt/media/image24.jpeg" ContentType="image/jpeg"/>
  <Override PartName="/ppt/media/image30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1.jpeg" ContentType="image/jpeg"/>
  <Override PartName="/ppt/media/image26.jpeg" ContentType="image/jpeg"/>
  <Override PartName="/ppt/media/image32.jpeg" ContentType="image/jpeg"/>
  <Override PartName="/ppt/media/image37.jpeg" ContentType="image/jpeg"/>
  <Override PartName="/ppt/media/image38.jpeg" ContentType="image/jpeg"/>
  <Override PartName="/ppt/media/image8.jpeg" ContentType="image/jpeg"/>
  <Override PartName="/ppt/media/image39.jpeg" ContentType="image/jpeg"/>
  <Override PartName="/ppt/media/whoosh.wav" ContentType="audio/x-wav"/>
  <Override PartName="/ppt/media/image28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explode.wav" ContentType="audio/x-wav"/>
  <Override PartName="/ppt/media/image6.png" ContentType="image/png"/>
  <Override PartName="/ppt/media/image4.png" ContentType="image/png"/>
  <Override PartName="/ppt/media/image33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091F-37FA-4FAA-A3A0-A6E467432E4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h of Cultures and Marching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h of Cultures and Marching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ed west coast of Sou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reasures on in 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ated the In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their leader (Atahualpa) after he demanded all their gold for his re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ed all silver and gold into b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ed west coast of Sou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reasures on in 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ated the In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their leader (Atahualpa) after he demanded all their gold for his re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ed all silver and gold into b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gave the India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Pox and Meas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gave the India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Pox and Meas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also g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51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-Printing Press to 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also g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51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-Printing Press to 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5: North of 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ers search for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cities of g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by 7 pri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be in the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in Africa or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5: North of 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ers search for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cities of g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by 7 pri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be in the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in Africa or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ban-sent by the mayor of Mexico City to find Cibola with Fray Mar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of 4 survivors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ured by Indians (learned their cul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ked to Mexico in 8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many female followers for Fray Marc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crosses to show Cibola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when he sent Indians an symbol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s went back to Mexico City and said they found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ban-sent by the mayor of Mexico City to find Cibola with Fray Mar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of 4 survivors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ured by Indians (learned their cul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ked to Mexico in 8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many female followers for Fray Marc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crosses to show Cibola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when he sent Indians an symbol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s went back to Mexico City and said they found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do: good leader/sold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:leaves in search of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s to Hawiku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ck Indians out and take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go west and discover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do: good leader/sold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:leaves in search of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s to Hawiku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ck Indians out and take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go west and discover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k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dian captured by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sign language to commun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assume he’s telling them where the gold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them to Quivira-city full of mud h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gled for l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n’t the gold and silver were underground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k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dian captured by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sign language to commun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assume he’s telling them where the gold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them to Quivira-city full of mud h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gled for l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n’t the gold and silver were underground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1549:Spanish looking for Cibola all over! (California/Texas/Flori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: De Soto- Florida (land of gol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s 200lbs of pearls on his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in Peru w/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k over Indian vill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s/tortures if they don’t giv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survivor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s the Mississippi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of fever and was buried in the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1549:Spanish looking for Cibola all over! (California/Texas/Flori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: De Soto- Florida (land of gol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s 200lbs of pearls on his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in Peru w/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k over Indian vill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s/tortures if they don’t giv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survivor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s the Mississippi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of fever and was buried in the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Alac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o reach Califor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led up the Gulf of California and Colorado River in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24-Cabrillo (“lil goat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d California was run by Griff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being chased by Ind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Alac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o reach Califor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led up the Gulf of California and Colorado River in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24-Cabrillo (“lil goat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d California was run by Griff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being chased by Ind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1: Beliefs and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th century~ Roman Catholic and Eastern Orthodox~only Christian reli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th Century~Martin Lu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orm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s 95 complaints against the Catholic Chu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95 The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s Protestantis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1: Beliefs and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th century~ Roman Catholic and Eastern Orthodox~only Christian reli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th Century~Martin Lu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orm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s 95 complaints against the Catholic Chu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95 The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s Protestantis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8:A Place Called Sant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in 16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t on a plat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ermanent European colony in North West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0-60,000 Indians converted to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tia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8:A Place Called Sant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in 16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t on a plat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ermanent European colony in North West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0-60,000 Indians converted to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tia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Car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2-King Charles 1 outlaws Indian sla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 Cas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n Indian slave as a chi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2-became a priest &amp; owned sl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4-gave his slaves their free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 1520- established Venezuela (peaceful are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and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n’t want to work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Car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2-King Charles 1 outlaws Indian sla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 Cas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n Indian slave as a chi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2-became a priest &amp; owned sl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4-gave his slaves their free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 1520- established Venezuela (peaceful are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and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n’t want to work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ulv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sed Las Casas opi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“needed”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ves were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read about Spanis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treat Native Americans differ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ulv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sed Las Casas opi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“needed”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ves were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read about Spanis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treat Native Americans differ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of Re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ime of change and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religions forming (Protestantis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and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of Re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ime of change and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religions forming (Protestantis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and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, Leave, OR be Tortured and Die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Inqui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 Isabella’s “special” religious cou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lims, Jews, and Pagans would have to convert to Christian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conversion = leaving Spain or d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, Leave, OR be Tortured and Die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Inqui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 Isabella’s “special” religious cou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lims, Jews, and Pagans would have to convert to Christian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conversion = leaving Spain or d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nando Cort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to be a god (Quetzacoatl) by Montezu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ed with 900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k his own shi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ed towards Tenochtitl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nando Cort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to be a god (Quetzacoatl) by Montezu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ed with 900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k his own shi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ed towards Tenochtitl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ap of the Aztec Emp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ap of the Aztec Emp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z Marches A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listen to Montezuma and marches towards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s army as he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we of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gard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vate Z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z Marches A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listen to Montezuma and marches towards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s army as he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we of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gard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vate Z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ztecs 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tezuma 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auhtemoc (the new Aztec leader) surrenders to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nish destroy the Aztec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name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ztecs 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tezuma 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auhtemoc (the new Aztec leader) surrenders to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nish destroy the Aztec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name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3: “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nce de Le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 &amp; Bloodthirs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ed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all its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gold in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 shot with a poison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es from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3: “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nce de Le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 &amp; Bloodthirs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ed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all its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gold in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 shot with a poison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es from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58E5-A4D5-490B-8DC4-8543E2E22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B7E0-AE21-4FF2-8A13-5D1DE581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534D-49E6-44B0-9CE7-C575C9944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DFFF-79A8-48F7-842A-6C36C5E67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AF44-FE21-4568-90E8-335A4ED77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7E84-C613-4638-8DC9-88AC9ECB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8523E-B1D0-443B-BEF6-4FF9A80D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B933-04C3-41F1-8758-78F7F79B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0602-45A2-4496-9559-9A1DE5F2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FBF8-1C99-42A4-BC2A-CDBEF5C1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95CA-CB04-448E-A268-0EB9B553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E396-1392-4A26-B79B-667328D1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8E30A-D496-42DB-AAD1-8F342BCF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7C32-F159-4BA6-8E96-85521F9F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6CE5-1FF1-4BB4-AFAA-68F6D393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98E1-604A-46C4-8589-D4D3C2E1E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214B-F1C5-42C6-837D-884C62E73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CAA4-E1DD-44DE-9EE6-4AE02F9B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732A-8DE3-4C88-88E1-65B26A1F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CF37-1637-476F-AB69-E93D6254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891A-2374-4C8B-B4F8-42C503C4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8B04-B3E3-41B7-9BB0-5C2764A1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D4BC-CD84-41E3-9374-A25C7B07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84FC-4BEC-46A1-A42C-8A6ACF37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26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C466-CEED-4A26-88D7-727608687FC6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031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5E6F-1716-4F2C-9341-7EE585563537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2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2.jpeg"/><Relationship Id="rId8" Type="http://schemas.openxmlformats.org/officeDocument/2006/relationships/image" Target="../media/image3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25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image" Target="../media/image43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9.jpeg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audio" Target="../media/glas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audio" Target="../media/glas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h of Cultures and Marching No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ight Makes Right!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zar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ed west coast of South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 treasures on in Pe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ated the In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lled their leader (Atahualpa) after he demanded all their gold for his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lted all silver and gold into ba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4" descr="inca"/>
          <p:cNvPicPr/>
          <p:nvPr/>
        </p:nvPicPr>
        <p:blipFill>
          <a:blip r:embed="rId4"/>
          <a:stretch/>
        </p:blipFill>
        <p:spPr>
          <a:xfrm>
            <a:off x="6629400" y="434340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pizzaro"/>
          <p:cNvPicPr/>
          <p:nvPr/>
        </p:nvPicPr>
        <p:blipFill>
          <a:blip r:embed="rId5"/>
          <a:stretch/>
        </p:blipFill>
        <p:spPr>
          <a:xfrm>
            <a:off x="152280" y="3886200"/>
            <a:ext cx="1844640" cy="2697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inca2"/>
          <p:cNvPicPr/>
          <p:nvPr/>
        </p:nvPicPr>
        <p:blipFill>
          <a:blip r:embed="rId6"/>
          <a:stretch/>
        </p:blipFill>
        <p:spPr>
          <a:xfrm>
            <a:off x="6858000" y="457200"/>
            <a:ext cx="178740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4: Gloom, Doom, &amp; Che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ish gave the Indian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Pox and Meas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small pox"/>
          <p:cNvPicPr/>
          <p:nvPr/>
        </p:nvPicPr>
        <p:blipFill>
          <a:blip r:embed="rId3"/>
          <a:stretch/>
        </p:blipFill>
        <p:spPr>
          <a:xfrm>
            <a:off x="380880" y="3124080"/>
            <a:ext cx="3810240" cy="2759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small pox 2"/>
          <p:cNvPicPr/>
          <p:nvPr/>
        </p:nvPicPr>
        <p:blipFill>
          <a:blip r:embed="rId4"/>
          <a:stretch/>
        </p:blipFill>
        <p:spPr>
          <a:xfrm>
            <a:off x="4572000" y="3352680"/>
            <a:ext cx="434340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4: Gloom, Doom, &amp; Che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nish also ga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g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51-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39-Printing Press to Mexico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4" descr="cross"/>
          <p:cNvPicPr/>
          <p:nvPr/>
        </p:nvPicPr>
        <p:blipFill>
          <a:blip r:embed="rId6"/>
          <a:stretch/>
        </p:blipFill>
        <p:spPr>
          <a:xfrm>
            <a:off x="6477120" y="914400"/>
            <a:ext cx="2249280" cy="2685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sp art 2"/>
          <p:cNvPicPr/>
          <p:nvPr/>
        </p:nvPicPr>
        <p:blipFill>
          <a:blip r:embed="rId7"/>
          <a:stretch/>
        </p:blipFill>
        <p:spPr>
          <a:xfrm>
            <a:off x="6705720" y="3733920"/>
            <a:ext cx="2139840" cy="2743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span art"/>
          <p:cNvPicPr/>
          <p:nvPr/>
        </p:nvPicPr>
        <p:blipFill>
          <a:blip r:embed="rId8"/>
          <a:stretch/>
        </p:blipFill>
        <p:spPr>
          <a:xfrm>
            <a:off x="0" y="4114800"/>
            <a:ext cx="16477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4: Gloom, Doom, &amp; Che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ish en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aztecsacrifice"/>
          <p:cNvPicPr/>
          <p:nvPr/>
        </p:nvPicPr>
        <p:blipFill>
          <a:blip r:embed="rId3"/>
          <a:stretch/>
        </p:blipFill>
        <p:spPr>
          <a:xfrm>
            <a:off x="2209680" y="2895480"/>
            <a:ext cx="586764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3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5: North of New Spai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rers search for Cib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 cities of g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ed by 7 pri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d to be in the no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in Africa or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4" descr="cibola"/>
          <p:cNvPicPr/>
          <p:nvPr/>
        </p:nvPicPr>
        <p:blipFill>
          <a:blip r:embed="rId5"/>
          <a:stretch/>
        </p:blipFill>
        <p:spPr>
          <a:xfrm>
            <a:off x="5334120" y="2895480"/>
            <a:ext cx="339408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steban-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sent by the mayor of Mexico City to find Cibola with Fray Marcos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7708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of 4 survivors from Nar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tured by Indians (learned their cul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lked to Mexico in 8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d to many female followers for Fray Marc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crosses to show Cibola f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lled when he sent Indians an symbol of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os went back to Mexico City and said they found Cib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4" descr="gourd"/>
          <p:cNvPicPr/>
          <p:nvPr/>
        </p:nvPicPr>
        <p:blipFill>
          <a:blip r:embed="rId8"/>
          <a:stretch/>
        </p:blipFill>
        <p:spPr>
          <a:xfrm>
            <a:off x="7086600" y="990720"/>
            <a:ext cx="182880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6:Looking for Cibola with Coronad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nado: good leader/sold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40:leaves in search of Cib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s to Hawiku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blo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ck Indians out and take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go west and discover the Grand Cany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coro"/>
          <p:cNvPicPr/>
          <p:nvPr/>
        </p:nvPicPr>
        <p:blipFill>
          <a:blip r:embed="rId4"/>
          <a:stretch/>
        </p:blipFill>
        <p:spPr>
          <a:xfrm>
            <a:off x="7089840" y="1066680"/>
            <a:ext cx="1628640" cy="2971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gc"/>
          <p:cNvPicPr/>
          <p:nvPr/>
        </p:nvPicPr>
        <p:blipFill>
          <a:blip r:embed="rId5"/>
          <a:stretch/>
        </p:blipFill>
        <p:spPr>
          <a:xfrm>
            <a:off x="762120" y="4648320"/>
            <a:ext cx="3504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6:Looking for Cibola with Coronad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urk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dian captured by the Spa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sign language to commun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nish assume he’s telling them where the gold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them to Quivira-city full of mud h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ngled for l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wasn’t the gold and silver were underground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4" descr="hanging"/>
          <p:cNvPicPr/>
          <p:nvPr/>
        </p:nvPicPr>
        <p:blipFill>
          <a:blip r:embed="rId7"/>
          <a:stretch/>
        </p:blipFill>
        <p:spPr>
          <a:xfrm>
            <a:off x="0" y="4495680"/>
            <a:ext cx="160020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7: California to Florid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40-1549:Spanish looking for Cibola all over! (California/Texas/Flori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39: De Soto- Florida (land of g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s 200lbs of pearls on his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in Peru w/Pizar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k over Indian vil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lls/tortures if they don’t give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 survivor from Nar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s the Mississippi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d of fever and was buried in the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4" descr="miss riv"/>
          <p:cNvPicPr/>
          <p:nvPr/>
        </p:nvPicPr>
        <p:blipFill>
          <a:blip r:embed="rId8"/>
          <a:stretch/>
        </p:blipFill>
        <p:spPr>
          <a:xfrm>
            <a:off x="7170840" y="2362320"/>
            <a:ext cx="1973160" cy="2933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pearls"/>
          <p:cNvPicPr/>
          <p:nvPr/>
        </p:nvPicPr>
        <p:blipFill>
          <a:blip r:embed="rId9"/>
          <a:stretch/>
        </p:blipFill>
        <p:spPr>
          <a:xfrm>
            <a:off x="0" y="5667480"/>
            <a:ext cx="178740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7: California to Florid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40-Alac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ach Califor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led up the Gulf of California and Colorado River in the Grand Cany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24-Cabrillo (“lil goat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lieved California was run by Griff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ed being chased by Ind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4" descr="gc"/>
          <p:cNvPicPr/>
          <p:nvPr/>
        </p:nvPicPr>
        <p:blipFill>
          <a:blip r:embed="rId7"/>
          <a:stretch/>
        </p:blipFill>
        <p:spPr>
          <a:xfrm>
            <a:off x="0" y="5410080"/>
            <a:ext cx="2438280" cy="1432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griffin2"/>
          <p:cNvPicPr/>
          <p:nvPr/>
        </p:nvPicPr>
        <p:blipFill>
          <a:blip r:embed="rId8"/>
          <a:stretch/>
        </p:blipFill>
        <p:spPr>
          <a:xfrm>
            <a:off x="6095880" y="4772160"/>
            <a:ext cx="304812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7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9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1: Beliefs and Idea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ntury~ Roman Catholic and Eastern Orthodox~only Christian reli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ntury~Martin Lu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orm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s 95 complaints against the Catholic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5 The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s Protestantis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martin_luther"/>
          <p:cNvPicPr/>
          <p:nvPr/>
        </p:nvPicPr>
        <p:blipFill>
          <a:blip r:embed="rId6"/>
          <a:stretch/>
        </p:blipFill>
        <p:spPr>
          <a:xfrm>
            <a:off x="6477120" y="4419720"/>
            <a:ext cx="22730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8:A Place Called Santa 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           F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nded in 16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t on a plat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permanent European colony in North West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30-60,000 Indians converted to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tia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4" descr="cross"/>
          <p:cNvPicPr/>
          <p:nvPr/>
        </p:nvPicPr>
        <p:blipFill>
          <a:blip r:embed="rId5"/>
          <a:stretch/>
        </p:blipFill>
        <p:spPr>
          <a:xfrm>
            <a:off x="6975360" y="3581280"/>
            <a:ext cx="2168640" cy="3276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sf2"/>
          <p:cNvPicPr/>
          <p:nvPr/>
        </p:nvPicPr>
        <p:blipFill>
          <a:blip r:embed="rId6"/>
          <a:stretch/>
        </p:blipFill>
        <p:spPr>
          <a:xfrm>
            <a:off x="4648320" y="914400"/>
            <a:ext cx="4208400" cy="1949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sf3"/>
          <p:cNvPicPr/>
          <p:nvPr/>
        </p:nvPicPr>
        <p:blipFill>
          <a:blip r:embed="rId7"/>
          <a:stretch/>
        </p:blipFill>
        <p:spPr>
          <a:xfrm>
            <a:off x="380880" y="4464000"/>
            <a:ext cx="320040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9: Las Casas Cares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42-King Charles 1 outlaw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di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la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Cas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d an Indian slave as a 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12-became a priest &amp; owned sl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14-gave his slaves their free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1520- established Venezuela (peaceful ar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ve Americans and Span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dn’t want to work toge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4" descr="crosses"/>
          <p:cNvPicPr/>
          <p:nvPr/>
        </p:nvPicPr>
        <p:blipFill>
          <a:blip r:embed="rId7"/>
          <a:stretch/>
        </p:blipFill>
        <p:spPr>
          <a:xfrm>
            <a:off x="5562720" y="4478400"/>
            <a:ext cx="3581280" cy="2379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ven"/>
          <p:cNvPicPr/>
          <p:nvPr/>
        </p:nvPicPr>
        <p:blipFill>
          <a:blip r:embed="rId8"/>
          <a:stretch/>
        </p:blipFill>
        <p:spPr>
          <a:xfrm>
            <a:off x="-33480" y="2895480"/>
            <a:ext cx="16941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9: Las Casas 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ar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ulv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posed Las Casas opi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ve Americans “needed” Spa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aves were g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glish read about Spanis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treat Native Americans differe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4" descr="in Sl 2"/>
          <p:cNvPicPr/>
          <p:nvPr/>
        </p:nvPicPr>
        <p:blipFill>
          <a:blip r:embed="rId6"/>
          <a:stretch/>
        </p:blipFill>
        <p:spPr>
          <a:xfrm>
            <a:off x="6781680" y="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in slav"/>
          <p:cNvPicPr/>
          <p:nvPr/>
        </p:nvPicPr>
        <p:blipFill>
          <a:blip r:embed="rId7"/>
          <a:stretch/>
        </p:blipFill>
        <p:spPr>
          <a:xfrm>
            <a:off x="114480" y="4495680"/>
            <a:ext cx="1596960" cy="2362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brits"/>
          <p:cNvPicPr/>
          <p:nvPr/>
        </p:nvPicPr>
        <p:blipFill>
          <a:blip r:embed="rId8"/>
          <a:stretch/>
        </p:blipFill>
        <p:spPr>
          <a:xfrm>
            <a:off x="4800600" y="4981680"/>
            <a:ext cx="373392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END!!!!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 of Re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ime of change and re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religions forming (Protestanti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vel and expl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methuen_4"/>
          <p:cNvPicPr/>
          <p:nvPr/>
        </p:nvPicPr>
        <p:blipFill>
          <a:blip r:embed="rId6"/>
          <a:stretch/>
        </p:blipFill>
        <p:spPr>
          <a:xfrm>
            <a:off x="5867280" y="3352680"/>
            <a:ext cx="2678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nvert, Leave, OR be Tortured and Die!!!!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nish Inqui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en Isabella’s “special” religious cou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lims, Jews, and Pagans would have to convert to Christian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onversion = leaving Spain or d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imagesCA3SV3YM"/>
          <p:cNvPicPr/>
          <p:nvPr/>
        </p:nvPicPr>
        <p:blipFill>
          <a:blip r:embed="rId5"/>
          <a:stretch/>
        </p:blipFill>
        <p:spPr>
          <a:xfrm>
            <a:off x="380880" y="4379760"/>
            <a:ext cx="3581640" cy="2376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inquisition1"/>
          <p:cNvPicPr/>
          <p:nvPr/>
        </p:nvPicPr>
        <p:blipFill>
          <a:blip r:embed="rId6"/>
          <a:stretch/>
        </p:blipFill>
        <p:spPr>
          <a:xfrm>
            <a:off x="1905120" y="7696080"/>
            <a:ext cx="1447560" cy="1357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inquisition2"/>
          <p:cNvPicPr/>
          <p:nvPr/>
        </p:nvPicPr>
        <p:blipFill>
          <a:blip r:embed="rId7"/>
          <a:stretch/>
        </p:blipFill>
        <p:spPr>
          <a:xfrm>
            <a:off x="4724280" y="4267080"/>
            <a:ext cx="40230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ew Spai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nando Cort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ught to be a god (Quetzacoatl) by Montezu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veled with 900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nk his own ship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hed towards Tenochtitl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imagesCAB9DS40"/>
          <p:cNvPicPr/>
          <p:nvPr/>
        </p:nvPicPr>
        <p:blipFill>
          <a:blip r:embed="rId6"/>
          <a:stretch/>
        </p:blipFill>
        <p:spPr>
          <a:xfrm>
            <a:off x="6705720" y="0"/>
            <a:ext cx="2438280" cy="2290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imagesCAG2O0TE"/>
          <p:cNvPicPr/>
          <p:nvPr/>
        </p:nvPicPr>
        <p:blipFill>
          <a:blip r:embed="rId7"/>
          <a:stretch/>
        </p:blipFill>
        <p:spPr>
          <a:xfrm>
            <a:off x="0" y="4834080"/>
            <a:ext cx="327672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 map of the Aztec Empir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empmap1"/>
          <p:cNvPicPr/>
          <p:nvPr/>
        </p:nvPicPr>
        <p:blipFill>
          <a:blip r:embed="rId1"/>
          <a:stretch/>
        </p:blipFill>
        <p:spPr>
          <a:xfrm>
            <a:off x="1523880" y="1752480"/>
            <a:ext cx="6607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rtez Marches Ahea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n’t listen to Montezuma and marches towards Tenochtit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s army as he g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we of 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ating gard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e Z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LD!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4" descr="zoo animals"/>
          <p:cNvPicPr/>
          <p:nvPr/>
        </p:nvPicPr>
        <p:blipFill>
          <a:blip r:embed="rId7"/>
          <a:stretch/>
        </p:blipFill>
        <p:spPr>
          <a:xfrm>
            <a:off x="6324480" y="2209680"/>
            <a:ext cx="2541600" cy="3733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gards"/>
          <p:cNvPicPr/>
          <p:nvPr/>
        </p:nvPicPr>
        <p:blipFill>
          <a:blip r:embed="rId8"/>
          <a:stretch/>
        </p:blipFill>
        <p:spPr>
          <a:xfrm>
            <a:off x="3581280" y="4633920"/>
            <a:ext cx="32004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Aztecs fall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tezuma 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uhtemoc (the new Aztec leader) surrenders to the Span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ish destroy the Aztec cul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ame Tenochtit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xico 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3: “Might Makes Right!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ce de Le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 &amp; Bloodthirs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quered Puerto 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 Flor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for all its fl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 gold in Puerto 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 shot with a poison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dies from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4" descr="de leon"/>
          <p:cNvPicPr/>
          <p:nvPr/>
        </p:nvPicPr>
        <p:blipFill>
          <a:blip r:embed="rId7"/>
          <a:stretch/>
        </p:blipFill>
        <p:spPr>
          <a:xfrm>
            <a:off x="5943600" y="762120"/>
            <a:ext cx="2716200" cy="3504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fla flowers"/>
          <p:cNvPicPr/>
          <p:nvPr/>
        </p:nvPicPr>
        <p:blipFill>
          <a:blip r:embed="rId8"/>
          <a:stretch/>
        </p:blipFill>
        <p:spPr>
          <a:xfrm>
            <a:off x="0" y="2362320"/>
            <a:ext cx="1619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21:01:28Z</dcterms:created>
  <dc:creator>Alicia</dc:creator>
  <dc:description/>
  <dc:language>en-US</dc:language>
  <cp:lastModifiedBy>RomaK</cp:lastModifiedBy>
  <dcterms:modified xsi:type="dcterms:W3CDTF">2015-09-04T09:28:42Z</dcterms:modified>
  <cp:revision>74</cp:revision>
  <dc:subject/>
  <dc:title>Units 4 &amp; 5 </dc:title>
</cp:coreProperties>
</file>