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7565-05AE-4051-92B3-AA3556C5B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A238A-2B7A-44A7-A394-8BA282E14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1AFB4-B316-45EC-9F6A-9499A4503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A1740-D791-4838-A602-FD246A364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124BA-F057-4C22-81F9-C727EA263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6278B-E7E0-4E69-BA24-B418CB809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0A34-94FE-4E65-B815-A3F7B5C0C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D54F-A790-477B-B46B-CF7E7862B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E6FDC-7975-41B2-9547-EFA64826F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A000D-3C3B-474D-B0E2-9C3B8E14C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ED787-06A5-407B-A7B2-6F440754B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F931-CB09-4372-AF57-6D246C79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97DF-4BB0-4DCD-82CD-E8200F5AF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F07C-27C0-43E9-9594-645E3AA24FF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E9AE-3404-4D19-AB58-734681BCB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90D8-2EC6-4ECC-9DFA-9E80A4A96D2C}"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9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BC83-6252-4031-9257-E315A6C409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3"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4"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5"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6"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2159-065B-4D57-9F66-F9F4B1B4B288}"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70C0-910C-440C-BE28-C636B2444B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101"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102" name="Picture 14" descr="wilma_rudolph"/>
          <p:cNvPicPr/>
          <p:nvPr/>
        </p:nvPicPr>
        <p:blipFill>
          <a:blip r:embed="rId3"/>
          <a:stretch/>
        </p:blipFill>
        <p:spPr>
          <a:xfrm>
            <a:off x="6400800" y="2438280"/>
            <a:ext cx="1157400" cy="981360"/>
          </a:xfrm>
          <a:prstGeom prst="rect">
            <a:avLst/>
          </a:prstGeom>
          <a:ln w="0">
            <a:noFill/>
          </a:ln>
        </p:spPr>
      </p:pic>
      <p:pic>
        <p:nvPicPr>
          <p:cNvPr id="103" name="Picture 16" descr="C01%2520Marian%2520Anderson">
            <a:hlinkClick r:id="rId4"/>
          </p:cNvPr>
          <p:cNvPicPr/>
          <p:nvPr/>
        </p:nvPicPr>
        <p:blipFill>
          <a:blip r:embed="rId5"/>
          <a:stretch/>
        </p:blipFill>
        <p:spPr>
          <a:xfrm>
            <a:off x="4114800" y="3886200"/>
            <a:ext cx="72540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0E30-AA14-4B16-B1AA-F94317CE0BF8}"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105" name="Місце для номера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28DA-C290-494A-9420-0B1DACFE14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7"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8" name="Picture 23" descr="owens_jesse"/>
          <p:cNvPicPr/>
          <p:nvPr/>
        </p:nvPicPr>
        <p:blipFill>
          <a:blip r:embed="rId1"/>
          <a:stretch/>
        </p:blipFill>
        <p:spPr>
          <a:xfrm>
            <a:off x="2286000" y="2209680"/>
            <a:ext cx="549360" cy="819360"/>
          </a:xfrm>
          <a:prstGeom prst="rect">
            <a:avLst/>
          </a:prstGeom>
          <a:ln w="0">
            <a:noFill/>
          </a:ln>
        </p:spPr>
      </p:pic>
      <p:pic>
        <p:nvPicPr>
          <p:cNvPr id="109"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10"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11" name="Picture 32" descr="Still1">
            <a:hlinkClick r:id="rId6"/>
          </p:cNvPr>
          <p:cNvPicPr/>
          <p:nvPr/>
        </p:nvPicPr>
        <p:blipFill>
          <a:blip r:embed="rId7"/>
          <a:stretch/>
        </p:blipFill>
        <p:spPr>
          <a:xfrm>
            <a:off x="2590920" y="4572000"/>
            <a:ext cx="71424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B252-EC3D-4EA3-B1EC-A7C73311D6E8}"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113"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21BA-73E3-4FC3-AB7D-4D2D8A592B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5"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6"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7"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8"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9" name="Picture 23" descr="3304"/>
          <p:cNvPicPr/>
          <p:nvPr/>
        </p:nvPicPr>
        <p:blipFill>
          <a:blip r:embed="rId7"/>
          <a:stretch/>
        </p:blipFill>
        <p:spPr>
          <a:xfrm>
            <a:off x="4800600" y="5181480"/>
            <a:ext cx="87804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CE32-2958-44EB-9D1E-1262D87AF6B1}"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12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4F01-53CA-42C4-80FB-FE8B08DB30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23"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24" name="Picture 5" descr="220px-Oprah_Winfrey_%282004%29"/>
          <p:cNvPicPr/>
          <p:nvPr/>
        </p:nvPicPr>
        <p:blipFill>
          <a:blip r:embed="rId1"/>
          <a:stretch/>
        </p:blipFill>
        <p:spPr>
          <a:xfrm>
            <a:off x="3429000" y="3809880"/>
            <a:ext cx="663480" cy="847800"/>
          </a:xfrm>
          <a:prstGeom prst="rect">
            <a:avLst/>
          </a:prstGeom>
          <a:ln w="0">
            <a:noFill/>
          </a:ln>
        </p:spPr>
      </p:pic>
      <p:pic>
        <p:nvPicPr>
          <p:cNvPr id="125" name="Picture 11" descr="200px-BillCosby"/>
          <p:cNvPicPr/>
          <p:nvPr/>
        </p:nvPicPr>
        <p:blipFill>
          <a:blip r:embed="rId2"/>
          <a:stretch/>
        </p:blipFill>
        <p:spPr>
          <a:xfrm>
            <a:off x="6705720" y="5257800"/>
            <a:ext cx="865080" cy="952560"/>
          </a:xfrm>
          <a:prstGeom prst="rect">
            <a:avLst/>
          </a:prstGeom>
          <a:ln w="0">
            <a:noFill/>
          </a:ln>
        </p:spPr>
      </p:pic>
      <p:pic>
        <p:nvPicPr>
          <p:cNvPr id="126" name="Picture 15" descr="Jimi_Hendrix_on_stage_fender_stratocaster"/>
          <p:cNvPicPr/>
          <p:nvPr/>
        </p:nvPicPr>
        <p:blipFill>
          <a:blip r:embed="rId3"/>
          <a:stretch/>
        </p:blipFill>
        <p:spPr>
          <a:xfrm>
            <a:off x="4495680" y="1981080"/>
            <a:ext cx="7192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RomaK</cp:lastModifiedBy>
  <dcterms:modified xsi:type="dcterms:W3CDTF">2015-09-04T09:29:02Z</dcterms:modified>
  <cp:revision>49</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