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6770-2A23-471B-8BDB-7DD0BADAC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C16-0CE1-4080-9383-CAC636C8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13B-FD1C-4ACC-86DE-E2A786C5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79C-FC46-4604-B943-0B41B5A3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088-39B8-4E25-AD30-979BD5D1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8F37-46C1-4F0D-895B-50BE4ED8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EBC9-F2EA-4FD3-A2CE-4D248C3C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2751-7C78-438B-A3D2-8D46A2C9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9292-AC12-49F9-9756-C5861094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B3DE-11C7-4268-8372-18D9DF51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3CE5-5C01-49C1-B5C1-4C5A2EAF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5EEE-AF58-4943-892C-09B7C28C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047-3D12-4B9E-8C35-AB23DD0A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7F62-363B-4E22-8252-22EE7080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A542-F988-44E6-BB6A-DAA9610C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8107-661D-4371-A634-35603632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A9A3-4663-4437-8BDE-844C00D2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0642-1AAD-4021-A4E0-77BF2923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DE4-7686-4788-91DB-072BC5C2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4A8-7866-4588-93F5-759AC997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EE48-77B5-48EB-BB35-85EAB4CB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573-1451-46B9-B0F5-0F041678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653-6EE7-4ABF-8A0D-F5715799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ED48-8DBE-40F2-9FF3-25462949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E40-0A13-4619-9D05-FB777952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4800-F816-4CF7-842B-D2736CC6CB4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9B51-88F3-4245-99E5-BD59CCB3787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4" descr="travel-france-pic-liberte"/>
          <p:cNvPicPr/>
          <p:nvPr/>
        </p:nvPicPr>
        <p:blipFill>
          <a:blip r:embed="rId1"/>
          <a:stretch/>
        </p:blipFill>
        <p:spPr>
          <a:xfrm>
            <a:off x="3505320" y="2895480"/>
            <a:ext cx="25146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vents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created their own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the Rights of Man and Citizen </a:t>
            </a: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odeled after TJ’s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Independe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Picture 6" descr="frenchrevolution1"/>
          <p:cNvPicPr/>
          <p:nvPr/>
        </p:nvPicPr>
        <p:blipFill>
          <a:blip r:embed="rId1"/>
          <a:stretch/>
        </p:blipFill>
        <p:spPr>
          <a:xfrm>
            <a:off x="3429000" y="2216160"/>
            <a:ext cx="57150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s of 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Both the King and Queen were behead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monarchy no m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Picture 6" descr="guillotine"/>
          <p:cNvPicPr/>
          <p:nvPr/>
        </p:nvPicPr>
        <p:blipFill>
          <a:blip r:embed="rId1"/>
          <a:stretch/>
        </p:blipFill>
        <p:spPr>
          <a:xfrm>
            <a:off x="4191120" y="91440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ffects continued. . 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5000" y="1295280"/>
            <a:ext cx="312408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Sold Louisiana to TJ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6" descr="Napoleon"/>
          <p:cNvPicPr/>
          <p:nvPr/>
        </p:nvPicPr>
        <p:blipFill>
          <a:blip r:embed="rId1"/>
          <a:stretch/>
        </p:blipFill>
        <p:spPr>
          <a:xfrm>
            <a:off x="479520" y="1066680"/>
            <a:ext cx="5159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Enlightenment ideas of John Locke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of people were broke and hungry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were in the lowest estat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ree Estat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28600" y="2101680"/>
          <a:ext cx="861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01680"/>
                    <a:ext cx="861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ourgeois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Part of the third estate, they were the “middle class”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y were bankers, merchants, factory owners (educated peo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Led the revo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4753080" y="1523880"/>
            <a:ext cx="38829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Revolution - beginning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8840" y="1371600"/>
            <a:ext cx="3809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a0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6" descr="Maria_1"/>
          <p:cNvPicPr/>
          <p:nvPr/>
        </p:nvPicPr>
        <p:blipFill>
          <a:blip r:embed="rId1"/>
          <a:stretch/>
        </p:blipFill>
        <p:spPr>
          <a:xfrm>
            <a:off x="141120" y="1219320"/>
            <a:ext cx="4456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read rio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People were hungry; the country was brok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picture is from an all-woman bread rio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arie Antionette said “let them eat cake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1030" descr="womenversailles"/>
          <p:cNvPicPr/>
          <p:nvPr/>
        </p:nvPicPr>
        <p:blipFill>
          <a:blip r:embed="rId1"/>
          <a:stretch/>
        </p:blipFill>
        <p:spPr>
          <a:xfrm>
            <a:off x="0" y="2286000"/>
            <a:ext cx="54864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ing Louis XV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is grandfather Louis XIV was the ultimate “absolutist” kin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king was wea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6" descr="louis16france"/>
          <p:cNvPicPr/>
          <p:nvPr/>
        </p:nvPicPr>
        <p:blipFill>
          <a:blip r:embed="rId1"/>
          <a:stretch/>
        </p:blipFill>
        <p:spPr>
          <a:xfrm>
            <a:off x="4981680" y="1219320"/>
            <a:ext cx="4079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tes General me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6" descr="frenchrevolutionassemblee"/>
          <p:cNvPicPr/>
          <p:nvPr/>
        </p:nvPicPr>
        <p:blipFill>
          <a:blip r:embed="rId1"/>
          <a:stretch/>
        </p:blipFill>
        <p:spPr>
          <a:xfrm>
            <a:off x="0" y="2973240"/>
            <a:ext cx="5410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6:25:44Z</dcterms:created>
  <dc:creator> jcollins</dc:creator>
  <dc:description/>
  <dc:language>en-US</dc:language>
  <cp:lastModifiedBy>RomaK</cp:lastModifiedBy>
  <dcterms:modified xsi:type="dcterms:W3CDTF">2015-09-04T09:29:26Z</dcterms:modified>
  <cp:revision>22</cp:revision>
  <dc:subject/>
  <dc:title>The French Revolution</dc:title>
</cp:coreProperties>
</file>