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237C-8510-40FD-A409-7D1E3575AB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pic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ic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BC – 500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ians 3000BC-10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s 1000BC – 5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500BC – 50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– examine patterns and themes across th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 – A 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– A 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ru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o various improvements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alists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s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aoh had his own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rich could affor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researched new ways to treat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tools and jewe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veloped new surg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doctors who would use med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with India, Africa and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d Egyptian goods for h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herbal reme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was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es and records were k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ould be pas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atura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e.g. Sekh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ction forb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ile and Farm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le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important to wa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based medical ideas on the 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B85-BF3E-469C-8BD0-7AE3D595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C07-2FEC-4CE5-BD81-EBA5F6F9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437-B38D-45EC-B0D9-F1F49FA7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571-0687-44F7-8DDA-FEE7C9C2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CF72-ED82-40F8-932D-864F49E4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9E91-000E-470B-8568-9022A8DE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156-F478-41B5-BAFA-B43BDF23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DE6-3D75-48FF-BC30-110C1367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216-97CB-4DD4-B95E-02260443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081F-D75A-4116-8150-E119E3C1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B85-17C8-4CA8-919D-D30CE868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17F-DD5E-43EA-9185-7831F709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7FE3-7F33-4B2F-A6DD-F7A9A4CE7CB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thstat.carleton.ca/~rhfischl/great_pyramid/pyramid.jpg&amp;imgrefurl=http://mathstat.carleton.ca/~rhfischl/great_pyramid/great_pyramid.html&amp;h=398&amp;w=547&amp;sz=68&amp;tbnid=U_AXrTzMU0co1M:&amp;tbnh=94&amp;tbnw=130&amp;hl=en&amp;start=1&amp;prev=/images%3Fq%3Dpyramid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che.ie/HR/Insite/email_vorlage_files/cartoon_money_01.jpg&amp;imgrefurl=http://www.roche.ie/HR/Insite/Insite_July05_Web.html&amp;h=180&amp;w=240&amp;sz=15&amp;tbnid=b24KDO9DGCKRAM:&amp;tbnh=78&amp;tbnw=104&amp;hl=en&amp;start=1&amp;prev=/images%3Fq%3Dmoney%2Bcartoon%26svnum%3D10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arlham.edu/~seidti/iam/papyrus_66a.gif&amp;imgrefurl=http://www.earlham.edu/~seidti/iam/tc_pap66.html&amp;h=650&amp;w=568&amp;sz=334&amp;tbnid=ojruY8Oig9YPLM:&amp;tbnh=135&amp;tbnw=117&amp;hl=en&amp;start=17&amp;prev=/images%3Fq%3Dpapyrus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embers.aol.com/egyptnew/myth/sekmet1.gif&amp;imgrefurl=http://members.aol.com/egyptart/sekmet.html&amp;h=441&amp;w=238&amp;sz=61&amp;tbnid=yLPfAyL_47DV_M:&amp;tbnh=123&amp;tbnw=66&amp;hl=en&amp;start=8&amp;prev=/images%3Fq%3Dsekhmet%26svnum%3D10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836640"/>
            <a:ext cx="3025440" cy="1655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reate a pictogr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635280" y="3213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830960" y="3213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4360" y="1484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stockphoto_319828_the_blacksmi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557360"/>
            <a:ext cx="1225800" cy="136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ant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62864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papyrus_66a"/>
          <p:cNvPicPr/>
          <p:nvPr/>
        </p:nvPicPr>
        <p:blipFill>
          <a:blip r:embed="rId7"/>
          <a:stretch/>
        </p:blipFill>
        <p:spPr>
          <a:xfrm>
            <a:off x="539640" y="4508640"/>
            <a:ext cx="1295640" cy="165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sekmet1"/>
          <p:cNvPicPr/>
          <p:nvPr/>
        </p:nvPicPr>
        <p:blipFill>
          <a:blip r:embed="rId8"/>
          <a:stretch/>
        </p:blipFill>
        <p:spPr>
          <a:xfrm>
            <a:off x="3924360" y="458136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08"/>
          <p:cNvPicPr/>
          <p:nvPr/>
        </p:nvPicPr>
        <p:blipFill>
          <a:blip r:embed="rId9"/>
          <a:stretch/>
        </p:blipFill>
        <p:spPr>
          <a:xfrm>
            <a:off x="7236000" y="4221000"/>
            <a:ext cx="1728720" cy="2167200"/>
          </a:xfrm>
          <a:prstGeom prst="rect">
            <a:avLst/>
          </a:prstGeom>
          <a:ln w="0">
            <a:noFill/>
          </a:ln>
        </p:spPr>
      </p:pic>
      <p:sp>
        <p:nvSpPr>
          <p:cNvPr id="84" name="Line 14"/>
          <p:cNvSpPr/>
          <p:nvPr/>
        </p:nvSpPr>
        <p:spPr>
          <a:xfrm flipH="1">
            <a:off x="1619280" y="3645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H="1">
            <a:off x="4858920" y="3789360"/>
            <a:ext cx="7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6804000" y="3716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 flipV="1">
            <a:off x="6516720" y="2565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 flipH="1" flipV="1">
            <a:off x="1908000" y="2924280"/>
            <a:ext cx="432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 flipV="1">
            <a:off x="471636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ncient Medic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gypt – A Wealthy Count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cartoon_money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6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pecialists Doc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3168720" cy="431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etal Work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9" descr="istockphoto_319828_the_blacksmi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439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6" descr="ant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4465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papyrus_6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53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sekm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024360" cy="44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he Nile and Farm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08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038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0:15Z</dcterms:created>
  <dc:creator>cjames</dc:creator>
  <dc:description>How did Life in Egypt affect Medicine?</dc:description>
  <cp:keywords>How did Life in Egypt affect Medicine?</cp:keywords>
  <dc:language>en-US</dc:language>
  <cp:lastModifiedBy>RomaK</cp:lastModifiedBy>
  <dcterms:modified xsi:type="dcterms:W3CDTF">2015-09-04T09:29:45Z</dcterms:modified>
  <cp:revision>6</cp:revision>
  <dc:subject>How did Life in Egypt affect Medicine?</dc:subject>
  <dc:title>How did Life in Egypt affect Medicine?</dc:title>
</cp:coreProperties>
</file>