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voltage.wav" ContentType="audio/x-wav"/>
  <Override PartName="/ppt/media/coin.wav" ContentType="audio/x-wav"/>
  <Override PartName="/ppt/media/bomb.wav" ContentType="audio/x-wav"/>
  <Override PartName="/ppt/media/camera.wav" ContentType="audio/x-wav"/>
  <Override PartName="/ppt/media/wind.wav" ContentType="audio/x-wav"/>
  <Override PartName="/ppt/media/image2.jpeg" ContentType="image/jpeg"/>
  <Override PartName="/ppt/media/image3.png" ContentType="image/png"/>
  <Override PartName="/ppt/media/breeze.wav" ContentType="audio/x-wav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AFA9-EA0E-420F-A95C-A5BD297F0C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C026-6B20-4004-A5C4-311AF18D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30B2-92DB-4909-AD9D-D2660EC0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730-D0F1-4C08-9499-46A49D92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46A-27D2-4C9F-9874-638FF2CD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88EE-AB79-4FF8-AAEF-CD51DDAC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101F-C851-4D09-9503-CDC5BD40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EC2-531D-4BCE-A35A-FE72D641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55AB-09DD-4B3B-B3FF-DF153B5C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B8E-4AA6-43F5-8AD8-E15BEFDB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4DD-332C-4341-B827-BB6E2214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A90B-841C-4550-B7E8-2CB553C6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300-5F40-42C5-8AA1-1CB0B543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039C-3B7C-4CD7-8906-E8F3BA3EF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psites.net/gotham01/webpages/isaacs/Immigrants%2520seeing%2520Statue.jpg&amp;imgrefurl=http://www.mapsites.net/gotham01/webpages/isaacs/index.htm&amp;h=514&amp;w=640&amp;sz=86&amp;hl=en&amp;start=5&amp;tbnid=-hGJN2xi_QjhTM:&amp;tbnh=110&amp;tbnw=137&amp;prev=/images%3Fq%3Dimmigrants%26svnum%3D10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91440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Berlin Sans FB Demi"/>
              </a:rPr>
              <a:t>Immigrants in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Millions of immigrants moved to the United States in the late 1800’s &amp; early 19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Immigrants%2520seeing%2520Stat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2120"/>
            <a:ext cx="2209680" cy="2392200"/>
          </a:xfrm>
          <a:prstGeom prst="rect">
            <a:avLst/>
          </a:prstGeom>
          <a:ln w="0">
            <a:noFill/>
          </a:ln>
        </p:spPr>
      </p:pic>
    </p:spTree>
  </p:cSld>
  <p:transition>
    <p:push dir="l"/>
    <p:sndAc>
      <p:stSnd>
        <p:snd r:embed="rId3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lin Sans FB Demi"/>
              </a:rPr>
              <a:t>Immigration 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erlin Sans FB Demi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228600"/>
          <a:ext cx="9144000" cy="62946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1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33"/>
                          </a:solidFill>
                          <a:latin typeface="Berlin Sans FB Demi"/>
                        </a:rPr>
                        <a:t>New immigrants arriving at Ellis Island. At Ellis they will be "processed" before they are allowed to continue their journey to find a new ho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5" descr="Photo of immigrants arriving at Ellis Island"/>
          <p:cNvPicPr/>
          <p:nvPr/>
        </p:nvPicPr>
        <p:blipFill>
          <a:blip r:embed="rId1"/>
          <a:stretch/>
        </p:blipFill>
        <p:spPr>
          <a:xfrm>
            <a:off x="1981080" y="685800"/>
            <a:ext cx="4762800" cy="4191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growthcenters-big"/>
          <p:cNvPicPr/>
          <p:nvPr/>
        </p:nvPicPr>
        <p:blipFill>
          <a:blip r:embed="rId1"/>
          <a:stretch/>
        </p:blipFill>
        <p:spPr>
          <a:xfrm>
            <a:off x="914400" y="781200"/>
            <a:ext cx="7848720" cy="568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erlin Sans FB Demi"/>
              </a:rPr>
              <a:t>Laws Against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882 Congress passed Chinese Exclus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most all Chinese immigrants were kept out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921 &amp; 1924 Congress passed laws that lowered  the number of Europeans &amp; A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l immigrants faced prejudice upon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Berlin Sans FB Demi"/>
              </a:rPr>
              <a:t>Immigrants helped the U.S. become one of the richest and fastest-growing countries in the world.  They built railroads, dug mines, and worked in facto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day_without_immigrants"/>
          <p:cNvPicPr/>
          <p:nvPr/>
        </p:nvPicPr>
        <p:blipFill>
          <a:blip r:embed="rId1"/>
          <a:stretch/>
        </p:blipFill>
        <p:spPr>
          <a:xfrm>
            <a:off x="2666880" y="3124080"/>
            <a:ext cx="3581640" cy="34750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im2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16:47Z</dcterms:created>
  <dc:creator>Your User Name</dc:creator>
  <dc:description/>
  <dc:language>en-US</dc:language>
  <cp:lastModifiedBy>RomaK</cp:lastModifiedBy>
  <dcterms:modified xsi:type="dcterms:W3CDTF">2015-09-04T09:30:12Z</dcterms:modified>
  <cp:revision>7</cp:revision>
  <dc:subject/>
  <dc:title>Immigrants in America</dc:title>
</cp:coreProperties>
</file>