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voltage.wav" ContentType="audio/x-wav"/>
  <Override PartName="/ppt/media/coin.wav" ContentType="audio/x-wav"/>
  <Override PartName="/ppt/media/bomb.wav" ContentType="audio/x-wav"/>
  <Override PartName="/ppt/media/camera.wav" ContentType="audio/x-wav"/>
  <Override PartName="/ppt/media/wind.wav" ContentType="audio/x-wav"/>
  <Override PartName="/ppt/media/image2.jpeg" ContentType="image/jpeg"/>
  <Override PartName="/ppt/media/image3.png" ContentType="image/png"/>
  <Override PartName="/ppt/media/breeze.wav" ContentType="audio/x-wav"/>
  <Override PartName="/ppt/media/image4.jpeg" ContentType="image/jpeg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1660-8BB6-4642-B09A-871F75B8E8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in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immigrants moved to the United States in the late 1800’s &amp; early 190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in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immigrants moved to the United States in the late 1800’s &amp; early 190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 Agains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2 Congress passed Chinese Exclus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Chinese immigrants were kept out of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&amp; 1924 Congress passed laws that lowered  the number of Europeans &amp; As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migrants faced prejudice upon ar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 Agains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2 Congress passed Chinese Exclus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Chinese immigrants were kept out of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&amp; 1924 Congress passed laws that lowered  the number of Europeans &amp; As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migrants faced prejudice upon ar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helped the U.S. become one of the richest and fastest-growing countries in the world.  They built railroads, dug mines, and worked i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helped the U.S. become one of the richest and fastest-growing countries in the world.  They built railroads, dug mines, and worked i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4FFE-C476-44F2-9EE1-A3FC7AE31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183E-B3AD-46F2-9FC6-025BD7DB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8856-53BE-4C32-B862-82844E513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9AA9-4B62-4657-9F00-D2029A893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8C49-C534-423E-BE7D-95C50A15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1A57-016D-49C2-A366-7BB2B448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7FB0-3DD1-43C6-B20D-FCEDFAE2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EF85-6C95-4260-90C7-FB35717C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B65D-7F36-477E-A5DB-AB8785C1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AF87-2174-4DF8-8C91-A1905F21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76AE-0BDF-4891-80B3-59ED4D8C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26DE-521B-4E9F-A6F0-600A9887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2706-E657-468B-9060-03336A04F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psites.net/gotham01/webpages/isaacs/Immigrants%2520seeing%2520Statue.jpg&amp;imgrefurl=http://www.mapsites.net/gotham01/webpages/isaacs/index.htm&amp;h=514&amp;w=640&amp;sz=86&amp;hl=en&amp;start=5&amp;tbnid=-hGJN2xi_QjhTM:&amp;tbnh=110&amp;tbnw=137&amp;prev=/images%3Fq%3Dimmigrants%26svnum%3D10%26hl%3Den%26lr%3D%26sa%3DG" TargetMode="External"/><Relationship Id="rId2" Type="http://schemas.openxmlformats.org/officeDocument/2006/relationships/image" Target="../media/image1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1960" y="914400"/>
            <a:ext cx="6553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Berlin Sans FB Demi"/>
              </a:rPr>
              <a:t>Immigrants in Americ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Berlin Sans FB"/>
              </a:rPr>
              <a:t>Millions of immigrants moved to the United States in the late 1800’s &amp; early 190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Immigrants%2520seeing%2520Statu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762120"/>
            <a:ext cx="2209680" cy="2392200"/>
          </a:xfrm>
          <a:prstGeom prst="rect">
            <a:avLst/>
          </a:prstGeom>
          <a:ln w="0">
            <a:noFill/>
          </a:ln>
        </p:spPr>
      </p:pic>
    </p:spTree>
  </p:cSld>
  <p:transition>
    <p:push dir="l"/>
    <p:sndAc>
      <p:stSnd>
        <p:snd r:embed="rId3" name="voltag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Berlin Sans FB Demi"/>
              </a:rPr>
              <a:t>Immigration S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Berlin Sans FB Demi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  <p:sndAc>
      <p:stSnd>
        <p:snd r:embed="rId1" name="bomb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228600"/>
          <a:ext cx="9144000" cy="62946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471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33"/>
                          </a:solidFill>
                          <a:latin typeface="Berlin Sans FB Demi"/>
                        </a:rPr>
                        <a:t>New immigrants arriving at Ellis Island. At Ellis they will be "processed" before they are allowed to continue their journey to find a new hom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Picture 5" descr="Photo of immigrants arriving at Ellis Island"/>
          <p:cNvPicPr/>
          <p:nvPr/>
        </p:nvPicPr>
        <p:blipFill>
          <a:blip r:embed="rId1"/>
          <a:stretch/>
        </p:blipFill>
        <p:spPr>
          <a:xfrm>
            <a:off x="1981080" y="685800"/>
            <a:ext cx="4762800" cy="4191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2" name="breez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growthcenters-big"/>
          <p:cNvPicPr/>
          <p:nvPr/>
        </p:nvPicPr>
        <p:blipFill>
          <a:blip r:embed="rId1"/>
          <a:stretch/>
        </p:blipFill>
        <p:spPr>
          <a:xfrm>
            <a:off x="914400" y="781200"/>
            <a:ext cx="7848720" cy="568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erlin Sans FB Demi"/>
              </a:rPr>
              <a:t>Laws Against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1882 Congress passed Chinese Exclusion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Almost all Chinese immigrants were kept out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1921 &amp; 1924 Congress passed laws that lowered  the number of Europeans &amp; As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All immigrants faced prejudice upon arr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1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Berlin Sans FB Demi"/>
              </a:rPr>
              <a:t>Immigrants helped the U.S. become one of the richest and fastest-growing countries in the world.  They built railroads, dug mines, and worked in factor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day_without_immigrants"/>
          <p:cNvPicPr/>
          <p:nvPr/>
        </p:nvPicPr>
        <p:blipFill>
          <a:blip r:embed="rId1"/>
          <a:stretch/>
        </p:blipFill>
        <p:spPr>
          <a:xfrm>
            <a:off x="2666880" y="3124080"/>
            <a:ext cx="3581640" cy="34750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coin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im2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6:16:47Z</dcterms:created>
  <dc:creator>Your User Name</dc:creator>
  <dc:description/>
  <dc:language>en-US</dc:language>
  <cp:lastModifiedBy>RomaK</cp:lastModifiedBy>
  <dcterms:modified xsi:type="dcterms:W3CDTF">2015-09-04T09:30:12Z</dcterms:modified>
  <cp:revision>7</cp:revision>
  <dc:subject/>
  <dc:title>Immigrants in America</dc:title>
</cp:coreProperties>
</file>