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D3D-DBF2-43E4-BAD0-2813F9EDD9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knowledge of who’s who in the Ireland in Conflic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with the following slide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ELAND IN CONFLICT 1909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images of historical personalities from the topic appea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work out who they are and what view they held over Ireland’s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 = limited government/self-rule for Ireland still linked to British Cr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rhaps with Northern Ireland still part of United Kingd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t= the whole of Ireland having self-government (including 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= Ireland being independent and totally self-governing (no link to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= workers/people governing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NOT AFFORD YOU GOING AROUND RIDDLI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THING WRONG WITH A STIFF WHIS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O A DEAL WITH YOU MR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 NOT HAVE A HAPPY EAST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ELL ME THE TR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SHOT IN 19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MSELF STARTED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CA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Ulster Unionis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ur GRIFF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ick PE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B member and lead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er R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ONNO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of Irish Citizens A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LLOYD GE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Prime Minister 1916 -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of IRA forces and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mmon DE VA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Sinn F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 RED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National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oin MAC NE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er of Irish Volunteer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ger CA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mber of I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UBL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mes CRA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uty Leader of Ulster Unio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ON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ert ASQU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tish Prime Min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ck here to move to th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BUDGET WAS REJECTED BY THE HOUSE OF L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LS, THE FOOLS, THE FOO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RULE? OVER MY DEAD BOD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ODNESS, I HATE SUBM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IST REVOLUTION WILL SOLVE IRELAND’S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BOYO, YOU WILL HAVE TO SPLIT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C8F-4524-4C33-BD42-59767090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869-B1D8-49C2-BCDF-56719BD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9AB-6D5C-4443-ACCD-2AE9E855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1DA-DA06-4E66-9D34-315FF5B0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A9A2-AB16-46E7-AB57-17DEBC2A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0DB1-CEDF-4783-A885-4491689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E79B-E7D9-4FF3-B946-35D31CEA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B6C4-FA42-4F03-A82B-2525D94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44A0-16DF-4CD1-9027-01D3EFFE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18D-6E03-48C6-A6CA-E36CFD8B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AA72-EF4C-4C36-9D5D-EFB97E5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621-5681-4EC4-9A88-2DDA3F26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838-39ED-4D9E-8A45-521671D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CFE5-5E95-4550-827E-F2612582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71A4-00E1-4B79-B5F4-A027B96E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DE9-5428-41B3-B84E-C1FEF58D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5777-7AB8-4653-A9AC-07D4E905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F80-B46E-494E-BE87-E7B8D078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C53-374D-4C8F-8CD1-A2334D69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847-4989-4DEE-9231-7A02FABD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C6-EA34-495F-A456-FE4C7A1F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7E5-567F-462B-A5E4-DE61AE2E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BC1-3D3E-4AC9-9F71-44FE28D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876-1911-45F3-8F38-38AD8E2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8650-9818-449D-9898-2E2D7E793E3A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182B-A944-4D1F-8CDE-E313A5D816A2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1137600" y="12193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st your knowledge of who’s who in the Ireland in Confli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opic with the following slide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5257800" y="57895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cc3300"/>
                </a:solidFill>
                <a:latin typeface="Arial"/>
              </a:rPr>
              <a:t>Click here t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987480" y="45720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RELAND IN CONFLICT 1909 - 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4680" y="2057400"/>
            <a:ext cx="82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As the images of historical personalities from the topic app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3b812f"/>
                </a:solidFill>
                <a:latin typeface="Arial"/>
              </a:rPr>
              <a:t>try to work out who they are and what view they held over Ireland’s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-10800" y="2768760"/>
            <a:ext cx="91357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	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            </a:t>
            </a:r>
            <a:r>
              <a:rPr b="1" lang="en-AU" sz="2000" spc="-1" strike="noStrike">
                <a:solidFill>
                  <a:srgbClr val="ff6600"/>
                </a:solidFill>
                <a:latin typeface="Andy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Home Rule = limited government/self-rule for Ireland still linked to Britis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	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(perhaps with Northern Ireland still part of United King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Nationalist= the whole of Ireland having self-government (including Nor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Republican= Ireland being independent and totally self-governing (no link to Brit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                    </a:t>
            </a: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Cr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9900"/>
                </a:solidFill>
                <a:latin typeface="Franklin Gothic Demi"/>
              </a:rPr>
              <a:t>Socialist= workers/people governing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81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MIc Collins in general's outfit"/>
          <p:cNvPicPr/>
          <p:nvPr/>
        </p:nvPicPr>
        <p:blipFill>
          <a:blip r:embed="rId1"/>
          <a:stretch/>
        </p:blipFill>
        <p:spPr>
          <a:xfrm>
            <a:off x="3059280" y="1197000"/>
            <a:ext cx="3538440" cy="486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39640" y="333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 CANNOT AFFORD YOU GOING AROUND RIDDL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James Craig"/>
          <p:cNvPicPr/>
          <p:nvPr/>
        </p:nvPicPr>
        <p:blipFill>
          <a:blip r:embed="rId1"/>
          <a:stretch/>
        </p:blipFill>
        <p:spPr>
          <a:xfrm>
            <a:off x="3059280" y="1268280"/>
            <a:ext cx="3803400" cy="4608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68360" y="33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NOTHING WRONG WITH A STIFF WHIS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b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WE WILL DO A DEAL WITH YOU MR ASQUITH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John Redmond"/>
          <p:cNvPicPr/>
          <p:nvPr/>
        </p:nvPicPr>
        <p:blipFill>
          <a:blip r:embed="rId1"/>
          <a:stretch/>
        </p:blipFill>
        <p:spPr>
          <a:xfrm>
            <a:off x="3203640" y="907920"/>
            <a:ext cx="284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I DID NOT HAVE</a:t>
            </a:r>
            <a:r>
              <a:rPr b="0" lang="en-US" sz="3800" spc="-1" strike="noStrike">
                <a:solidFill>
                  <a:srgbClr val="009900"/>
                </a:solidFill>
                <a:latin typeface="Franklin Gothic Demi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A HAPPY EASTER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Franklin Gothic Demi"/>
              </a:rPr>
              <a:t>THEY DID NOT TELL ME THE TRU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Eoin MacNeill"/>
          <p:cNvPicPr/>
          <p:nvPr/>
        </p:nvPicPr>
        <p:blipFill>
          <a:blip r:embed="rId1"/>
          <a:stretch/>
        </p:blipFill>
        <p:spPr>
          <a:xfrm>
            <a:off x="3203640" y="1557360"/>
            <a:ext cx="30416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NOT SHOT IN 191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5" name="Picture 4" descr="Eammon De Valera"/>
          <p:cNvPicPr/>
          <p:nvPr/>
        </p:nvPicPr>
        <p:blipFill>
          <a:blip r:embed="rId1"/>
          <a:stretch/>
        </p:blipFill>
        <p:spPr>
          <a:xfrm>
            <a:off x="3635280" y="1341360"/>
            <a:ext cx="171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Demi"/>
              </a:rPr>
              <a:t>HIMSELF STARTED IT</a:t>
            </a:r>
            <a:r>
              <a:rPr b="0" lang="en-US" sz="4200" spc="-1" strike="noStrike">
                <a:solidFill>
                  <a:srgbClr val="006633"/>
                </a:solidFill>
                <a:latin typeface="Franklin Gothic Demi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Picture 4" descr="Griffith image"/>
          <p:cNvPicPr/>
          <p:nvPr/>
        </p:nvPicPr>
        <p:blipFill>
          <a:blip r:embed="rId1"/>
          <a:stretch/>
        </p:blipFill>
        <p:spPr>
          <a:xfrm>
            <a:off x="2616120" y="1125360"/>
            <a:ext cx="34419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-6840" y="2209680"/>
            <a:ext cx="300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dward CA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Ulster Unionist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81560" y="2590920"/>
            <a:ext cx="196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Arthur GRIFF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Foun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29840" y="5791320"/>
            <a:ext cx="239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Patrick PE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IRB member and lea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aster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732400" y="5867280"/>
            <a:ext cx="277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James CONNO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Founder of Irish Citizens Ar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SOCI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858640" y="5715000"/>
            <a:ext cx="30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avid LLOYD GEO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British Prime Minister 1916 - 19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54080" y="274320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Michael CO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Leader of IRA forces and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arson face only"/>
          <p:cNvPicPr/>
          <p:nvPr/>
        </p:nvPicPr>
        <p:blipFill>
          <a:blip r:embed="rId1"/>
          <a:stretch/>
        </p:blipFill>
        <p:spPr>
          <a:xfrm>
            <a:off x="533520" y="3049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Griffith image"/>
          <p:cNvPicPr/>
          <p:nvPr/>
        </p:nvPicPr>
        <p:blipFill>
          <a:blip r:embed="rId2"/>
          <a:stretch/>
        </p:blipFill>
        <p:spPr>
          <a:xfrm>
            <a:off x="6705720" y="152280"/>
            <a:ext cx="1577880" cy="22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MIc Collins in general's outfit"/>
          <p:cNvPicPr/>
          <p:nvPr/>
        </p:nvPicPr>
        <p:blipFill>
          <a:blip r:embed="rId3"/>
          <a:stretch/>
        </p:blipFill>
        <p:spPr>
          <a:xfrm>
            <a:off x="3200400" y="152280"/>
            <a:ext cx="183024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Patrick Pearse"/>
          <p:cNvPicPr/>
          <p:nvPr/>
        </p:nvPicPr>
        <p:blipFill>
          <a:blip r:embed="rId4"/>
          <a:stretch/>
        </p:blipFill>
        <p:spPr>
          <a:xfrm>
            <a:off x="533520" y="3505320"/>
            <a:ext cx="2133360" cy="195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Connolly face"/>
          <p:cNvPicPr/>
          <p:nvPr/>
        </p:nvPicPr>
        <p:blipFill>
          <a:blip r:embed="rId5"/>
          <a:stretch/>
        </p:blipFill>
        <p:spPr>
          <a:xfrm>
            <a:off x="3581280" y="3809880"/>
            <a:ext cx="1435320" cy="2108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dlgsmallphoto"/>
          <p:cNvPicPr/>
          <p:nvPr/>
        </p:nvPicPr>
        <p:blipFill>
          <a:blip r:embed="rId6"/>
          <a:stretch/>
        </p:blipFill>
        <p:spPr>
          <a:xfrm>
            <a:off x="6553080" y="3809880"/>
            <a:ext cx="1160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2680" y="2819520"/>
            <a:ext cx="200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Eammon DE VA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Leader of Sinn F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3b812f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740200" y="2590920"/>
            <a:ext cx="286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John RED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Leader of Irish National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8520" y="5791320"/>
            <a:ext cx="281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Eoin MAC NE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Leader of Irish Volunteer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cc3300"/>
                </a:solidFill>
                <a:latin typeface="Arial"/>
              </a:rPr>
              <a:t>NATIONA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06680" y="5867280"/>
            <a:ext cx="174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oger CA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Member of I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9900"/>
                </a:solidFill>
                <a:latin typeface="Arial"/>
              </a:rPr>
              <a:t>REPUBLI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402160" y="5715000"/>
            <a:ext cx="344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James CRA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Deputy Leader of Ulster Unionist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6600ff"/>
                </a:solidFill>
                <a:latin typeface="Arial"/>
              </a:rPr>
              <a:t>UNIO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62920" y="2743200"/>
            <a:ext cx="202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Herbert ASQU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66ff"/>
                </a:solidFill>
                <a:latin typeface="Arial"/>
              </a:rPr>
              <a:t>British Prime Min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417720" y="655308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9933"/>
                </a:solidFill>
                <a:latin typeface="Times New Roman"/>
              </a:rPr>
              <a:t>Click here to move to the next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Eammon De Valera"/>
          <p:cNvPicPr/>
          <p:nvPr/>
        </p:nvPicPr>
        <p:blipFill>
          <a:blip r:embed="rId1"/>
          <a:stretch/>
        </p:blipFill>
        <p:spPr>
          <a:xfrm>
            <a:off x="990720" y="304920"/>
            <a:ext cx="888840" cy="2504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Herbert Asquith"/>
          <p:cNvPicPr/>
          <p:nvPr/>
        </p:nvPicPr>
        <p:blipFill>
          <a:blip r:embed="rId2"/>
          <a:stretch/>
        </p:blipFill>
        <p:spPr>
          <a:xfrm>
            <a:off x="2895480" y="152280"/>
            <a:ext cx="1578240" cy="254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John Redmond"/>
          <p:cNvPicPr/>
          <p:nvPr/>
        </p:nvPicPr>
        <p:blipFill>
          <a:blip r:embed="rId3"/>
          <a:stretch/>
        </p:blipFill>
        <p:spPr>
          <a:xfrm>
            <a:off x="6553080" y="304920"/>
            <a:ext cx="118908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Eoin MacNeill"/>
          <p:cNvPicPr/>
          <p:nvPr/>
        </p:nvPicPr>
        <p:blipFill>
          <a:blip r:embed="rId4"/>
          <a:stretch/>
        </p:blipFill>
        <p:spPr>
          <a:xfrm>
            <a:off x="990720" y="3657600"/>
            <a:ext cx="1371600" cy="207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Roger Casement"/>
          <p:cNvPicPr/>
          <p:nvPr/>
        </p:nvPicPr>
        <p:blipFill>
          <a:blip r:embed="rId5"/>
          <a:stretch/>
        </p:blipFill>
        <p:spPr>
          <a:xfrm>
            <a:off x="3505320" y="3276720"/>
            <a:ext cx="1554120" cy="2504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James Craig"/>
          <p:cNvPicPr/>
          <p:nvPr/>
        </p:nvPicPr>
        <p:blipFill>
          <a:blip r:embed="rId6"/>
          <a:stretch/>
        </p:blipFill>
        <p:spPr>
          <a:xfrm>
            <a:off x="6172200" y="3429000"/>
            <a:ext cx="17859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erbert Asquith"/>
          <p:cNvPicPr/>
          <p:nvPr/>
        </p:nvPicPr>
        <p:blipFill>
          <a:blip r:embed="rId1"/>
          <a:stretch/>
        </p:blipFill>
        <p:spPr>
          <a:xfrm>
            <a:off x="2987640" y="981000"/>
            <a:ext cx="3214800" cy="5184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MY BUDGET WAS REJECTED BY THE HOUSE OF L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atrick Pearse"/>
          <p:cNvPicPr/>
          <p:nvPr/>
        </p:nvPicPr>
        <p:blipFill>
          <a:blip r:embed="rId1"/>
          <a:stretch/>
        </p:blipFill>
        <p:spPr>
          <a:xfrm>
            <a:off x="1547640" y="765000"/>
            <a:ext cx="5545440" cy="50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6836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FOOLS, THE FOOLS, THE FOO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carson face only"/>
          <p:cNvPicPr/>
          <p:nvPr/>
        </p:nvPicPr>
        <p:blipFill>
          <a:blip r:embed="rId1"/>
          <a:stretch/>
        </p:blipFill>
        <p:spPr>
          <a:xfrm>
            <a:off x="2340000" y="836640"/>
            <a:ext cx="4089240" cy="5184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89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LE? OVER MY DEAD BOD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oger Casement"/>
          <p:cNvPicPr/>
          <p:nvPr/>
        </p:nvPicPr>
        <p:blipFill>
          <a:blip r:embed="rId1"/>
          <a:stretch/>
        </p:blipFill>
        <p:spPr>
          <a:xfrm>
            <a:off x="2814480" y="907920"/>
            <a:ext cx="3262320" cy="5257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260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Y GOODNESS, I HATE SUB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OCIALIST REVOLUTION WILL SOLVE IRELAND’S PROBLEMS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Picture 3" descr="Connolly face"/>
          <p:cNvPicPr/>
          <p:nvPr/>
        </p:nvPicPr>
        <p:blipFill>
          <a:blip r:embed="rId1"/>
          <a:stretch/>
        </p:blipFill>
        <p:spPr>
          <a:xfrm>
            <a:off x="2700360" y="105264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dlgsmallphoto"/>
          <p:cNvPicPr/>
          <p:nvPr/>
        </p:nvPicPr>
        <p:blipFill>
          <a:blip r:embed="rId1"/>
          <a:stretch/>
        </p:blipFill>
        <p:spPr>
          <a:xfrm>
            <a:off x="2987640" y="1341360"/>
            <a:ext cx="364032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3964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WELL BOYO, YOU WILL HAVE TO SPLIT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06:45:49Z</dcterms:created>
  <dc:creator>O'Brien</dc:creator>
  <dc:description/>
  <dc:language>en-US</dc:language>
  <cp:lastModifiedBy>RomaK</cp:lastModifiedBy>
  <dcterms:modified xsi:type="dcterms:W3CDTF">2015-09-04T09:30:27Z</dcterms:modified>
  <cp:revision>8</cp:revision>
  <dc:subject/>
  <dc:title>No Slide Title</dc:title>
</cp:coreProperties>
</file>