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7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7C4DC09-CED0-4F5B-B34C-68B60A62D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, values and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hbaz Youn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by the death of Mohammed 6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- 632-6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elected official. Wise leader, crisis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Ibn Elkhattab - 634-6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scus (9 / 635)  and Jerusalem (5 / 638) surrender peacefu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man bin Affan - 644-6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 Bin Abitalib - 656-6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-661: the Four Elected Successors (Calip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82680" y="685800"/>
            <a:ext cx="3759120" cy="28195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232920" y="3657600"/>
            <a:ext cx="6472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u-Bakr - 632-63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irst elected official. Wise leader, crisis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 Ibn Elkhattab - 634-64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first-rate statesman. Honest, modest and ju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quered the Levant, Egypt, Iraq, Per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mascus (9 / 635)  and Jerusalem (5 / 638) surrender peac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mar’s pledge to the Jerusale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modern state:  Treasury, communication, defense.  Engraved currenc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man bin Affan - 644-6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lected and compiled the Q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wer stru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i Bin Abitalib - 656-66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 struggle escalated to armed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ergence of political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of democracy. Ummayah Dynasty in Damascus, Muawyia (661-68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32-661: the Four Elected Successors (Caliph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t 644, the year Omar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390680" y="231840"/>
            <a:ext cx="3816360" cy="2862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232920" y="3325680"/>
            <a:ext cx="652932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32, 100 Yrs after Moham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717560" y="685800"/>
            <a:ext cx="3006720" cy="22543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10680" y="2939760"/>
            <a:ext cx="645156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as Monotheistic Reli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authentic statements of Muhammad 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inspired scripture. God’s word inspired to his messeng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730520" y="685800"/>
            <a:ext cx="2901960" cy="21765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228600" y="2939760"/>
            <a:ext cx="6477120" cy="56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ligatory charitable giv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alth belong to God and it is held in trust by hum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at, or, "purification" by setting aside a portion (2.5%) for the nee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ing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lgrimag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old his companions as they go home after a battle "We are returning from the lesser jihad [the battle] to the greater jihad, at home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 most excellent jihad is the speaking of truth in the face of a tyrant" 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oundly misunderstood in today's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 told his companions as they go home after a battle "We are returning from the lesser jihad [the battle] to the greater jihad, at home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 most excellent jihad is the speaking of truth in the face of a tyrant"  (Hadit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oundly misunderstood in today's wor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403280" y="685800"/>
            <a:ext cx="3841920" cy="28814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ATION 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oductory Rema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as a monotheistic relig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ience and civilizatio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today, and Arab America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ggested reading, distribution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ucational materi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s &amp; 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of the Koran revealed in the context of an all-out war imposed on ear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lims by the powerful city of Mecca, and many passages deal with the condu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rmed strugg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one finds "slay [enemies] wherever you find them!" (e.g., 4: 89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lmost every case it is followed by something like "if they let you b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 not make war on you, and offer you peace, God does not allow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harm them" (2:90; 4: 90; 5: 2; 8: 61; 22: 3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good and evil cannot be equal, repel thou evil with something tha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ter, and love he between whom and thy self was enmity may then beco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ough he had always been close unto thee, a true friend" (41:3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 does not allow harm of civilian, and requests the protection of wome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 and the elderly during war (4:96; 9: 91; 48: 16,17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y one slew a person--unless it be for murder or for spreading mischi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nd--it would be as if he slew the whole people; and if anyone sav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fe, it would be as if he saved the life of the whole people.” (5:3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shall feed and protect prisoners of war, and you shall not expect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ward (4: 25,36; 5:24)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, the only permissible war in the Quran is one of self-defense,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kill unarmed (civilian), and you have to protect prisoners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 (2: 19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had and the Conduct of W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Fight in the cause of Allah those who fight you, but do not transgress limits; for Allah loves not transgressors." (2: 19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'Do not attack a temple, a church, a synagogue. Do not bring a tree or a plant down. Do not harm a horse or a camel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, like the Gospels, it says “it is meritorious to forgo revenge in a spirit of charity (5: 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the good prophets of Go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sus was not killed (e.g., 4:155-159; 5:17-19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66200" y="4419360"/>
            <a:ext cx="5985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like the Gospels, it says 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vid, Solomon, Zacharia, Jesus, John the paptist, and others as the “the good prophets of Go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esus was not killed (e.g., 4:155-159; 5:17-19)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There must be no coercion in matters of faith" (2: 256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And dispute ye not with the People of the Book, except with means bett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you; Our Allah and your Allah is one; and it is to Him we bow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 tells all human beings, "O people! We have formed you into n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44680" y="4419360"/>
            <a:ext cx="598464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There must be no coercion in matters of faith" (2: 256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"And dispute ye not with the People of the Book, except with means bett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you; Our Allah and your Allah is one; and it is to Him we bow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 tells all human beings, 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, subjugate, revile or slaughter but to reach out toward others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Levant remained mainly Christian for almost 200 Y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one was forced to convert to 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ght of all faiths to warship was resp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es of warship, holy places and shrines of all faiths were protected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ity, Charity, Charity 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op of  the Zakat. Help the orphan, the poor, the ill, the lost, the homeless, the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times in the Quran (16 times in Chapters 2-5 al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dom, Integrity, Equality, Justice …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hour of justice by a ruler is better than sixty days of hard work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less request for justice in the Quran (e.g., 2: 282; 6; 15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mankind, We’ve created you from a male and a female and have m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ations and tribes that you may know and interact with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st of you in the sight of God is the best in conduct” (49:1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rab is privileged over non-Arab but by his or her conduct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eople are equal like the teeth of a comb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not considered faithful in the sight of God unless you like f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rother (read, others) what you like for yourself” (Hadi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you are greeted with a greeting of peace, answer with an even better greeting, or at least the like thereof" (4: 8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Jus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jab or head sca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hijab or head sca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and Civi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dicated quest for knowledge and a burst of scientific innov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multi-ethnic and multi-faith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ed for over 8 centuries, and produced a plethora of knowledge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ies in all disciplin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ced the later European renaiss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ic tong, invigorated by the Quran, was the vehicle, and tolera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sive, and  knowledge-advocate Islamic faith was the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ed requests in both the Quran and the Hadith for seek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ledge, and application of rational th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even in 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k knowledge from crib to gr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judgement day, the ink of scientists is valued by God hig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the blood of marty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important disciplines of science are theology and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ly, massive translation of Greek and Indian wri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rved all literary and scientific works and transmitted them to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itutionalized and regulated the practice of Medicine and Pharm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dern concept of cli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ard exams and license to practice. Regulatory boards (FDA's!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 of plants and Algae for their medical use, and outlined possible side effects (PDR’s!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spita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s, including specialized, in each of Baghdad, Qurtoba, and Damascu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hospitals for emergen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artments and University Hospit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s records and vital signs, urine tests, family his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ge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ads from animals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um and Hashish for Anesthesi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as disinfecta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atment of cataract, and removal of kidney and gallbladder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psy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training (Anatom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of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795320" y="619200"/>
            <a:ext cx="2783160" cy="2087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232920" y="2706480"/>
            <a:ext cx="652932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Elrazzy; 9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Seena (Avisai): 10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Rushd (Aviros):  13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nafe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lkassim Alzahrawi (Abulcasis or Albucasis): 11th Centu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Elrazzy; 9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Seena (Avisai): 10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Rushd (Aviros):  13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nafee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lkassim Alzahrawi (Abulcasis or Albucasis): 11th Centu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n Physic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ation of acids (H2SO4, HCl, HNO3) and bases (NaO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ation of acids (H2SO4, HCl, HNO3) and bases (NaO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mistry and 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 Left.  English. But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orithm =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3.14159653589873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ight  Left.  English. But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 =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= 3.141596535898732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logy (myth)  Astronomy (sci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logy (myth)  Astronomy (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tr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 and 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Musl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the Quran and the Hadeeth as we have them toda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s interpreted by the Sunni schol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to be as a sect after 680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ve in the Quran and Hadeeth, like Sun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place Ali very high as a holy figure, and think ‘main stream’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discriminated against h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Shiah is mainly in Iran (90%), Iraq (55%) and Lebanon (~40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Holi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-adhaa (the sacrific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Abraham attempt to sacrifice his son Ishmael by God’s requ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sacrifice an animal and give the food to the poor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ilgrimage to Mec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e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d at the end of the holy month of Ramadan (the fasting mon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slamic New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r 1, Islamic calendar = 622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israa Walmaara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zes the ascending, in Jerusalem, of Mohammed's soul to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day of Muhamm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uraa day (Shiha on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3 Billion worldwide, three contin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3 Billio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onesia (200 M) &gt; India (180 M) &gt; Pakistan (160 M) &gt; Bangladesh (120 M)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(80 M) &gt; Egypt (70 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20 M Christian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 &gt; Syria &gt; Lebanon &gt; Palestine &gt; Ira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7 M Muslims in the USA, 3-4 M are Ara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ghly half of the Arab Americans are Christ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arouq Elbaz (Egypt), NASA, the moon mis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hmed H. Zewail (Egypt) Winner of the 1999 Nobel Prize in Chemistry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al. Tech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leh Wakeel (Iraq), member of the Nat’l Acad. Sci., Biochemist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Qais Elawqati (Iraq), member of the Nat’l Acad. Sci., Microbi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jdi Yacub, first open heart surge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chael Debakee (Lebanon), chief cardiologist of the White Hou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alph Nader (Lebanon), consumer advocate, Green Party founder,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d 2000 presidential candid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(Palestine), White House Ex-Chief of Staff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ohn Sununu JR., current state govern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onna E. Shalala (Lebanon), Ex secretary of HH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elen Thomas, Ex dean of the White House press corps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dward Attiyeh (Syria), Ex governor of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encer Abraham (Lebanon), Secretary of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eorge Mitchell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y Kasem and Don Bustany (Lebanon) creators of radio's Americ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apha Elaqqad (Syria), Hollywood movie dire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irector of the ‘Halloween’ ser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Shadyac (Lebanon), Hollywood movie 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ma Hayic (Lebanon), a Hollywood s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asser Seirawan (Syria), US Chess Champ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cques Nasser, president and CEO of Ford Motor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 Irani CEO of Occidental Petroleum (Exxon Mobil) 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att, Hagar, and Farah enterp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ab Americ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y Kasem and Don Bustany (Lebanon) creators of radio's Americ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apha Elaqqad (Syria), Hollywood movie dir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irector of the ‘Halloween’ ser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Shadyac (Lebanon), Hollywood movie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ma Hayic (Lebanon), a Hollywood 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sser Seirawan (Syria), US Chess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ques Nasser, president and CEO of Ford Motor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y Irani CEO of Occidental Petroleum (Exxon Mobil) 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yatt, Hagar, and Farah enterpr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ina McAuliffe, an astronaut who died aboard the space shutt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y Lightner, founder of MA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667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the Arabs”, Philip Hit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ab People”, Albert Hour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, An Empire of Faith”, PBS Video,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A Short History”,  Karen Armstrong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hammad”, Karen Armstrong,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ihad: A Commitment to Universal Peace”, Marcel A. Boisard, American T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s, 19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xford History of Islam”, John L Esposito, ed.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m: The Straight Path”, John L Esposito, ed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the Holy Quran”, Abdullah Yusif, Ali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s of the Prophets”, Leila Azzam, 1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Difference to Equas”, George Kindy, and Philip Saliba, eds., NYAS, 19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ce in Medieval Islam, Howard R Turner, 199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b American Encyclopedia, Anan Ameri, and Dawn Ramey, eds., 2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geste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mneh+) Abdallah   Abutalib   Hamzeh   Alabb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belmutta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a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574640" y="685800"/>
            <a:ext cx="3353040" cy="25146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040" y="3276720"/>
            <a:ext cx="5614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raiy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ssai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mana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dsham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s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mneh+) Abdallah   Abutalib   Hamzeh   Alabb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Abulahab   Alhar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661-75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750-125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belmuttali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mmayah Dynas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Abbbassides Dynas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rah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n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38960" cy="3479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33480" y="4408560"/>
            <a:ext cx="5129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c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opotam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ertile Cres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027160" y="0"/>
            <a:ext cx="2336760" cy="175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380520" y="1701720"/>
            <a:ext cx="6459480" cy="72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cc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na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A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989000" y="387360"/>
            <a:ext cx="2475000" cy="18558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232920" y="2396880"/>
            <a:ext cx="6529320" cy="6653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iddle East, 7th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Arabian Penins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ource of Arabs and the Semitic 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ostly desert, few urbanized a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Urban centers, Mec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Mainly tribal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rst mention of ‘Arabs’, 854 B.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rabs of the North and Arabs of the Sou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ynasties in the 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li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(inclusive), Judaism (exclusive), polytheis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Sassanid or Persi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i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Byzantine or Eastern Roman 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hristianity is the state religion, 3rd centu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foreign occupying po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ctarian conflicts with the loc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781280" y="154080"/>
            <a:ext cx="2268360" cy="170172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52280" y="1855440"/>
            <a:ext cx="6553440" cy="68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34960" y="685800"/>
            <a:ext cx="3416400" cy="2562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41360" y="3557520"/>
            <a:ext cx="655488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conquers Mecca peacefully (NO REVENG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89D6-F7E5-4CF1-AF17-1021A0F3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CCE-0B80-46A8-A07D-3F779D4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4770-88B6-4DDD-AA8A-0CA9B795D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094-2BFE-4010-8DB6-509A8BF0E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E732-9EC4-4E16-86CD-2038D1E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D16C-E4C2-439B-89B0-C12D1438C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80CE-0AF3-43B9-A2C1-288B8F7C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DAE-9747-43B9-B660-8A69B5A6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0D0D-1115-481F-892F-CD39831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739-0768-478D-AE82-F08D3DF4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DD1-D9CA-496D-B724-20E3AE2A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800-FE0E-4136-8264-A6330EA6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0867-F10D-4BEA-92C9-A42A1D765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457200" y="838080"/>
            <a:ext cx="7924680" cy="198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00"/>
                </a:solidFill>
                <a:latin typeface="Arial"/>
              </a:rPr>
              <a:t>Islam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Arial"/>
              </a:rPr>
              <a:t>History, values and cul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5170680" y="4916520"/>
            <a:ext cx="23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hbaz You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286000" y="762120"/>
            <a:ext cx="4494240" cy="5410080"/>
          </a:xfrm>
          <a:prstGeom prst="rect">
            <a:avLst/>
          </a:prstGeom>
          <a:ln w="0">
            <a:noFill/>
          </a:ln>
        </p:spPr>
      </p:pic>
      <p:sp>
        <p:nvSpPr>
          <p:cNvPr id="145" name="Line 3"/>
          <p:cNvSpPr/>
          <p:nvPr/>
        </p:nvSpPr>
        <p:spPr>
          <a:xfrm>
            <a:off x="3657600" y="28954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657600" y="2895480"/>
            <a:ext cx="106668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657600" y="3429000"/>
            <a:ext cx="838080" cy="1600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495680" y="4952880"/>
            <a:ext cx="762120" cy="76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 flipV="1">
            <a:off x="5257800" y="4038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H="1" flipV="1">
            <a:off x="4800600" y="2971440"/>
            <a:ext cx="144792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1752480" y="152280"/>
            <a:ext cx="6858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2439360" y="152280"/>
            <a:ext cx="52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by the death of Mohammed 6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32920" y="890640"/>
            <a:ext cx="850644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u-Bakr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lec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ficial. Wise leader, crisis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mar Ibn Elkhatta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4-64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rst-rate statesman. Honest, modest and ju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quered the Levant, Egypt, Iraq, Per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39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ascus (9 / 635)  and Jerusalem (5 / 638) surrend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87520" indent="-2300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’s pledge to the Jerusalem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odern state:  Treasury, communication, defense.  Engraved currenc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man bin Affan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4-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ed and compiled 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wer strug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 Bin Abitalib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6-66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escalated to armed confl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gence of political pa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57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 of democracy. Ummayah Dynasty in Damascus, Muawyia (661-6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06720" y="228600"/>
            <a:ext cx="77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2-661: the Four Elected Successors (Caliph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304920" y="762120"/>
            <a:ext cx="8686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66840" y="533520"/>
            <a:ext cx="4810320" cy="5790960"/>
          </a:xfrm>
          <a:prstGeom prst="rect">
            <a:avLst/>
          </a:prstGeom>
          <a:ln w="0">
            <a:noFill/>
          </a:ln>
        </p:spPr>
      </p:pic>
      <p:sp>
        <p:nvSpPr>
          <p:cNvPr id="157" name="Oval 3"/>
          <p:cNvSpPr/>
          <p:nvPr/>
        </p:nvSpPr>
        <p:spPr>
          <a:xfrm>
            <a:off x="2133720" y="1905120"/>
            <a:ext cx="4647960" cy="3581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2209680" y="304920"/>
            <a:ext cx="53352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745360" y="228600"/>
            <a:ext cx="36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lam at 644, the year Omar d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061000" y="2286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mmayah Dynasty, 661-7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52280" y="914400"/>
            <a:ext cx="883944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ire center and capital move to Damas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:  All N. Africa (Atlantic), W. Europe, much of C. Asia, the wall of Ch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11: Conquer of Spain and Portugal.  Tariq Bin Ziy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ansion into W. Europe blocked in France by Charles Martial,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Struggle continues, but the Caliphs brutally liquidate all ri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balaa in S. Iraq (10 Nov, 680) and the emerge of the 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elmalek builds Al-Aqsa Mosque and the Dome of the Rock in Jerusalem (6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ive translation of Greek and Indian writin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zation of the emp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m of architecture, arts, agriculture, and 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4"/>
          <p:cNvSpPr/>
          <p:nvPr/>
        </p:nvSpPr>
        <p:spPr>
          <a:xfrm>
            <a:off x="457200" y="83808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4235400" cy="5257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419720" y="152280"/>
            <a:ext cx="4184640" cy="54864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 flipH="1">
            <a:off x="1676520" y="2209680"/>
            <a:ext cx="45720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5"/>
          <p:cNvSpPr/>
          <p:nvPr/>
        </p:nvSpPr>
        <p:spPr>
          <a:xfrm flipH="1">
            <a:off x="1371240" y="2286000"/>
            <a:ext cx="30492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1371600" y="3276720"/>
            <a:ext cx="1905120" cy="533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495680" y="3733920"/>
            <a:ext cx="2210040" cy="761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"/>
          <p:cNvSpPr/>
          <p:nvPr/>
        </p:nvSpPr>
        <p:spPr>
          <a:xfrm flipH="1" flipV="1">
            <a:off x="5181480" y="1980720"/>
            <a:ext cx="1524240" cy="1752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9"/>
          <p:cNvSpPr/>
          <p:nvPr/>
        </p:nvSpPr>
        <p:spPr>
          <a:xfrm flipH="1">
            <a:off x="3580920" y="1981080"/>
            <a:ext cx="1676520" cy="60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 flipH="1">
            <a:off x="2819520" y="25909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1"/>
          <p:cNvSpPr/>
          <p:nvPr/>
        </p:nvSpPr>
        <p:spPr>
          <a:xfrm flipH="1" flipV="1">
            <a:off x="2133360" y="2209680"/>
            <a:ext cx="68580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133720" y="2209680"/>
            <a:ext cx="68580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3"/>
          <p:cNvSpPr/>
          <p:nvPr/>
        </p:nvSpPr>
        <p:spPr>
          <a:xfrm>
            <a:off x="3276720" y="3809880"/>
            <a:ext cx="1295280" cy="685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606600" y="609480"/>
            <a:ext cx="37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32, 100 Yrs after Moham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304920" y="685800"/>
            <a:ext cx="30456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2062800" y="838080"/>
            <a:ext cx="50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bassides Dynasty, 750-12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593640" y="1789200"/>
            <a:ext cx="808380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enter of the Empire moves to Iraq and I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ghdad, built 762 AD by Almansur (2nd Caliph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over 2 M, Baghdad becomes the glamorous center of the wor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, art, architecture, learning, and wealt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ed streets, public baths, public libraries and hospitals ever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dynasties in Egypt, Spain, and parts of the Levan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2nd Ummayah dynasty in Spain, 9th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toba (Cordova) competes with Bagh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iro, built 968 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>
            <a:off x="914400" y="1523880"/>
            <a:ext cx="7391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2120" y="1981080"/>
            <a:ext cx="7543800" cy="2133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Islam as Monotheistic Relig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822240" y="1563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52280" y="5335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la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render”,  related to ‘salaam’, or pea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, father of all prophets, is the first Muslim </a:t>
            </a:r>
            <a:r>
              <a:rPr b="0" lang="en-US" sz="16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also a code for social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ran plus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 statements of Muhamm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adith) =  Shareeha (constitution), as Interpreted by Islamic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is the last prophet (33: 4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briel highest ranking ang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ra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’s holy book, 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 scripture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’s wor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his messeng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4 Chapters (chapter = Surah), 4 to &gt;200 verses/chapter (verse = Aiya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rms most narratives and prophets of the Jewish and Christian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place for Virgin Mary, the only female (the Chapter of M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ah is the word for God used by Christian and Muslim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= Allah (Arabic) = Eluhim (Hebrew) = El (Arama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and only one God, no tri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as the language of the Qu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33280" y="1066680"/>
            <a:ext cx="8143560" cy="50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ramework for Muslim life. Essential pract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eclaration of fai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There is no deity but God, and Muhammad is the messenger of Go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yer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obligatory prayers each 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rect link between the worshiper and Go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hierarchical authority or priesth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akat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bligatory charitable giv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ealth belong to God and it is held in trust by hum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Zakat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or, "purification" by setting aside a portion (2.5%) for the nee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ing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sunrise to sunset during the holy month of Rama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1880" indent="-347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grimag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1160" indent="-23004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ilgrimage (Hajj) to Mecca, Arabia. Only those who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512440" y="228600"/>
            <a:ext cx="380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'Five Pillars' of Is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57200" y="83808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152280" y="773280"/>
            <a:ext cx="876312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is not addicted to war, and jihad is not one of its "pillar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had in Arabic does not mean "holy war”. It means "struggle” or “strive”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the difficult effort needed to put God's will into practice at ever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"greater jihad” in the Quran is that of the soul, of the tongue, of the pen, of faith, of morality, etc.  The "smaller jihad" is that of ar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directives in the authentic statements of Muhammad (Hadith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told his companions as they go home after a batt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e are returning from the lesser jiha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the battle]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the greater jihad, at home"</a:t>
            </a:r>
            <a:r>
              <a:rPr b="0" i="1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leve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: That of the so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bal: Raising one's voice in the name of Allah on behalf of jus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most excellent jihad is the speaking of truth in the face of a tyr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22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: Combat waged in defense against oppression and transgress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82760" indent="-235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oundly misunderstood in today's worl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5720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914400" y="203040"/>
            <a:ext cx="717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47280" y="1114560"/>
            <a:ext cx="635724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tory Rema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orical overvi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as a monotheistic relig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Qur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or Al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lars and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cod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ni and Shiha 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ce and civi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today, and Arab America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reading, distribu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mate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s &amp; 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066680" y="99072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-70200" y="838080"/>
            <a:ext cx="918900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of the Koran revealed in the context of an all-out war imposed on ear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by the powerful city of Mecca, and many passages deal with the condu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armed strugg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one finds "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a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[enemies]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rever you find them!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.g., 4: 89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most every case it is followed by something li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if they let you b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do not make war on you, and offer you peace, God does not allow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harm the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90; 4: 90; 5: 2; 8: 61; 22: 39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ce good and evil cannot be equal, repel thou evil with something that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tter, and love he between whom and thy self was enmity may then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 though he had always been close unto thee, a true friend" (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does not allow harm of civilian, and requests the protection of wome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and the elderly during war (4:96; 9: 91; 48: 16,17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ny one slew a person--unless it be for murder or for spreading misch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the land--it would be as if he slew the whole people; and if anyone sav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 life, it would be as if he saved the life of the whole people.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: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shall feed and protect prisoners of war, and you shall not expect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ward (4: 25,36; 5:24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, the only permissible war in the Quran is one of self-defense, y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not kill unarmed (civilian), and you have to protect prisoners of w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stem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533520" y="76212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2440800" y="22860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ihad and the Conduct of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914400"/>
            <a:ext cx="86104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fare is always evil.  Sometimes you have to fight to avoid persecution.  e.g., the one Mecca inflicted on early Muslims (2: 191; 2: 217), or to preserve decent values (4: 75; 22: 4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may not begin host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Fight in the cause of Allah those who fight you, but do not transgress limits; for Allah loves not transgressors."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2: 1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: Defensive war, fight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ilities must be brought to an end as quickly as possible, and must cease the minute the enemy sues for peace (2:192-3; 41: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yrdom’: Those killed during fighting or while doing civic duties (martyrs) are promised a place in heaven (several passages, e.g., 2:154; 3:169-17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suicide is not allowed; it is forbidden and condemned (e.g., 6:151, 17:33, 25:6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my favorite Hadi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'Do not attack a temple, a church, a synagogue. Do not bring a tree or a plant down. Do not harm a horse or a camel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914400" y="838080"/>
            <a:ext cx="7467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2747520" y="304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268200" y="990720"/>
            <a:ext cx="8875800" cy="34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the Torah, the Quran permits retaliation eye for eye, tooth for tooth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like the Gospels, it say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it is meritorious to forgo revenge in a spirit of charity (5: 4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es Adam, Noah, Abraham, Ishmael, Isaac, Jacob, Joseph, Mos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, Solomon, Zacharia, Jesus, John the paptist, and others as the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good prophets of Go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ecial place for Jesus and Mary (e.g., 3:45,46; 4:156-158; 19:1-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pts that Mary’s conception is from God’s sou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cts the divinity of Jesus (no trinity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sus wa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ed (e.g., 4:155-159; 5:17-19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6858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49680" y="914400"/>
            <a:ext cx="911016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d not impose itself by the s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There must be no coercion in matters of faith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2: 256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lims have to respect Jews and Christians, the "People of the Book,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worship  the same God (e.g., 2:62; 29:46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And dispute ye not with the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ople of the Boo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except with means bett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less it be with those of them who inflict wrong: but say, 'We believ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revelation which has come down to us and in that which came d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 you;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ur Allah and your Allah is on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 and it is to Him we bow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ne of his last public sermons Muhammad sa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d tells all human being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O people! We have formed you into n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d tribes so that you may know one another" (49: 13). Do not conqu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ert, subjugate, revile or slaughter but to reach out toward oth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lligence and understand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vant remained mainly Christian for almost 200 Y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one was forced to convert to Isl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of all faiths to warship was resp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es of warship, holy places and shrines of all faiths were protect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671200" y="22860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 with other Fai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304920" y="76212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152280" y="762120"/>
            <a:ext cx="8731440" cy="54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ity, Charity, Charity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 the Zakat. Help the orphan, the poor, the ill, the lost, the homeless, the eld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times in the Quran (16 times in Chapters 2-5 al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dom, Integrity, Equality, Justice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 hour of justice by a ruler is better than sixty days of hard work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less request for justice in the Quran (e.g., 2: 282; 6; 15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 mankind, We’ve created you from a male and a female and hav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nations and tribes that you may know and interact with each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noblest of you in the sight of God is the best in conduct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49:13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 Arab is privileged over non-Arab but by his or her condu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people are equal like the teeth of a com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 are not considered faithful in the sight of God unless you like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our brothe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ad, others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what you like for yourse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(Hadi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hen you are greeted with a greeting of peace, answer with an even better greeting, or at least the like there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(4: 86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384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3128040" y="228600"/>
            <a:ext cx="20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Ju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313920" y="1066680"/>
            <a:ext cx="85734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ght and Status of 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iminated many pre-Islamic discriminatory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ve women rights (e.g., inheritance) and equality to men, both were m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a single soul (e.g., 4: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the number of wives a man can ma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 women with kindness and respect their rights as equal to 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 hij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head sca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st dress apply to women and men equally (Quran and Hadith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required to cover their bodies so that their figure is not reveal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men are not required to cover their fa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bidden or ‘taboo’ (muharramat) include pork, blood, improperly butche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s, baby animals, gambling, and charging intere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drinking was gradually dis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819880" y="281160"/>
            <a:ext cx="25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" y="914400"/>
            <a:ext cx="8153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1219320" y="1905120"/>
            <a:ext cx="6629400" cy="22096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cience and Civ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369360" y="304920"/>
            <a:ext cx="8641800" cy="65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dicated quest for knowledge and a burst of scientific inno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multi-ethnic and multi-faith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ted for over 8 centuries, and produced a plethora of knowledg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ies in all discip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ed the later European renaiss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c tong, invigorated by the Quran, was the vehicle, and tolera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ve, and  knowledge-advocate Islamic faith was th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ed requests in both the Quran and the Hadith for see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, and application of rational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even in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knowledge from crib to gr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n judgement day, the ink of scientists is valued by God hig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an the blood of marty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two important disciplines of science are theology and Bi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, massive translation of Greek and Indian wri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rved all literary and scientific works and transmitted them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2212920" y="1954080"/>
            <a:ext cx="423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h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2057040" y="52560"/>
            <a:ext cx="45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ine and Pharm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304920" y="685800"/>
            <a:ext cx="851364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ionalized and regulated the practice of Medicine and Pharm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rn concept of cli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exams and license to practice. Regulatory boards (FDA's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of plants and Algae for their medical use, and outlined possible side effects (PDR’s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ospi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s, including specialized, in each of Baghdad, Qurtoba, and Damascu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hospitals for emergenc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s and University Hospit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s records and vital signs, urine tests, family his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rg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s from animals intest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um and Hashish for Anesthe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cohol as disinfecta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of cataract, and removal of kidney and gallbladder st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utops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training (Anatom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338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380880" y="685800"/>
            <a:ext cx="8534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3583800" y="179280"/>
            <a:ext cx="147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982440" y="1117440"/>
            <a:ext cx="697320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nder: Muhammad Ibn (son of) Adball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n: 571 AD in Mecca, Ara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endant of Abrah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names: Almustapha (the chosen), Alamin (the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tles:  The prophet, the messenger (Alras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be:  Quraiy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y Book: The Quran, derived from ‘read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838080" y="838080"/>
            <a:ext cx="67820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234360" y="533520"/>
            <a:ext cx="7919640" cy="60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-bakr Elrazz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9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 of Physicians, great clinician and experimenta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books including “Smallpox and Measl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hayth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disciplinary scientist. Ophthalmolog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of sight. Function of the ey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100 books in Med. and M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Seena (Avisa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0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“Qannun”, the medical text book in Europe till 19th C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bed the medical use of over 2700 pl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has a finite speed, which is much faster than the speed of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Rushd (Avir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13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osopher and Physician. Many 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bn-Elnaf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od circulation and the role of lu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bulkassim Alzahrawi (Abulcasis or Albucasi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1th Cent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greatest surgeons.  A good dentist and GP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al of breast canc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mophilia and its hereditary transmission (female to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809080" y="39600"/>
            <a:ext cx="26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380880" y="533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11400" y="1066680"/>
            <a:ext cx="8273160" cy="22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terms and methods of preparation for Alkali, Alcohol, Tartar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overed and prepared in pure form 28 elements (Ibn Elhaytha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of crystallization, fermentation, distillation, subli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ration of acids (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Cl, HN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nd bases (NaO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 travels in straight lines. Laws of refraction, reflection and illusion of l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uded to the Magnetic properties of som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2594520" y="380880"/>
            <a:ext cx="32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and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4"/>
          <p:cNvSpPr/>
          <p:nvPr/>
        </p:nvSpPr>
        <p:spPr>
          <a:xfrm>
            <a:off x="304920" y="990720"/>
            <a:ext cx="8305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84840" y="949320"/>
            <a:ext cx="7224480" cy="50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ic numeral and the decimal system of numb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glish. But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ithmetic. Roots and p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=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thematica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ebra (combining fraction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 of (x, y, z) to solve complex arithmetic/geometric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onometry (Albairuni and Albuzjani), differential and Integral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3.14159653589873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Mathematici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u-bakr Alkhawaris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(9th Century).  Calculu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iruni (10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uzjan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ar Elkhayam (2° &amp; 3° equat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2743200" y="1295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 flipH="1">
            <a:off x="396252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3125880" y="228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"/>
          <p:cNvSpPr/>
          <p:nvPr/>
        </p:nvSpPr>
        <p:spPr>
          <a:xfrm>
            <a:off x="533520" y="76212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12480" y="878040"/>
            <a:ext cx="846216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trology (myth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tronomy (scie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ment, path, and location of planets and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stur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th is spherical and rotates along its axis and around the su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earth circumference (Albairu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time needed for one rotation around the sun (solar year),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rror of 2’ 22” only (Albatta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d the equinox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names of most constellations, and many stars are from Arab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known astronomis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kindy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battani (9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n-elhaytham (11th Centu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bit Ibn Qar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ajree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278520" y="22860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rono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533520" y="7621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2977200" y="68580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ni and Sh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540000" y="1424160"/>
            <a:ext cx="793044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0% of Musl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 the Quran and the Hadeeth as we have them toda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as interpreted by the Sunni scho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e to be as a sect after 680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ieve in the Quran and Hadeeth, like Sun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y place Ali very high as a holy figure, and think ‘main stream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 discriminated against 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ay Shiah is mainly in Iran (90%), Iraq (55%) and Lebanon (~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762120" y="1295280"/>
            <a:ext cx="8076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2898360" y="45720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Holi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5560" y="1274760"/>
            <a:ext cx="81756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-adhaa (the sacrifi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Abraham attempt to sacrifice his son Ishmael by God’s reque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uld sacrifice an animal and give the food to the poo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lgrimage to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fet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ed at the end of the holy month of Ramadan (the fasting mon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slamic New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r 1, Islamic calendar = 622 A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sraa Walmaar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zes the ascending, in Jerusalem, of Mohammed's soul to hea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irthday of Muhamm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huraa day (Shiha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380880" y="9907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3431160" y="762120"/>
            <a:ext cx="18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67280" y="1676520"/>
            <a:ext cx="8046000" cy="28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3 Billion worldwide, three contin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3 Billio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onesia (200 M) &gt; India (180 M) &gt; Pakistan (160 M) &gt; Bangladesh (120 M)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na (80 M) &gt; Egypt (70 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bout 20 M Christian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ypt &gt; Syria &gt; Lebanon &gt; Palestine &gt; Ira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ut 7 M Muslims in the USA, 3-4 M are Ar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ghly half of the Arab Americans are Christi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609480" y="1447920"/>
            <a:ext cx="7696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234000" y="762120"/>
            <a:ext cx="7640640" cy="58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Farouq Elbaz (Egypt), NASA, the moon 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hmed H. Zewail (Egypt) Winner of the 1999 Nobel Prize in Chemistr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al. 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Saleh Wakeel (Iraq), member of the Nat’l Acad. Sci., Biochemi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ais Elawqati (Iraq), member of the Nat’l Acad. Sci., Micro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ajdi Yacub, first open hear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ichael Debakee (Lebanon), chief cardiologist of the Whi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0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lph Nader (Lebanon), consumer advocate, Green Party founde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d 2000 presidential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(Palestine), White House Ex-Chief of Staf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hn Sununu JR., current state govern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na E. Shalala (Lebanon), Ex secretary of H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elen Thomas, Ex dean of the White House press cor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ward Attiyeh (Syria), Ex governor of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pencer Abraham (Lebanon), Secretary of 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eorge Mitch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3051000" y="15228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533520" y="609480"/>
            <a:ext cx="7848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127320" y="30492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b Ameri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307440" y="1042920"/>
            <a:ext cx="822132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Casey Kasem and Don Bustany (Lebanon) creators of radio's Ameri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p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ustapha Elaqqad (Syria), Hollywood movie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director of the ‘Halloween’ se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Tom Shadyac (Lebanon), Hollywood movie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Salma Hayic (Lebanon), a Hollywood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Yasser Seirawan (Syria), US Chess Champ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Jacques Nasser, president and CEO of Ford Motor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Ray Irani CEO of Occidental Petroleum (Exxon Mobil)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he Hyatt, Hagar, and Farah enterpri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5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istina McAuliffe, an astronaut who died aboard the space shutt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dy Lightner, founder of M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37960" y="785880"/>
            <a:ext cx="8709120" cy="5579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ry of the Arabs”, Philip Hi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he Arab People”, Albert Hour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slam, An Empire of Faith”, PBS Video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slam: A Short History”,  Karen Armstrong,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”, Karen Armstrong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Jihad: A Commitment to Universal Peace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arcel A. Boisard, American 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,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xford History of Islam”, John L Esposito, ed. 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lam: The Straight Path”, John L Esposito, ed.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aning of the Holy Quran”, Abdullah Yusif, Ali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of the Prophets”, Leila Azzam, 19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rom Difference to Equas”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orge Kindy, and Philip Saliba, eds., NYAS, 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 in Medieval Islam, Howard R Turner, 19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 American Encyclopedia, Anan Ameri, and Dawn Ramey, eds., 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190320" y="3960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457200" y="685800"/>
            <a:ext cx="7924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905120" y="3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916920" y="2610000"/>
            <a:ext cx="76194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raiy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ssai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mana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sha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Amneh+) Abdalla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 Abutali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Hamzeh   Alabb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Abulahab   Alhare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5"/>
          <p:cNvSpPr/>
          <p:nvPr/>
        </p:nvSpPr>
        <p:spPr>
          <a:xfrm>
            <a:off x="47242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6"/>
          <p:cNvSpPr/>
          <p:nvPr/>
        </p:nvSpPr>
        <p:spPr>
          <a:xfrm>
            <a:off x="472428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7"/>
          <p:cNvSpPr/>
          <p:nvPr/>
        </p:nvSpPr>
        <p:spPr>
          <a:xfrm>
            <a:off x="4800600" y="3809880"/>
            <a:ext cx="7621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8"/>
          <p:cNvSpPr/>
          <p:nvPr/>
        </p:nvSpPr>
        <p:spPr>
          <a:xfrm flipH="1">
            <a:off x="4038120" y="3809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48006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2971800" y="41911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5638680" y="4343400"/>
            <a:ext cx="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2"/>
          <p:cNvSpPr/>
          <p:nvPr/>
        </p:nvSpPr>
        <p:spPr>
          <a:xfrm flipH="1">
            <a:off x="5105520" y="4876920"/>
            <a:ext cx="30456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3"/>
          <p:cNvSpPr/>
          <p:nvPr/>
        </p:nvSpPr>
        <p:spPr>
          <a:xfrm flipH="1">
            <a:off x="3352320" y="4800600"/>
            <a:ext cx="16765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4"/>
          <p:cNvSpPr/>
          <p:nvPr/>
        </p:nvSpPr>
        <p:spPr>
          <a:xfrm flipH="1">
            <a:off x="4495320" y="4876920"/>
            <a:ext cx="6858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2819520" y="5334120"/>
            <a:ext cx="0" cy="3045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4267080" y="53341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7"/>
          <p:cNvSpPr/>
          <p:nvPr/>
        </p:nvSpPr>
        <p:spPr>
          <a:xfrm>
            <a:off x="2286000" y="5638680"/>
            <a:ext cx="14479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 flipH="1">
            <a:off x="236196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>
            <a:off x="6172200" y="48769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536760" y="632448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61-75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5718240" y="632448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750-12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 flipH="1">
            <a:off x="1599840" y="457200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 flipH="1">
            <a:off x="1219320" y="4876920"/>
            <a:ext cx="3808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4"/>
          <p:cNvSpPr/>
          <p:nvPr/>
        </p:nvSpPr>
        <p:spPr>
          <a:xfrm>
            <a:off x="2287800" y="56386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uhamm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4116960" y="5638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6"/>
          <p:cNvSpPr/>
          <p:nvPr/>
        </p:nvSpPr>
        <p:spPr>
          <a:xfrm>
            <a:off x="4953240" y="4572000"/>
            <a:ext cx="141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dbelmuttali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7"/>
          <p:cNvSpPr/>
          <p:nvPr/>
        </p:nvSpPr>
        <p:spPr>
          <a:xfrm>
            <a:off x="60199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6324480" y="480060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457200" y="60958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ayah Dynas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Abbbassides 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>
            <a:off x="6019920" y="5334120"/>
            <a:ext cx="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019920" y="57150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019920" y="6019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4117320" y="652320"/>
            <a:ext cx="10584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brah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m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4"/>
          <p:cNvSpPr/>
          <p:nvPr/>
        </p:nvSpPr>
        <p:spPr>
          <a:xfrm>
            <a:off x="4572000" y="914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5"/>
          <p:cNvSpPr/>
          <p:nvPr/>
        </p:nvSpPr>
        <p:spPr>
          <a:xfrm>
            <a:off x="457200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6"/>
          <p:cNvSpPr/>
          <p:nvPr/>
        </p:nvSpPr>
        <p:spPr>
          <a:xfrm>
            <a:off x="46483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7"/>
          <p:cNvSpPr/>
          <p:nvPr/>
        </p:nvSpPr>
        <p:spPr>
          <a:xfrm>
            <a:off x="46483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8"/>
          <p:cNvSpPr/>
          <p:nvPr/>
        </p:nvSpPr>
        <p:spPr>
          <a:xfrm>
            <a:off x="464832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2057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295280" y="2286000"/>
            <a:ext cx="6553440" cy="1523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istorical Overvi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905120" y="-227160"/>
            <a:ext cx="5884920" cy="70851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4114800" y="40165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c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098960" y="3641760"/>
            <a:ext cx="90144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n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48320" y="3733920"/>
            <a:ext cx="533160" cy="15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3505320" y="1633680"/>
            <a:ext cx="944280" cy="1338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7"/>
          <p:cNvSpPr/>
          <p:nvPr/>
        </p:nvSpPr>
        <p:spPr>
          <a:xfrm>
            <a:off x="4343400" y="1447920"/>
            <a:ext cx="1295280" cy="14475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30440" y="11872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he Lev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371600" y="1523880"/>
            <a:ext cx="2514600" cy="304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665120" y="1649520"/>
            <a:ext cx="147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Mesopota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5334120" y="1820880"/>
            <a:ext cx="2427120" cy="23652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2"/>
          <p:cNvSpPr/>
          <p:nvPr/>
        </p:nvSpPr>
        <p:spPr>
          <a:xfrm rot="5863800">
            <a:off x="4093920" y="1370160"/>
            <a:ext cx="954000" cy="18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5400" y="1660680"/>
            <a:ext cx="207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00"/>
                </a:solidFill>
                <a:latin typeface="Arial"/>
              </a:rPr>
              <a:t>The fertile Cresc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981080" y="1981080"/>
            <a:ext cx="2757600" cy="18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 rot="20250000">
            <a:off x="3964320" y="2666520"/>
            <a:ext cx="3452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V="1">
            <a:off x="2971800" y="220500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7"/>
          <p:cNvSpPr/>
          <p:nvPr/>
        </p:nvSpPr>
        <p:spPr>
          <a:xfrm flipH="1">
            <a:off x="2895120" y="2128680"/>
            <a:ext cx="1143000" cy="99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2286000" y="320040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4648320" y="4038480"/>
            <a:ext cx="6858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0"/>
          <p:cNvSpPr/>
          <p:nvPr/>
        </p:nvSpPr>
        <p:spPr>
          <a:xfrm rot="20232000">
            <a:off x="5030280" y="2890440"/>
            <a:ext cx="43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1"/>
          <p:cNvSpPr/>
          <p:nvPr/>
        </p:nvSpPr>
        <p:spPr>
          <a:xfrm flipH="1" flipV="1">
            <a:off x="1828800" y="4038480"/>
            <a:ext cx="17524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1905120" y="2209680"/>
            <a:ext cx="0" cy="17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3"/>
          <p:cNvSpPr/>
          <p:nvPr/>
        </p:nvSpPr>
        <p:spPr>
          <a:xfrm flipH="1">
            <a:off x="4419360" y="5329080"/>
            <a:ext cx="1066680" cy="914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4"/>
          <p:cNvSpPr/>
          <p:nvPr/>
        </p:nvSpPr>
        <p:spPr>
          <a:xfrm flipH="1">
            <a:off x="4343400" y="5253120"/>
            <a:ext cx="990720" cy="9144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 rot="20277000">
            <a:off x="4495320" y="4571640"/>
            <a:ext cx="259092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8003520" y="4572000"/>
            <a:ext cx="1137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Dynas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99"/>
                </a:solidFill>
                <a:latin typeface="Arial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7"/>
          <p:cNvSpPr/>
          <p:nvPr/>
        </p:nvSpPr>
        <p:spPr>
          <a:xfrm flipH="1">
            <a:off x="6552720" y="510552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133720" y="20484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dle East, 7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3"/>
          <p:cNvSpPr/>
          <p:nvPr/>
        </p:nvSpPr>
        <p:spPr>
          <a:xfrm>
            <a:off x="533520" y="838080"/>
            <a:ext cx="7619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981000" y="1230480"/>
            <a:ext cx="6956640" cy="55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rabian Penins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urce of Arabs and the Semitic 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desert, few urbaniz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 centers, Mec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ly triba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mention of ‘Arabs’, 854 B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abs of the North and Arabs of the Sou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sties in the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(inclusive), Judaism (exclusive), polythe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ssanid or Persi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yzantine or Eastern Roman Em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anity is the state religion, 3rd cen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oreign occupying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4596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arian conflicts with the lo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286000" y="685800"/>
            <a:ext cx="5135400" cy="6172200"/>
          </a:xfrm>
          <a:prstGeom prst="rect">
            <a:avLst/>
          </a:prstGeom>
          <a:ln w="0">
            <a:noFill/>
          </a:ln>
        </p:spPr>
      </p:pic>
      <p:sp>
        <p:nvSpPr>
          <p:cNvPr id="125" name="Oval 3"/>
          <p:cNvSpPr/>
          <p:nvPr/>
        </p:nvSpPr>
        <p:spPr>
          <a:xfrm>
            <a:off x="1905120" y="1295280"/>
            <a:ext cx="2666880" cy="2743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"/>
          <p:cNvSpPr/>
          <p:nvPr/>
        </p:nvSpPr>
        <p:spPr>
          <a:xfrm>
            <a:off x="4572000" y="1600200"/>
            <a:ext cx="2514600" cy="1752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rot="2422800">
            <a:off x="4723920" y="3123720"/>
            <a:ext cx="609840" cy="304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rot="2953800">
            <a:off x="4380120" y="3239280"/>
            <a:ext cx="712800" cy="330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901080" y="127944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yzant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2745000" y="129528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7530120" y="2117880"/>
            <a:ext cx="9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ers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Emp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 flipH="1">
            <a:off x="6400440" y="2362320"/>
            <a:ext cx="1066680" cy="152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1447920" y="1905120"/>
            <a:ext cx="114300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4419720" y="4038480"/>
            <a:ext cx="76176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7529400" y="37940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 flipH="1" flipV="1">
            <a:off x="5105160" y="3352320"/>
            <a:ext cx="2514600" cy="6858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992160" y="411480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n Arabi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dynas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6"/>
          <p:cNvSpPr/>
          <p:nvPr/>
        </p:nvSpPr>
        <p:spPr>
          <a:xfrm flipV="1">
            <a:off x="2057400" y="3504960"/>
            <a:ext cx="2743200" cy="99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4116240" y="4114800"/>
            <a:ext cx="3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8"/>
          <p:cNvSpPr/>
          <p:nvPr/>
        </p:nvSpPr>
        <p:spPr>
          <a:xfrm>
            <a:off x="3963600" y="3733920"/>
            <a:ext cx="3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7280" y="966960"/>
            <a:ext cx="7880040" cy="45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born in Mecc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revelation in the Harraa cave (27 Ramadan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Hijra”or Escape.  Muhammad and followers escape pros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go to Almadinah (Yathrib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ar 1 in the Islamic calen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sionaries’ sent all over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22320" indent="-22536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peaceful coal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9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conquers Mecc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acefu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NO REVENG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s idols in Alqa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0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handedly, brings peace to war-torn Ara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1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hammad dies in Almadinah.  Unmarked grave (his wi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2840" indent="-3398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21320" y="228600"/>
            <a:ext cx="259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lam, 610-6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838080" y="83808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3T22:53:44Z</dcterms:created>
  <dc:creator>KASSIS00</dc:creator>
  <dc:description>R&amp;D</dc:description>
  <dc:language>en-US</dc:language>
  <cp:lastModifiedBy>RomaK</cp:lastModifiedBy>
  <cp:lastPrinted>2002-01-16T21:03:42Z</cp:lastPrinted>
  <dcterms:modified xsi:type="dcterms:W3CDTF">2015-09-04T09:30:34Z</dcterms:modified>
  <cp:revision>38</cp:revision>
  <dc:subject/>
  <dc:title>No Slide Title</dc:title>
</cp:coreProperties>
</file>