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51AD-3818-4D15-AA28-1F44B1EC34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D7B-07A4-468D-B65E-509B4FE7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F56-6439-4DB0-B31E-C2476490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068-FC70-42E6-B528-5721140F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DAD-D21B-4977-AF0E-267184E3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042D-54CE-4052-8C0E-9AA02846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5F5F-6F5A-450C-84D1-AF9C262D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C96C-DA93-4100-88B5-ED2485FA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4007-EDA5-4F6E-AB65-C8EF3E98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5F3E-F0FB-4089-B36D-866EEDDB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0A86-C88D-45C0-BBDA-6AD082F6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DD67-5FA6-4885-AD30-BE0C328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216-2B16-4FB0-9E53-0DBE626E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9273-89F1-445A-8DAA-B2E51C5E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624B-61E4-4D30-9FC1-A6AAC5C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C44F-6BB1-4224-BDB3-AF41C71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AB96-0D9A-454B-861B-BDEF60E6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E12A-2DDD-4178-9ED3-BDFD415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6D7-84AE-4068-9E0E-D997C6E1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96C-C95F-4A80-B354-09694FED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5A8-1F63-4947-A32B-DE4DF42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764-0C7C-43E1-8A86-D979A3E7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564-270D-4193-83C1-DA8F008C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F5E-9BC5-4560-A9E3-EE4745C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633-A412-4389-A16D-F3844731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4DC4-2067-4983-A782-3786B9DDD76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F29D-68D8-4308-B4C8-D5E30B6B584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RomaK</cp:lastModifiedBy>
  <dcterms:modified xsi:type="dcterms:W3CDTF">2015-09-04T09:31:16Z</dcterms:modified>
  <cp:revision>10</cp:revision>
  <dc:subject>Lincoln and the Emancipation Proclamation</dc:subject>
  <dc:title>Lincoln and the Emancipation Proclamation</dc:title>
</cp:coreProperties>
</file>