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AAC0-9489-4A6C-B397-BC2FBB6E64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AD30-CF7A-4C80-9B76-EBD4DC3F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3D16-7434-48F0-85D0-9537D1F4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99B1-C72C-48BF-8D72-72F0A0BD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CD11-10CF-451C-8D67-1B8318EA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E9E0-906E-4918-A5EB-8E9495F1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567A-4FB2-47AB-956C-D0541F68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A3A6-ABD0-4E76-8877-7D19E473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611C-AF26-4F9B-B3D4-7EE07B73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897D-6F36-4D5B-B821-FA694B67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BFD2-BFA7-4C27-9B70-D9546518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494F-FE58-410F-9F0E-E854235D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D68C-E2D2-483C-BF14-10818374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0586-2959-43DD-864D-8CACB67D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FC41-4AF4-47A0-9710-DC401781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9F2B-A848-4171-91F8-9DC7D35F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FB7A-6556-4B89-8679-64D76869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FC0C-A012-42A2-A876-A24616CF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4018-ED82-469B-BF56-8D537A6F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F785-6ED9-4C8C-A5E6-1140267E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B344-439F-4C3F-9009-EA89A727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1DCC-4C9B-4950-940F-30F4FBF9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E02C-9607-40FE-B572-E9CFDEE0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EA1A-A804-4B90-AE80-02AEDD84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F296-3DF7-40CE-AF92-9474A84B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681C-4F1E-436D-B9E2-C4C3F3D9FB7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8924-2970-4974-9416-343B80A2EEE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278080"/>
            <a:ext cx="822960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liminary proclamation issued  2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ept 186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Emancipation Proclamation, page 1"/>
          <p:cNvPicPr/>
          <p:nvPr/>
        </p:nvPicPr>
        <p:blipFill>
          <a:blip r:embed="rId4"/>
          <a:stretch/>
        </p:blipFill>
        <p:spPr>
          <a:xfrm>
            <a:off x="684360" y="1557360"/>
            <a:ext cx="3527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mendment to th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8" descr="Abraham%20Lincoln%20(06-1831a)"/>
          <p:cNvPicPr/>
          <p:nvPr/>
        </p:nvPicPr>
        <p:blipFill>
          <a:blip r:embed="rId5"/>
          <a:stretch/>
        </p:blipFill>
        <p:spPr>
          <a:xfrm>
            <a:off x="4859280" y="2133720"/>
            <a:ext cx="30607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0:09:19Z</dcterms:created>
  <dc:creator>cjames</dc:creator>
  <dc:description>Lincoln and the Emancipation Proclamation</dc:description>
  <cp:keywords>Lincoln and the Emancipation Proclamation</cp:keywords>
  <dc:language>en-US</dc:language>
  <cp:lastModifiedBy>RomaK</cp:lastModifiedBy>
  <dcterms:modified xsi:type="dcterms:W3CDTF">2015-09-04T09:31:16Z</dcterms:modified>
  <cp:revision>10</cp:revision>
  <dc:subject>Lincoln and the Emancipation Proclamation</dc:subject>
  <dc:title>Lincoln and the Emancipation Proclamation</dc:title>
</cp:coreProperties>
</file>